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F6FF-C42A-49A3-B01D-42626E8CF5D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EBD5-09EB-4B63-918B-532963EFE27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D396-AD4A-4EC4-BDD7-234B4659372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D422-67FB-4DB3-8625-9CBEF8438BA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A8E5-E3CE-4F61-B0EE-1D2028E9C70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DE61-91D9-41EE-BCE6-39DC8CF45F7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AEEF-8A79-4C77-9914-282F943127D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AE35-29E9-4C9F-908F-D2B24ABFDFF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8310-ED51-4196-92DC-29501DBF7F5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61DE-389F-42F0-932C-80E2B8032F6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CEF4-3321-40CE-B569-1911C5259F4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F229-33F4-4D5A-A99B-AC5CF7A7FBE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3F8-0463-4E22-A61A-FD098FC01EE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BFD7-E3F2-447A-A5B5-BFE31036CE6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7328-2D45-438E-A49D-56A71E0C5C8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6CB3-1F02-43F4-83B2-C3B71115E5D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E2E-343E-4232-972C-6AD32E74C25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1764-C71C-4040-9408-09537B72715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B5F3-CA62-4B12-97C4-A4B44DD90B3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DA87-86CE-4485-98F9-4A2734C3F5D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6DF-6904-48B4-AA64-E6F6F1A14B8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FEAE-BDEF-431C-A9DF-CE4653960DB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9DD3-824D-416D-8922-C4CBAB819E2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AA8B-62CE-4553-A631-D84F6FDA88D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EE1E-C1BB-46D4-A714-B098F2D2BE8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A71C-16CA-4121-A6D3-FFBE9A1D48E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32CE-6288-472E-A8ED-B8B005F348A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9CC3-6D96-478D-A9BA-90A1FE5BA0C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DF50-6B73-4643-BA56-E780BDB158D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CC8-089D-4B1E-8E03-424FC474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E90-83D9-4CE5-8B16-FFB8D67E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674-40D7-439F-A6D6-26ECE1FF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E94-1B15-4EE5-8701-55F7FE75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01E0-D628-4B70-BFDB-ED0D2E45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439C-489B-4C65-B87D-26665010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D52E-F15D-4913-8C44-B4A579ED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B8D2-228D-4CA8-9ACD-9C77B1F5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A4E6-27F9-4F69-B81F-8A3EEC66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4D00-A54C-4E84-BBA1-48B42C84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6076-24EB-4DA6-80D1-63C26506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6A0-6D08-4BB7-82CC-A8942D39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68B2-E487-4517-9721-42D24693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4D48-44FA-4DDD-B2A3-BFCA0BE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02B5-B943-4C77-85C1-4C35B137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7D4B-29EE-4412-91D4-EF8C7556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DC4E-6671-4992-A016-17F04BFD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F75C0-579F-4388-90A8-C11401EB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144DF-2C06-4FAD-8D9C-EC5CDD27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5A891-AAD4-4E56-A003-A744635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E6C19-D8EF-4E4A-A483-E7646DD5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3D0DA-94F2-4696-A4CD-1F9BDEF9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8D3-B4C7-4052-80BB-342E8E0F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D1BCA-4A3B-4895-B05F-F719CEB4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4A77B-C7BF-4904-821D-062CD8A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57272-C27B-4625-A4A8-9F937BE6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679FE-FA8A-4A7F-9F1A-E7923F28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5ADB9-4331-4789-B351-DDDE8B8C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70825-113F-4B01-B407-F3BE049B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C0F77-9979-4D99-9FA4-73F744BE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A9272-B25D-4A22-B94C-9F668115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35D7C-064C-4362-B3B4-3401BF00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89632-56C8-483C-9B24-351756A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DF7-D1C3-4648-9193-4609FE15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D89FA-7A23-46AD-B2B1-3FCCED01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83F64-283C-4667-B38D-64EE58DD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C752A-091C-438D-A0C9-ECEA9FA4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3864D-D643-406F-99BE-4B0FCC0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76A03-A0AB-43A1-83C7-64432E3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F8E07-97E1-4F4A-80FC-2D38942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F860D-F084-45A2-972F-2665334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63951-CACE-4D03-BE43-61BAAB39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E0061-CF9F-46BA-9B66-AC8067F7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E6F10-E201-46E1-9F7C-A9E500F3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C41-ACD9-4291-803F-183C1AAD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D856A-28A4-43B3-AF86-7B7B08B8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0A35D-3ED0-43FA-9024-854A402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E1730-C03C-459C-99FD-E99778E1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FF421-5E55-43EC-ACD0-40CFDB23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8CDC2-BB63-4A19-8F45-76DA7E39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D1B6D-D7BB-4B92-B6E1-C785ADB3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5D57F-D4A6-43C7-A9D1-EA1425C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581E5-A1CA-4906-A424-DFB417FD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2CD9F-F8BF-40E7-B7B2-22C4149A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16143-D372-429E-AA54-7C55425D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7E2-E0FB-42C4-8AA1-421923EF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2D5AC-E143-4AD8-A2F8-8AF34879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1DBF-FBA5-4A66-A2E3-F62EAC02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FAA1-4202-4C98-BBE9-5C615021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E0CB-915C-4184-A3A6-FDB349BF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73F6-D2B5-462F-9623-582585FE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98AB1-98D8-4C6F-AD69-025AA2A1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E692F-D78E-434F-97EF-47F6586A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11D77-7E30-4791-BEB0-CD390C8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525B8-F371-4286-ABE4-01012D9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4A2E-891B-4AC0-A58E-DAFBAA8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7D7-9F8A-43F2-A031-ABF49E8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D0799-3BBC-4719-9916-B7FE7E45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69E6-547D-4DC7-8B00-3064E8F3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0272-F072-4BE2-ACE3-277F293D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2BF2B-73FB-4D44-93CE-FF1B272C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2954A-70B6-43E0-911C-84BAACE7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9B645-5DE2-49CE-A222-EBD1C3C9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12FBC-128E-4852-8671-D684BB24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BF7C2-10DC-4168-B5A2-9A646A60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021AF-32A1-4EEF-81B6-41C566F0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7229C-5DC0-4A6D-B3FA-73551BA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FE8-20CD-45E1-82E1-A2282D9C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CEF51-C9B8-4AF0-B6E0-27C5DBE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34E56-B4AF-4DD9-9B21-B3C252C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F7551-1C50-4B37-93B0-CC51C41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0F970-B4E9-4CEB-9C11-4E733FA4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7CB33-630A-467B-B596-3A25B69F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57DC-5E7B-47B1-8814-B66C2114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D2C6E-2813-41E1-8A17-7822B704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C441A-57A8-424A-AC33-2A025C80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0C0E7-73DB-4A1F-A226-A2008D5A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A01B4-C4B6-4210-AF49-60A7EA79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C83-E645-499B-A0BB-73B7312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BD461-4E10-4CED-AE2F-594C356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71976-5636-47FD-A5FE-A691A72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E0AE8-CFF6-4DFF-A349-778A2B0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5A629-8E0B-4A99-9CB8-7CFB8A8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496B-2380-4C67-9290-8B350604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3803-9B96-4C73-BDD4-9E5E2AE3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F1B5-6383-4D51-B79D-42733820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6 Dikdörtgen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7 Dikdörtgen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8 Dikdörtgen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23CD-618E-474A-B69E-2EDCF0B55982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Dikdörtgen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10 Dikdörtgen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11 Dikdörtgen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5C40-6C20-4CB7-8813-0D3774740F61}" type="slidenum">
              <a:rPr b="1" lang="tr-TR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Dikdörtgen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10 Dikdörtgen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11 Dikdörtgen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DDA-1527-4AB4-A37B-16AF7D1DB151}" type="slidenum">
              <a:rPr b="1" lang="tr-T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Dikdörtgen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7 Dikdörtgen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8 Dikdörtgen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3215-1777-4801-A914-5FEDD9B3BEB5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Dikdörtgen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7 Dikdörtgen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8 Dikdörtgen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B4E3-FBEB-49D2-8525-B6FBF2A8EE59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918-9A50-488C-8733-8CA2BFBCE890}" type="slidenum">
              <a:rPr b="1" lang="tr-T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Dikdörtgen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10 Dikdörtgen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11 Dikdörtgen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14 Dikdörtgen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E530-94EB-4D2F-B209-337DD741CB4F}" type="slidenum"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Dikdörtgen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10 Dikdörtgen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11 Dikdörtgen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1B2-B517-4D1D-ACBF-037AE89BCA7E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8480" y="221472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bddc3"/>
                </a:solidFill>
                <a:latin typeface="Tw Cen MT"/>
              </a:rPr>
              <a:t>OSI MODELİ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w Cen MT"/>
              </a:rPr>
              <a:t>Yard. Doç. Dr. Şirin Karadeniz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Verdana"/>
              </a:rPr>
              <a:t>5. Oturum (Session) Katmanı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Verinin güvenliğini sağl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Bu katmanda çalışan protokollere örnek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NFS (Network File System),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SQL (Structured Query Language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P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ppleTalk Session Protocol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Teln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775f55"/>
                </a:solidFill>
                <a:latin typeface="Verdana"/>
              </a:rPr>
              <a:t>5. Oturum (Session) Katmanı</a:t>
            </a:r>
            <a:br>
              <a:rPr sz="3600"/>
            </a:br>
            <a:r>
              <a:rPr b="0" lang="tr-TR" sz="3600" spc="-1" strike="noStrike">
                <a:solidFill>
                  <a:srgbClr val="775f55"/>
                </a:solidFill>
                <a:latin typeface="Verdana"/>
              </a:rPr>
              <a:t>İletişim Türleri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Tek yönlü (Simple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Yarı çift yönlü (Half-Duple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Çift yönlü (Full-Duple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2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43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775f5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Group 21"/>
          <p:cNvGrpSpPr/>
          <p:nvPr/>
        </p:nvGrpSpPr>
        <p:grpSpPr>
          <a:xfrm>
            <a:off x="4859280" y="2924280"/>
            <a:ext cx="4030560" cy="1160280"/>
            <a:chOff x="4859280" y="2924280"/>
            <a:chExt cx="4030560" cy="1160280"/>
          </a:xfrm>
        </p:grpSpPr>
        <p:pic>
          <p:nvPicPr>
            <p:cNvPr id="447" name="Picture 10" descr="MCj02805640000[1]"/>
            <p:cNvPicPr/>
            <p:nvPr/>
          </p:nvPicPr>
          <p:blipFill>
            <a:blip r:embed="rId3"/>
            <a:stretch/>
          </p:blipFill>
          <p:spPr>
            <a:xfrm>
              <a:off x="7954920" y="3141720"/>
              <a:ext cx="93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1" descr="MCj02805640000[1]"/>
            <p:cNvPicPr/>
            <p:nvPr/>
          </p:nvPicPr>
          <p:blipFill>
            <a:blip r:embed="rId4"/>
            <a:stretch/>
          </p:blipFill>
          <p:spPr>
            <a:xfrm>
              <a:off x="4859280" y="3141720"/>
              <a:ext cx="9349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AutoShape 16"/>
            <p:cNvSpPr/>
            <p:nvPr/>
          </p:nvSpPr>
          <p:spPr>
            <a:xfrm>
              <a:off x="6227640" y="314172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775f5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AutoShape 17"/>
            <p:cNvSpPr/>
            <p:nvPr/>
          </p:nvSpPr>
          <p:spPr>
            <a:xfrm flipH="1">
              <a:off x="6227640" y="3500280"/>
              <a:ext cx="1657440" cy="287640"/>
            </a:xfrm>
            <a:prstGeom prst="rightArrow">
              <a:avLst>
                <a:gd name="adj1" fmla="val 50000"/>
                <a:gd name="adj2" fmla="val 144055"/>
              </a:avLst>
            </a:prstGeom>
            <a:solidFill>
              <a:srgbClr val="775f5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6372360" y="292428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ön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7020000" y="37162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sonr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3" name="Group 22"/>
          <p:cNvGrpSpPr/>
          <p:nvPr/>
        </p:nvGrpSpPr>
        <p:grpSpPr>
          <a:xfrm>
            <a:off x="4859280" y="5013360"/>
            <a:ext cx="4030560" cy="1145880"/>
            <a:chOff x="4859280" y="5013360"/>
            <a:chExt cx="4030560" cy="1145880"/>
          </a:xfrm>
        </p:grpSpPr>
        <p:sp>
          <p:nvSpPr>
            <p:cNvPr id="454" name="AutoShape 12"/>
            <p:cNvSpPr/>
            <p:nvPr/>
          </p:nvSpPr>
          <p:spPr>
            <a:xfrm>
              <a:off x="6084720" y="5300640"/>
              <a:ext cx="1657440" cy="287280"/>
            </a:xfrm>
            <a:prstGeom prst="leftRightArrow">
              <a:avLst>
                <a:gd name="adj1" fmla="val 50000"/>
                <a:gd name="adj2" fmla="val 114854"/>
              </a:avLst>
            </a:prstGeom>
            <a:solidFill>
              <a:srgbClr val="775f5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55" name="Picture 14" descr="MCj02805640000[1]"/>
            <p:cNvPicPr/>
            <p:nvPr/>
          </p:nvPicPr>
          <p:blipFill>
            <a:blip r:embed="rId5"/>
            <a:stretch/>
          </p:blipFill>
          <p:spPr>
            <a:xfrm>
              <a:off x="7954920" y="5013360"/>
              <a:ext cx="934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15" descr="MCj02805640000[1]"/>
            <p:cNvPicPr/>
            <p:nvPr/>
          </p:nvPicPr>
          <p:blipFill>
            <a:blip r:embed="rId6"/>
            <a:stretch/>
          </p:blipFill>
          <p:spPr>
            <a:xfrm>
              <a:off x="4859280" y="5013360"/>
              <a:ext cx="9349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20"/>
            <p:cNvSpPr/>
            <p:nvPr/>
          </p:nvSpPr>
          <p:spPr>
            <a:xfrm>
              <a:off x="6372360" y="551664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aynı and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Verdana"/>
              </a:rPr>
              <a:t>4. Taşıma (Transport ) Katmanı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Bu katman 5-7 ve 1-3 arası katmanlar arası bağlantıyı sağla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Üst katmandan aldığı verileri bölümlere (segment) ayırarak bir alt katmana iletir,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Bir üst katmana bu bölümleri birleştirerek sunar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İki düğüm arasında mantıksal bir bağlantının kurulmasını sağla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Verdana"/>
              </a:rPr>
              <a:t>4. Taşıma (Transport ) Katmanı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Aynı zamanda akış kontrolü (flow control) kullanarak karşı tarafa gönderilen verinin yerine ulaşıp ulaşmadığını kontrol eder. </a:t>
            </a:r>
            <a:br>
              <a:rPr sz="2900"/>
            </a:b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Karşı tarafa gönderilen bölümlerin gönderilen sırayla birleştirilmesini sağlar.</a:t>
            </a:r>
            <a:br>
              <a:rPr sz="2900"/>
            </a:b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Örnek;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CP, UDP</a:t>
            </a: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r Datagram Protocol</a:t>
            </a: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SP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Verdana"/>
              </a:rPr>
              <a:t>3. Ağ (Network) Katmanı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Bu katmanda iletilen veri blokları paket olarak adlandırılır. </a:t>
            </a:r>
            <a:br>
              <a:rPr sz="2900"/>
            </a:b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Bu katman, veri paketlerinin ağ adreslerini kullanarak bu paketleri uygun ağlara yönlendirme işini yapa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Verdana"/>
              </a:rPr>
              <a:t>3. Ağ (Network) Katmanı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Adresleme işlemlerini (Mantıksal adres ve fiziksel adres çevrimleri) yürütür.</a:t>
            </a:r>
            <a:br>
              <a:rPr sz="2900"/>
            </a:b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Yönlendiriciler (Router) bu katmanda tanımlıdırlar. </a:t>
            </a:r>
            <a:br>
              <a:rPr sz="2900"/>
            </a:b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Örnek; IP ve IPX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Verdana"/>
              </a:rPr>
              <a:t>2. Veri İletim/Bağı (Data Link) Katmanı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Ağ katmanından aldığı veri paketlerine hata kontrol bitlerini ekleyerek çerçeve (frame) halinde fiziksel katmana iletme işinden sorumludu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Verdana"/>
              </a:rPr>
              <a:t>2. Veri İletim (Data Link) Katmanı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Ayrıca ağ üzerindeki diğer bilgisayarları tanımlama, kablonun o anda kimin tarafından kullanıldığının tespitini yapar.</a:t>
            </a:r>
            <a:br>
              <a:rPr sz="2900"/>
            </a:b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Örn: Ethernet, Frame Relay, ISDN, Switch ve Bri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18"/>
          <p:cNvGrpSpPr/>
          <p:nvPr/>
        </p:nvGrpSpPr>
        <p:grpSpPr>
          <a:xfrm>
            <a:off x="684360" y="1484280"/>
            <a:ext cx="7704000" cy="3095640"/>
            <a:chOff x="684360" y="1484280"/>
            <a:chExt cx="7704000" cy="3095640"/>
          </a:xfrm>
        </p:grpSpPr>
        <p:sp>
          <p:nvSpPr>
            <p:cNvPr id="471" name="Rectangle 5"/>
            <p:cNvSpPr/>
            <p:nvPr/>
          </p:nvSpPr>
          <p:spPr>
            <a:xfrm>
              <a:off x="2413080" y="1484280"/>
              <a:ext cx="4248000" cy="935280"/>
            </a:xfrm>
            <a:prstGeom prst="rect">
              <a:avLst/>
            </a:prstGeom>
            <a:solidFill>
              <a:srgbClr val="775f55"/>
            </a:solidFill>
            <a:ln w="38160">
              <a:solidFill>
                <a:srgbClr val="ebdd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ebddc3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6"/>
            <p:cNvSpPr/>
            <p:nvPr/>
          </p:nvSpPr>
          <p:spPr>
            <a:xfrm>
              <a:off x="684360" y="3355920"/>
              <a:ext cx="3240000" cy="1224000"/>
            </a:xfrm>
            <a:prstGeom prst="rect">
              <a:avLst/>
            </a:prstGeom>
            <a:solidFill>
              <a:srgbClr val="775f5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ebddc3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ebddc3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Rectangle 15"/>
            <p:cNvSpPr/>
            <p:nvPr/>
          </p:nvSpPr>
          <p:spPr>
            <a:xfrm>
              <a:off x="5148360" y="3355920"/>
              <a:ext cx="3240000" cy="1224000"/>
            </a:xfrm>
            <a:prstGeom prst="rect">
              <a:avLst/>
            </a:prstGeom>
            <a:solidFill>
              <a:srgbClr val="775f5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ebddc3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ebddc3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Line 16"/>
            <p:cNvSpPr/>
            <p:nvPr/>
          </p:nvSpPr>
          <p:spPr>
            <a:xfrm flipH="1">
              <a:off x="2412720" y="2419560"/>
              <a:ext cx="136692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Line 17"/>
            <p:cNvSpPr/>
            <p:nvPr/>
          </p:nvSpPr>
          <p:spPr>
            <a:xfrm>
              <a:off x="5580000" y="2419560"/>
              <a:ext cx="865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775f55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Media Access Control (MAC) </a:t>
            </a:r>
            <a:br>
              <a:rPr sz="2900"/>
            </a:b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MAC alt katmanı veriyi hata kontrol kodu (CRC), alıcı ve gönderenin MAC adresleri ile beraber paketler ve fiziksel katmana aktarır. 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Verdana"/>
              </a:rPr>
              <a:t>OSI Model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Farklı bilgisayarların ve standartların gelişmesi ile sorunların ortaya çıkması nedeniy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O</a:t>
            </a: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(International Organization for Standardization),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OSI</a:t>
            </a: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 Systems Interconnection</a:t>
            </a: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odel</a:t>
            </a: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ini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1984</a:t>
            </a: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’te geliştirdi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Katmandan oluşmakta ve karmaşıklığı azaltmak ve standartlar geliştirmek amacıyla geliştirilmişti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01680" y="1642680"/>
            <a:ext cx="8540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Logical Link Control (LLC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LLC alt katmanı bir üst katman olan ağ katmanı için geçiş görevi görür. 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Protokole özel mantıksal portlar oluşturur (</a:t>
            </a:r>
            <a:r>
              <a:rPr b="0" i="1" lang="tr-TR" sz="2600" spc="-1" strike="noStrike">
                <a:solidFill>
                  <a:srgbClr val="000000"/>
                </a:solidFill>
                <a:latin typeface="Verdana"/>
              </a:rPr>
              <a:t>Service Access Points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, SAP). 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Böylece kaynak makinada ve hedef makinada aynı protokoller iletişime geçebilir (örneğin TCP/IP)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01680" y="1642680"/>
            <a:ext cx="8540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Logical Link Control (LLC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LLC ayrıca veri paketlerinden bozuk gidenlerin (veya karşı taraf için alınanların) tekrar gönderilmesinden sorumludur. 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Verdana"/>
              </a:rPr>
              <a:t>Flow Control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yani alıcının işleyebileğinden fazla veri paketi gönderilerek boğulmasının engellenmesi de LLC'nin görevidir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Verdana"/>
              </a:rPr>
              <a:t>1. Fiziksel (Physical) Katmanı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Hub’lar fiziksel katmanda tanımlıdı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250920" y="714240"/>
          <a:ext cx="8713800" cy="568332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928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826920" y="836640"/>
          <a:ext cx="7777440" cy="502128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826920" y="17319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OSI’de Verilerin Adı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775f55"/>
                </a:solidFill>
                <a:latin typeface="Tw Cen MT"/>
              </a:rPr>
              <a:t>Sarma (</a:t>
            </a:r>
            <a:r>
              <a:rPr b="0" i="1" lang="en-US" sz="3600" spc="-1" strike="noStrike">
                <a:solidFill>
                  <a:srgbClr val="775f55"/>
                </a:solidFill>
                <a:latin typeface="Times New Roman"/>
              </a:rPr>
              <a:t>encapsulation</a:t>
            </a:r>
            <a:r>
              <a:rPr b="0" i="1" lang="tr-TR" sz="3600" spc="-1" strike="noStrike">
                <a:solidFill>
                  <a:srgbClr val="775f55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7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59372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775f55"/>
                </a:solidFill>
                <a:latin typeface="Verdana"/>
              </a:rPr>
              <a:t>OSI Katmanları Arasında Veri Aktarımı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9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6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497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12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f7b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480" y="221472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ebddc3"/>
                </a:solidFill>
                <a:latin typeface="Tw Cen MT"/>
              </a:rPr>
              <a:t>OSI MODELİ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w Cen MT"/>
              </a:rPr>
              <a:t>Yard. Doç. Dr. Şirin Karadeniz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Freeform 23"/>
          <p:cNvSpPr/>
          <p:nvPr/>
        </p:nvSpPr>
        <p:spPr>
          <a:xfrm>
            <a:off x="4643280" y="1700280"/>
            <a:ext cx="1297080" cy="86508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915" h="703">
                <a:moveTo>
                  <a:pt x="0" y="0"/>
                </a:moveTo>
                <a:lnTo>
                  <a:pt x="915" y="70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Freeform 24"/>
          <p:cNvSpPr/>
          <p:nvPr/>
        </p:nvSpPr>
        <p:spPr>
          <a:xfrm>
            <a:off x="4645080" y="2565360"/>
            <a:ext cx="1295280" cy="5684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68440"/>
              <a:gd name="textAreaBottom" fmla="*/ 568800 h 568440"/>
            </a:gdLst>
            <a:ahLst/>
            <a:rect l="textAreaLeft" t="textAreaTop" r="textAreaRight" b="textAreaBottom"/>
            <a:pathLst>
              <a:path w="907" h="192">
                <a:moveTo>
                  <a:pt x="0" y="192"/>
                </a:moveTo>
                <a:lnTo>
                  <a:pt x="90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775f55"/>
                </a:solidFill>
                <a:latin typeface="Tw Cen MT"/>
              </a:rPr>
              <a:t>OSI Modelinin Katmanları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56"/>
          <p:cNvGrpSpPr/>
          <p:nvPr/>
        </p:nvGrpSpPr>
        <p:grpSpPr>
          <a:xfrm>
            <a:off x="283680" y="71280"/>
            <a:ext cx="8641080" cy="6480000"/>
            <a:chOff x="283680" y="71280"/>
            <a:chExt cx="8641080" cy="6480000"/>
          </a:xfrm>
        </p:grpSpPr>
        <p:grpSp>
          <p:nvGrpSpPr>
            <p:cNvPr id="384" name="Group 26"/>
            <p:cNvGrpSpPr/>
            <p:nvPr/>
          </p:nvGrpSpPr>
          <p:grpSpPr>
            <a:xfrm>
              <a:off x="283680" y="2349720"/>
              <a:ext cx="3313440" cy="3484440"/>
              <a:chOff x="283680" y="2349720"/>
              <a:chExt cx="3313440" cy="3484440"/>
            </a:xfrm>
          </p:grpSpPr>
          <p:sp>
            <p:nvSpPr>
              <p:cNvPr id="385" name="Text Box 6"/>
              <p:cNvSpPr/>
              <p:nvPr/>
            </p:nvSpPr>
            <p:spPr>
              <a:xfrm>
                <a:off x="616680" y="23497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Text Box 7"/>
              <p:cNvSpPr/>
              <p:nvPr/>
            </p:nvSpPr>
            <p:spPr>
              <a:xfrm>
                <a:off x="616680" y="28087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616680" y="33134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Text Box 9"/>
              <p:cNvSpPr/>
              <p:nvPr/>
            </p:nvSpPr>
            <p:spPr>
              <a:xfrm>
                <a:off x="616680" y="38167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Text Box 10"/>
              <p:cNvSpPr/>
              <p:nvPr/>
            </p:nvSpPr>
            <p:spPr>
              <a:xfrm>
                <a:off x="616680" y="43218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Text Box 11"/>
              <p:cNvSpPr/>
              <p:nvPr/>
            </p:nvSpPr>
            <p:spPr>
              <a:xfrm>
                <a:off x="616680" y="482508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Text Box 12"/>
              <p:cNvSpPr/>
              <p:nvPr/>
            </p:nvSpPr>
            <p:spPr>
              <a:xfrm>
                <a:off x="616680" y="533016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Text Box 13"/>
              <p:cNvSpPr/>
              <p:nvPr/>
            </p:nvSpPr>
            <p:spPr>
              <a:xfrm>
                <a:off x="283680" y="5374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3" name="Text Box 14"/>
              <p:cNvSpPr/>
              <p:nvPr/>
            </p:nvSpPr>
            <p:spPr>
              <a:xfrm>
                <a:off x="283680" y="4869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Text Box 15"/>
              <p:cNvSpPr/>
              <p:nvPr/>
            </p:nvSpPr>
            <p:spPr>
              <a:xfrm>
                <a:off x="283680" y="4366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Text Box 16"/>
              <p:cNvSpPr/>
              <p:nvPr/>
            </p:nvSpPr>
            <p:spPr>
              <a:xfrm>
                <a:off x="283680" y="3861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Text Box 17"/>
              <p:cNvSpPr/>
              <p:nvPr/>
            </p:nvSpPr>
            <p:spPr>
              <a:xfrm>
                <a:off x="291600" y="3358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Text Box 18"/>
              <p:cNvSpPr/>
              <p:nvPr/>
            </p:nvSpPr>
            <p:spPr>
              <a:xfrm>
                <a:off x="283680" y="2853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Text Box 19"/>
              <p:cNvSpPr/>
              <p:nvPr/>
            </p:nvSpPr>
            <p:spPr>
              <a:xfrm>
                <a:off x="283680" y="2349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399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06560" y="138240"/>
              <a:ext cx="18158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34200" y="71280"/>
              <a:ext cx="1822320" cy="17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30"/>
            <p:cNvSpPr/>
            <p:nvPr/>
          </p:nvSpPr>
          <p:spPr>
            <a:xfrm>
              <a:off x="1438200" y="17974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Text Box 31"/>
            <p:cNvSpPr/>
            <p:nvPr/>
          </p:nvSpPr>
          <p:spPr>
            <a:xfrm>
              <a:off x="6549840" y="17974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3" name="Group 32"/>
            <p:cNvGrpSpPr/>
            <p:nvPr/>
          </p:nvGrpSpPr>
          <p:grpSpPr>
            <a:xfrm>
              <a:off x="5611320" y="2349720"/>
              <a:ext cx="3313440" cy="3484440"/>
              <a:chOff x="5611320" y="2349720"/>
              <a:chExt cx="3313440" cy="3484440"/>
            </a:xfrm>
          </p:grpSpPr>
          <p:sp>
            <p:nvSpPr>
              <p:cNvPr id="404" name="Text Box 33"/>
              <p:cNvSpPr/>
              <p:nvPr/>
            </p:nvSpPr>
            <p:spPr>
              <a:xfrm>
                <a:off x="5944320" y="23497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Text Box 34"/>
              <p:cNvSpPr/>
              <p:nvPr/>
            </p:nvSpPr>
            <p:spPr>
              <a:xfrm>
                <a:off x="5944320" y="28087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Text Box 35"/>
              <p:cNvSpPr/>
              <p:nvPr/>
            </p:nvSpPr>
            <p:spPr>
              <a:xfrm>
                <a:off x="5944320" y="33134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Text Box 36"/>
              <p:cNvSpPr/>
              <p:nvPr/>
            </p:nvSpPr>
            <p:spPr>
              <a:xfrm>
                <a:off x="5944320" y="38167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Text Box 37"/>
              <p:cNvSpPr/>
              <p:nvPr/>
            </p:nvSpPr>
            <p:spPr>
              <a:xfrm>
                <a:off x="5944320" y="43218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Text Box 38"/>
              <p:cNvSpPr/>
              <p:nvPr/>
            </p:nvSpPr>
            <p:spPr>
              <a:xfrm>
                <a:off x="5944320" y="482508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Text Box 39"/>
              <p:cNvSpPr/>
              <p:nvPr/>
            </p:nvSpPr>
            <p:spPr>
              <a:xfrm>
                <a:off x="5944320" y="533016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Text Box 40"/>
              <p:cNvSpPr/>
              <p:nvPr/>
            </p:nvSpPr>
            <p:spPr>
              <a:xfrm>
                <a:off x="5611320" y="5374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Text Box 41"/>
              <p:cNvSpPr/>
              <p:nvPr/>
            </p:nvSpPr>
            <p:spPr>
              <a:xfrm>
                <a:off x="5611320" y="4869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Text Box 42"/>
              <p:cNvSpPr/>
              <p:nvPr/>
            </p:nvSpPr>
            <p:spPr>
              <a:xfrm>
                <a:off x="5611320" y="4366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Text Box 43"/>
              <p:cNvSpPr/>
              <p:nvPr/>
            </p:nvSpPr>
            <p:spPr>
              <a:xfrm>
                <a:off x="5611320" y="3861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Text Box 44"/>
              <p:cNvSpPr/>
              <p:nvPr/>
            </p:nvSpPr>
            <p:spPr>
              <a:xfrm>
                <a:off x="5619240" y="3358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Text Box 45"/>
              <p:cNvSpPr/>
              <p:nvPr/>
            </p:nvSpPr>
            <p:spPr>
              <a:xfrm>
                <a:off x="5611320" y="2853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46"/>
              <p:cNvSpPr/>
              <p:nvPr/>
            </p:nvSpPr>
            <p:spPr>
              <a:xfrm>
                <a:off x="5611320" y="2349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" name="AutoShape 48"/>
            <p:cNvSpPr/>
            <p:nvPr/>
          </p:nvSpPr>
          <p:spPr>
            <a:xfrm>
              <a:off x="3813120" y="2446560"/>
              <a:ext cx="216000" cy="3167640"/>
            </a:xfrm>
            <a:prstGeom prst="downArrow">
              <a:avLst>
                <a:gd name="adj1" fmla="val 50000"/>
                <a:gd name="adj2" fmla="val 366625"/>
              </a:avLst>
            </a:prstGeom>
            <a:solidFill>
              <a:srgbClr val="f7b6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9"/>
            <p:cNvSpPr/>
            <p:nvPr/>
          </p:nvSpPr>
          <p:spPr>
            <a:xfrm flipH="1" flipV="1">
              <a:off x="5325840" y="2445840"/>
              <a:ext cx="216000" cy="3167640"/>
            </a:xfrm>
            <a:prstGeom prst="downArrow">
              <a:avLst>
                <a:gd name="adj1" fmla="val 50000"/>
                <a:gd name="adj2" fmla="val 366625"/>
              </a:avLst>
            </a:prstGeom>
            <a:solidFill>
              <a:srgbClr val="f7b6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51"/>
            <p:cNvSpPr/>
            <p:nvPr/>
          </p:nvSpPr>
          <p:spPr>
            <a:xfrm>
              <a:off x="1869840" y="5832000"/>
              <a:ext cx="0" cy="64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53"/>
            <p:cNvSpPr/>
            <p:nvPr/>
          </p:nvSpPr>
          <p:spPr>
            <a:xfrm>
              <a:off x="7486560" y="5832000"/>
              <a:ext cx="0" cy="64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AutoShape 55"/>
            <p:cNvSpPr/>
            <p:nvPr/>
          </p:nvSpPr>
          <p:spPr>
            <a:xfrm rot="16200000">
              <a:off x="4569480" y="363420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f7b6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775f55"/>
                </a:solidFill>
                <a:latin typeface="Verdana"/>
              </a:rPr>
              <a:t>7. Uygulama (Application) Katmanı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Kullanıcı tarafından çalıştırılan tüm uygulamalar burada tanımlıdır. Örnegin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WWW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FT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SMTP – E-mail (Simple Mail Transfer Protocol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Verdana"/>
              </a:rPr>
              <a:t>6. Sunum (Presentation) Katmanı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Bu katman verileri, uygulama katmanına sunarken veri üzerinde kodlama ve dönüştürme işlemlerini yapa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Ayrıca bu katmand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veriyi sıkıştırma/açma,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şifreleme/şifre çözme,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EBCDIC’den ASCII’ye veya tam tersi yönde bir dönüşüm işlemlerini de yerine getirir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Bu katmanda tanımlanan bazı standartlar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PICT ,TIFF ,JPEG ,MIDI ,MPEG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775f55"/>
                </a:solidFill>
                <a:latin typeface="Verdana"/>
              </a:rPr>
              <a:t>EBCDIC (</a:t>
            </a:r>
            <a:r>
              <a:rPr b="1" lang="tr-TR" sz="2500" spc="-1" strike="noStrike">
                <a:solidFill>
                  <a:srgbClr val="775f55"/>
                </a:solidFill>
                <a:latin typeface="Verdana"/>
              </a:rPr>
              <a:t>E</a:t>
            </a:r>
            <a:r>
              <a:rPr b="0" lang="tr-TR" sz="2500" spc="-1" strike="noStrike">
                <a:solidFill>
                  <a:srgbClr val="775f55"/>
                </a:solidFill>
                <a:latin typeface="Verdana"/>
              </a:rPr>
              <a:t>xtended </a:t>
            </a:r>
            <a:r>
              <a:rPr b="1" lang="tr-TR" sz="2500" spc="-1" strike="noStrike">
                <a:solidFill>
                  <a:srgbClr val="775f55"/>
                </a:solidFill>
                <a:latin typeface="Verdana"/>
              </a:rPr>
              <a:t>B</a:t>
            </a:r>
            <a:r>
              <a:rPr b="0" lang="tr-TR" sz="2500" spc="-1" strike="noStrike">
                <a:solidFill>
                  <a:srgbClr val="775f55"/>
                </a:solidFill>
                <a:latin typeface="Verdana"/>
              </a:rPr>
              <a:t>inary </a:t>
            </a:r>
            <a:r>
              <a:rPr b="1" lang="tr-TR" sz="2500" spc="-1" strike="noStrike">
                <a:solidFill>
                  <a:srgbClr val="775f55"/>
                </a:solidFill>
                <a:latin typeface="Verdana"/>
              </a:rPr>
              <a:t>C</a:t>
            </a:r>
            <a:r>
              <a:rPr b="0" lang="tr-TR" sz="2500" spc="-1" strike="noStrike">
                <a:solidFill>
                  <a:srgbClr val="775f55"/>
                </a:solidFill>
                <a:latin typeface="Verdana"/>
              </a:rPr>
              <a:t>oded </a:t>
            </a:r>
            <a:r>
              <a:rPr b="1" lang="tr-TR" sz="2500" spc="-1" strike="noStrike">
                <a:solidFill>
                  <a:srgbClr val="775f55"/>
                </a:solidFill>
                <a:latin typeface="Verdana"/>
              </a:rPr>
              <a:t>D</a:t>
            </a:r>
            <a:r>
              <a:rPr b="0" lang="tr-TR" sz="2500" spc="-1" strike="noStrike">
                <a:solidFill>
                  <a:srgbClr val="775f55"/>
                </a:solidFill>
                <a:latin typeface="Verdana"/>
              </a:rPr>
              <a:t>ecimal </a:t>
            </a:r>
            <a:r>
              <a:rPr b="1" lang="tr-TR" sz="2500" spc="-1" strike="noStrike">
                <a:solidFill>
                  <a:srgbClr val="775f55"/>
                </a:solidFill>
                <a:latin typeface="Verdana"/>
              </a:rPr>
              <a:t>I</a:t>
            </a:r>
            <a:r>
              <a:rPr b="0" lang="tr-TR" sz="2500" spc="-1" strike="noStrike">
                <a:solidFill>
                  <a:srgbClr val="775f55"/>
                </a:solidFill>
                <a:latin typeface="Verdana"/>
              </a:rPr>
              <a:t>nterchange </a:t>
            </a:r>
            <a:r>
              <a:rPr b="1" lang="tr-TR" sz="2500" spc="-1" strike="noStrike">
                <a:solidFill>
                  <a:srgbClr val="775f55"/>
                </a:solidFill>
                <a:latin typeface="Verdana"/>
              </a:rPr>
              <a:t>C</a:t>
            </a:r>
            <a:r>
              <a:rPr b="0" lang="tr-TR" sz="2500" spc="-1" strike="noStrike">
                <a:solidFill>
                  <a:srgbClr val="775f55"/>
                </a:solidFill>
                <a:latin typeface="Verdana"/>
              </a:rPr>
              <a:t>ode = Genişletilmiş İkilik Kodlu Ondalık Değişim Kodu</a:t>
            </a:r>
            <a:r>
              <a:rPr b="0" lang="tr-TR" sz="2900" spc="-1" strike="noStrike">
                <a:solidFill>
                  <a:srgbClr val="775f55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1680" y="155736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IBM tarafından kullanılan bir karakter kümesidir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1776" descr="ebidc"/>
          <p:cNvPicPr/>
          <p:nvPr/>
        </p:nvPicPr>
        <p:blipFill>
          <a:blip r:embed="rId1"/>
          <a:stretch/>
        </p:blipFill>
        <p:spPr>
          <a:xfrm>
            <a:off x="1835280" y="1989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900" spc="-1" strike="noStrike">
                <a:solidFill>
                  <a:srgbClr val="775f55"/>
                </a:solidFill>
                <a:latin typeface="Verdana"/>
              </a:rPr>
              <a:t>ASCII</a:t>
            </a:r>
            <a:r>
              <a:rPr b="0" lang="tr-TR" sz="2900" spc="-1" strike="noStrike">
                <a:solidFill>
                  <a:srgbClr val="775f55"/>
                </a:solidFill>
                <a:latin typeface="Verdana"/>
              </a:rPr>
              <a:t> (</a:t>
            </a:r>
            <a:r>
              <a:rPr b="1" lang="tr-TR" sz="2900" spc="-1" strike="noStrike">
                <a:solidFill>
                  <a:srgbClr val="775f55"/>
                </a:solidFill>
                <a:latin typeface="Verdana"/>
              </a:rPr>
              <a:t>A</a:t>
            </a:r>
            <a:r>
              <a:rPr b="0" lang="tr-TR" sz="2900" spc="-1" strike="noStrike">
                <a:solidFill>
                  <a:srgbClr val="775f55"/>
                </a:solidFill>
                <a:latin typeface="Verdana"/>
              </a:rPr>
              <a:t>merican </a:t>
            </a:r>
            <a:r>
              <a:rPr b="1" lang="tr-TR" sz="2900" spc="-1" strike="noStrike">
                <a:solidFill>
                  <a:srgbClr val="775f55"/>
                </a:solidFill>
                <a:latin typeface="Verdana"/>
              </a:rPr>
              <a:t>S</a:t>
            </a:r>
            <a:r>
              <a:rPr b="0" lang="tr-TR" sz="2900" spc="-1" strike="noStrike">
                <a:solidFill>
                  <a:srgbClr val="775f55"/>
                </a:solidFill>
                <a:latin typeface="Verdana"/>
              </a:rPr>
              <a:t>tandard </a:t>
            </a:r>
            <a:r>
              <a:rPr b="1" lang="tr-TR" sz="2900" spc="-1" strike="noStrike">
                <a:solidFill>
                  <a:srgbClr val="775f55"/>
                </a:solidFill>
                <a:latin typeface="Verdana"/>
              </a:rPr>
              <a:t>C</a:t>
            </a:r>
            <a:r>
              <a:rPr b="0" lang="tr-TR" sz="2900" spc="-1" strike="noStrike">
                <a:solidFill>
                  <a:srgbClr val="775f55"/>
                </a:solidFill>
                <a:latin typeface="Verdana"/>
              </a:rPr>
              <a:t>ode for </a:t>
            </a:r>
            <a:r>
              <a:rPr b="1" lang="tr-TR" sz="2900" spc="-1" strike="noStrike">
                <a:solidFill>
                  <a:srgbClr val="775f55"/>
                </a:solidFill>
                <a:latin typeface="Verdana"/>
              </a:rPr>
              <a:t>I</a:t>
            </a:r>
            <a:r>
              <a:rPr b="0" lang="tr-TR" sz="2900" spc="-1" strike="noStrike">
                <a:solidFill>
                  <a:srgbClr val="775f55"/>
                </a:solidFill>
                <a:latin typeface="Verdana"/>
              </a:rPr>
              <a:t>nformation </a:t>
            </a:r>
            <a:r>
              <a:rPr b="1" lang="tr-TR" sz="2900" spc="-1" strike="noStrike">
                <a:solidFill>
                  <a:srgbClr val="775f55"/>
                </a:solidFill>
                <a:latin typeface="Verdana"/>
              </a:rPr>
              <a:t>I</a:t>
            </a:r>
            <a:r>
              <a:rPr b="0" lang="tr-TR" sz="2900" spc="-1" strike="noStrike">
                <a:solidFill>
                  <a:srgbClr val="775f55"/>
                </a:solidFill>
                <a:latin typeface="Verdana"/>
              </a:rPr>
              <a:t>nterchange) 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erdana"/>
              </a:rPr>
              <a:t>33 tane basılmayan kontrol karakteri (ekranda basılmayan) ve 95 tane ekrana basılan karakter bulunur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775f55"/>
                </a:solidFill>
                <a:latin typeface="Verdana"/>
              </a:rPr>
              <a:t>5. Oturum (Session) Katmanı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24000" y="144612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Oturumun kurulması, yönetilmesi ve sonlandırılmasını sağlar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Haberleşmenin organize ve senkronize edilmesini sağl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Verdana"/>
              </a:rPr>
              <a:t>Eğer veri iletiminde hata oluşmuş ise tekrar gönderilmesine karar veri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erkan</cp:lastModifiedBy>
  <dcterms:modified xsi:type="dcterms:W3CDTF">2013-04-30T09:26:11Z</dcterms:modified>
  <cp:revision>74</cp:revision>
  <dc:subject/>
  <dc:title>OSI Modeli</dc:title>
</cp:coreProperties>
</file>