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54.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6.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3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F9FA6-8646-4A66-8978-78332CA02A0F}"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793F2-329D-4237-A5EF-6046A5C447AD}"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6B558-BE6F-48BC-8F77-6C0FA461683E}"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DCEDC-FCDF-4EC3-92E6-E77063115550}"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CFA3C-0C50-495A-A375-EAB257B0952A}"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9FB7A-780C-48D1-832E-CD4A7DB6F3C7}"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UB: Uygulama Başlığı (Application Hea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VK: Veri Kuyruğ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599C2-C72F-4F80-847B-CF3CE16A247C}"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55521-FC3B-46F1-8CD6-92DDFF785E3B}"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2160720" y="148392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4"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9" name="PlaceHolder 2"/>
          <p:cNvSpPr>
            <a:spLocks noGrp="1"/>
          </p:cNvSpPr>
          <p:nvPr>
            <p:ph/>
          </p:nvPr>
        </p:nvSpPr>
        <p:spPr>
          <a:xfrm>
            <a:off x="2160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38840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615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160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38840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615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6D4C3C3-CA6B-4F1D-A610-0BB5D909D8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1" name="PlaceHolder 2"/>
          <p:cNvSpPr>
            <a:spLocks noGrp="1"/>
          </p:cNvSpPr>
          <p:nvPr>
            <p:ph type="subTitle"/>
          </p:nvPr>
        </p:nvSpPr>
        <p:spPr>
          <a:xfrm>
            <a:off x="2160720" y="1483920"/>
            <a:ext cx="6588000" cy="4940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9587F00-8F68-494F-B659-77DE030DE0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3" name="PlaceHolder 2"/>
          <p:cNvSpPr>
            <a:spLocks noGrp="1"/>
          </p:cNvSpPr>
          <p:nvPr>
            <p:ph/>
          </p:nvPr>
        </p:nvSpPr>
        <p:spPr>
          <a:xfrm>
            <a:off x="2160720" y="1483920"/>
            <a:ext cx="65880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2661DD4-E601-426C-B500-746C64EA7D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5"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6"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6B175BE-534C-432A-A906-1AFEDCD9BD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A81B094-F616-4D2C-848E-4EEC6DC553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60280"/>
            <a:ext cx="8291520" cy="3342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A4B1960-AEBD-4190-8D98-9AD6D3718F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0"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2"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CD1D56-6FC5-42C6-B661-7CE70215CF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type="subTitle"/>
          </p:nvPr>
        </p:nvSpPr>
        <p:spPr>
          <a:xfrm>
            <a:off x="2160720" y="1483920"/>
            <a:ext cx="6588000" cy="4940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4"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4"/>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874865-F149-49EE-A077-E628E99A62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8"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77C605-3665-446C-8C3D-293E6BB058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2" name="PlaceHolder 2"/>
          <p:cNvSpPr>
            <a:spLocks noGrp="1"/>
          </p:cNvSpPr>
          <p:nvPr>
            <p:ph/>
          </p:nvPr>
        </p:nvSpPr>
        <p:spPr>
          <a:xfrm>
            <a:off x="2160720" y="148392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3"/>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B30CBB1-F777-4982-A64F-B034E86CB4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5"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6"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7"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8" name="PlaceHolder 5"/>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4885411-7833-4DF0-9F12-6951D673997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0" name="PlaceHolder 2"/>
          <p:cNvSpPr>
            <a:spLocks noGrp="1"/>
          </p:cNvSpPr>
          <p:nvPr>
            <p:ph/>
          </p:nvPr>
        </p:nvSpPr>
        <p:spPr>
          <a:xfrm>
            <a:off x="2160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1" name="PlaceHolder 3"/>
          <p:cNvSpPr>
            <a:spLocks noGrp="1"/>
          </p:cNvSpPr>
          <p:nvPr>
            <p:ph/>
          </p:nvPr>
        </p:nvSpPr>
        <p:spPr>
          <a:xfrm>
            <a:off x="438840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2" name="PlaceHolder 4"/>
          <p:cNvSpPr>
            <a:spLocks noGrp="1"/>
          </p:cNvSpPr>
          <p:nvPr>
            <p:ph/>
          </p:nvPr>
        </p:nvSpPr>
        <p:spPr>
          <a:xfrm>
            <a:off x="6615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3" name="PlaceHolder 5"/>
          <p:cNvSpPr>
            <a:spLocks noGrp="1"/>
          </p:cNvSpPr>
          <p:nvPr>
            <p:ph/>
          </p:nvPr>
        </p:nvSpPr>
        <p:spPr>
          <a:xfrm>
            <a:off x="2160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4" name="PlaceHolder 6"/>
          <p:cNvSpPr>
            <a:spLocks noGrp="1"/>
          </p:cNvSpPr>
          <p:nvPr>
            <p:ph/>
          </p:nvPr>
        </p:nvSpPr>
        <p:spPr>
          <a:xfrm>
            <a:off x="438840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5" name="PlaceHolder 7"/>
          <p:cNvSpPr>
            <a:spLocks noGrp="1"/>
          </p:cNvSpPr>
          <p:nvPr>
            <p:ph/>
          </p:nvPr>
        </p:nvSpPr>
        <p:spPr>
          <a:xfrm>
            <a:off x="6615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A17D67D-2956-4748-9339-0E911E39C0D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6" name="PlaceHolder 2"/>
          <p:cNvSpPr>
            <a:spLocks noGrp="1"/>
          </p:cNvSpPr>
          <p:nvPr>
            <p:ph type="subTitle"/>
          </p:nvPr>
        </p:nvSpPr>
        <p:spPr>
          <a:xfrm>
            <a:off x="2160720" y="1483920"/>
            <a:ext cx="6588000" cy="4940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8" name="PlaceHolder 2"/>
          <p:cNvSpPr>
            <a:spLocks noGrp="1"/>
          </p:cNvSpPr>
          <p:nvPr>
            <p:ph/>
          </p:nvPr>
        </p:nvSpPr>
        <p:spPr>
          <a:xfrm>
            <a:off x="2160720" y="1483920"/>
            <a:ext cx="65880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0"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1"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 name="PlaceHolder 2"/>
          <p:cNvSpPr>
            <a:spLocks noGrp="1"/>
          </p:cNvSpPr>
          <p:nvPr>
            <p:ph/>
          </p:nvPr>
        </p:nvSpPr>
        <p:spPr>
          <a:xfrm>
            <a:off x="2160720" y="1483920"/>
            <a:ext cx="65880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60280"/>
            <a:ext cx="8291520" cy="3342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5"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6"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7"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9"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0"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1" name="PlaceHolder 4"/>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3"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4"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5" name="PlaceHolder 4"/>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7" name="PlaceHolder 2"/>
          <p:cNvSpPr>
            <a:spLocks noGrp="1"/>
          </p:cNvSpPr>
          <p:nvPr>
            <p:ph/>
          </p:nvPr>
        </p:nvSpPr>
        <p:spPr>
          <a:xfrm>
            <a:off x="2160720" y="148392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8" name="PlaceHolder 3"/>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0"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1"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2"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3" name="PlaceHolder 5"/>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5" name="PlaceHolder 2"/>
          <p:cNvSpPr>
            <a:spLocks noGrp="1"/>
          </p:cNvSpPr>
          <p:nvPr>
            <p:ph/>
          </p:nvPr>
        </p:nvSpPr>
        <p:spPr>
          <a:xfrm>
            <a:off x="2160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6" name="PlaceHolder 3"/>
          <p:cNvSpPr>
            <a:spLocks noGrp="1"/>
          </p:cNvSpPr>
          <p:nvPr>
            <p:ph/>
          </p:nvPr>
        </p:nvSpPr>
        <p:spPr>
          <a:xfrm>
            <a:off x="438840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7" name="PlaceHolder 4"/>
          <p:cNvSpPr>
            <a:spLocks noGrp="1"/>
          </p:cNvSpPr>
          <p:nvPr>
            <p:ph/>
          </p:nvPr>
        </p:nvSpPr>
        <p:spPr>
          <a:xfrm>
            <a:off x="6615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8" name="PlaceHolder 5"/>
          <p:cNvSpPr>
            <a:spLocks noGrp="1"/>
          </p:cNvSpPr>
          <p:nvPr>
            <p:ph/>
          </p:nvPr>
        </p:nvSpPr>
        <p:spPr>
          <a:xfrm>
            <a:off x="2160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9" name="PlaceHolder 6"/>
          <p:cNvSpPr>
            <a:spLocks noGrp="1"/>
          </p:cNvSpPr>
          <p:nvPr>
            <p:ph/>
          </p:nvPr>
        </p:nvSpPr>
        <p:spPr>
          <a:xfrm>
            <a:off x="438840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0" name="PlaceHolder 7"/>
          <p:cNvSpPr>
            <a:spLocks noGrp="1"/>
          </p:cNvSpPr>
          <p:nvPr>
            <p:ph/>
          </p:nvPr>
        </p:nvSpPr>
        <p:spPr>
          <a:xfrm>
            <a:off x="6615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A85016-2CD7-4E40-BBB2-0A23E4970D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7" name="PlaceHolder 2"/>
          <p:cNvSpPr>
            <a:spLocks noGrp="1"/>
          </p:cNvSpPr>
          <p:nvPr>
            <p:ph type="subTitle"/>
          </p:nvPr>
        </p:nvSpPr>
        <p:spPr>
          <a:xfrm>
            <a:off x="2160720" y="1483920"/>
            <a:ext cx="6588000" cy="4940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FBC519-63D7-4A69-9898-33C5933C22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9" name="PlaceHolder 2"/>
          <p:cNvSpPr>
            <a:spLocks noGrp="1"/>
          </p:cNvSpPr>
          <p:nvPr>
            <p:ph/>
          </p:nvPr>
        </p:nvSpPr>
        <p:spPr>
          <a:xfrm>
            <a:off x="2160720" y="1483920"/>
            <a:ext cx="65880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4D2DA0-4094-4180-AEF3-A4B24E5366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4"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1"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2"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8B74A3-C87B-4D3B-BD94-DCA60D5A4D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8A49FF-2470-4F58-ACE4-1F6EC818D0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60280"/>
            <a:ext cx="8291520" cy="3342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7CA074-66C6-4FEC-AFA6-CC19F21B2B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6"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7"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8"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C303F9-C504-4510-8573-2EA09BB665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0"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1"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2" name="PlaceHolder 4"/>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A41F81-0452-4ED8-8515-A856AC0E70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4"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5"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6" name="PlaceHolder 4"/>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AA8452-A03B-4180-AF56-C466D86E28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8" name="PlaceHolder 2"/>
          <p:cNvSpPr>
            <a:spLocks noGrp="1"/>
          </p:cNvSpPr>
          <p:nvPr>
            <p:ph/>
          </p:nvPr>
        </p:nvSpPr>
        <p:spPr>
          <a:xfrm>
            <a:off x="2160720" y="148392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9" name="PlaceHolder 3"/>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81F973-B8D3-4645-9C01-215118ED3F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1"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2"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3"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4" name="PlaceHolder 5"/>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AF44ED-7CEA-4167-ABF2-59C78BB0AE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6" name="PlaceHolder 2"/>
          <p:cNvSpPr>
            <a:spLocks noGrp="1"/>
          </p:cNvSpPr>
          <p:nvPr>
            <p:ph/>
          </p:nvPr>
        </p:nvSpPr>
        <p:spPr>
          <a:xfrm>
            <a:off x="2160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7" name="PlaceHolder 3"/>
          <p:cNvSpPr>
            <a:spLocks noGrp="1"/>
          </p:cNvSpPr>
          <p:nvPr>
            <p:ph/>
          </p:nvPr>
        </p:nvSpPr>
        <p:spPr>
          <a:xfrm>
            <a:off x="438840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8" name="PlaceHolder 4"/>
          <p:cNvSpPr>
            <a:spLocks noGrp="1"/>
          </p:cNvSpPr>
          <p:nvPr>
            <p:ph/>
          </p:nvPr>
        </p:nvSpPr>
        <p:spPr>
          <a:xfrm>
            <a:off x="6615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9" name="PlaceHolder 5"/>
          <p:cNvSpPr>
            <a:spLocks noGrp="1"/>
          </p:cNvSpPr>
          <p:nvPr>
            <p:ph/>
          </p:nvPr>
        </p:nvSpPr>
        <p:spPr>
          <a:xfrm>
            <a:off x="2160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0" name="PlaceHolder 6"/>
          <p:cNvSpPr>
            <a:spLocks noGrp="1"/>
          </p:cNvSpPr>
          <p:nvPr>
            <p:ph/>
          </p:nvPr>
        </p:nvSpPr>
        <p:spPr>
          <a:xfrm>
            <a:off x="438840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1" name="PlaceHolder 7"/>
          <p:cNvSpPr>
            <a:spLocks noGrp="1"/>
          </p:cNvSpPr>
          <p:nvPr>
            <p:ph/>
          </p:nvPr>
        </p:nvSpPr>
        <p:spPr>
          <a:xfrm>
            <a:off x="6615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3E4788-1C58-4A86-ABBC-406C58DBD6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60280"/>
            <a:ext cx="8291520" cy="3342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0" name="Rectangle 2"/>
          <p:cNvSpPr/>
          <p:nvPr/>
        </p:nvSpPr>
        <p:spPr>
          <a:xfrm>
            <a:off x="-3240" y="0"/>
            <a:ext cx="9144000" cy="1197000"/>
          </a:xfrm>
          <a:prstGeom prst="rect">
            <a:avLst/>
          </a:pr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3"/>
          <p:cNvSpPr/>
          <p:nvPr/>
        </p:nvSpPr>
        <p:spPr>
          <a:xfrm>
            <a:off x="0" y="6308640"/>
            <a:ext cx="9139320" cy="277920"/>
          </a:xfrm>
          <a:prstGeom prst="rect">
            <a:avLst/>
          </a:prstGeom>
          <a:solidFill>
            <a:srgbClr val="6698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a:off x="-3240" y="1089000"/>
            <a:ext cx="9147240" cy="21600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 name="PlaceHolder 2"/>
          <p:cNvSpPr>
            <a:spLocks noGrp="1"/>
          </p:cNvSpPr>
          <p:nvPr>
            <p:ph type="body"/>
          </p:nvPr>
        </p:nvSpPr>
        <p:spPr>
          <a:xfrm>
            <a:off x="2160720" y="1483920"/>
            <a:ext cx="6588000" cy="4940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 name="Rectangle 7"/>
          <p:cNvSpPr/>
          <p:nvPr/>
        </p:nvSpPr>
        <p:spPr>
          <a:xfrm>
            <a:off x="0" y="6605640"/>
            <a:ext cx="9139320" cy="27792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a:off x="0" y="1089000"/>
            <a:ext cx="1727280" cy="5805360"/>
          </a:xfrm>
          <a:prstGeom prst="rect">
            <a:avLst/>
          </a:pr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a:off x="1727280" y="1089000"/>
            <a:ext cx="252360" cy="576900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AutoShape 10"/>
          <p:cNvSpPr/>
          <p:nvPr/>
        </p:nvSpPr>
        <p:spPr>
          <a:xfrm>
            <a:off x="216000" y="264780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AutoShape 11"/>
          <p:cNvSpPr/>
          <p:nvPr/>
        </p:nvSpPr>
        <p:spPr>
          <a:xfrm>
            <a:off x="216000" y="399096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AutoShape 12"/>
          <p:cNvSpPr/>
          <p:nvPr/>
        </p:nvSpPr>
        <p:spPr>
          <a:xfrm>
            <a:off x="216000" y="533556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 name="Group 13"/>
          <p:cNvGrpSpPr/>
          <p:nvPr/>
        </p:nvGrpSpPr>
        <p:grpSpPr>
          <a:xfrm>
            <a:off x="360360" y="4152960"/>
            <a:ext cx="1007640" cy="756720"/>
            <a:chOff x="360360" y="4152960"/>
            <a:chExt cx="1007640" cy="756720"/>
          </a:xfrm>
        </p:grpSpPr>
        <p:sp>
          <p:nvSpPr>
            <p:cNvPr id="12" name="Freeform 14"/>
            <p:cNvSpPr/>
            <p:nvPr/>
          </p:nvSpPr>
          <p:spPr>
            <a:xfrm>
              <a:off x="360360" y="4152960"/>
              <a:ext cx="703080" cy="654120"/>
            </a:xfrm>
            <a:custGeom>
              <a:avLst/>
              <a:gdLst/>
              <a:ahLst/>
              <a:rect l="l" t="t" r="r" b="b"/>
              <a:pathLst>
                <a:path w="463" h="458">
                  <a:moveTo>
                    <a:pt x="406" y="125"/>
                  </a:moveTo>
                  <a:cubicBezTo>
                    <a:pt x="463" y="220"/>
                    <a:pt x="430" y="343"/>
                    <a:pt x="334" y="401"/>
                  </a:cubicBezTo>
                  <a:cubicBezTo>
                    <a:pt x="237" y="458"/>
                    <a:pt x="113" y="428"/>
                    <a:pt x="56" y="333"/>
                  </a:cubicBezTo>
                  <a:cubicBezTo>
                    <a:pt x="0" y="238"/>
                    <a:pt x="32" y="115"/>
                    <a:pt x="129" y="57"/>
                  </a:cubicBezTo>
                  <a:cubicBezTo>
                    <a:pt x="226" y="0"/>
                    <a:pt x="350" y="30"/>
                    <a:pt x="406" y="125"/>
                  </a:cubicBezTo>
                  <a:close/>
                </a:path>
              </a:pathLst>
            </a:custGeom>
            <a:noFill/>
            <a:ln w="38160">
              <a:solidFill>
                <a:srgbClr val="b3cce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943200" y="4612680"/>
              <a:ext cx="424800" cy="297000"/>
            </a:xfrm>
            <a:custGeom>
              <a:avLst/>
              <a:gdLst/>
              <a:ahLst/>
              <a:rect l="l" t="t" r="r" b="b"/>
              <a:pathLst>
                <a:path w="560" h="416">
                  <a:moveTo>
                    <a:pt x="560" y="342"/>
                  </a:moveTo>
                  <a:lnTo>
                    <a:pt x="510" y="416"/>
                  </a:lnTo>
                  <a:lnTo>
                    <a:pt x="0" y="76"/>
                  </a:lnTo>
                  <a:lnTo>
                    <a:pt x="50" y="0"/>
                  </a:lnTo>
                  <a:lnTo>
                    <a:pt x="560" y="342"/>
                  </a:lnTo>
                  <a:close/>
                </a:path>
              </a:pathLst>
            </a:custGeom>
            <a:noFill/>
            <a:ln w="38160">
              <a:solidFill>
                <a:srgbClr val="b3cce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 name="Group 16"/>
          <p:cNvGrpSpPr/>
          <p:nvPr/>
        </p:nvGrpSpPr>
        <p:grpSpPr>
          <a:xfrm>
            <a:off x="453600" y="5427720"/>
            <a:ext cx="821520" cy="913320"/>
            <a:chOff x="453600" y="5427720"/>
            <a:chExt cx="821520" cy="913320"/>
          </a:xfrm>
        </p:grpSpPr>
        <p:sp>
          <p:nvSpPr>
            <p:cNvPr id="15" name="Freeform 17"/>
            <p:cNvSpPr/>
            <p:nvPr/>
          </p:nvSpPr>
          <p:spPr>
            <a:xfrm rot="684000">
              <a:off x="674280" y="5475240"/>
              <a:ext cx="517320" cy="350640"/>
            </a:xfrm>
            <a:custGeom>
              <a:avLst/>
              <a:gdLst/>
              <a:ahLst/>
              <a:rect l="l" t="t" r="r" b="b"/>
              <a:pathLst>
                <a:path w="681" h="508">
                  <a:moveTo>
                    <a:pt x="117" y="337"/>
                  </a:moveTo>
                  <a:lnTo>
                    <a:pt x="121" y="291"/>
                  </a:lnTo>
                  <a:lnTo>
                    <a:pt x="134" y="250"/>
                  </a:lnTo>
                  <a:lnTo>
                    <a:pt x="154" y="211"/>
                  </a:lnTo>
                  <a:lnTo>
                    <a:pt x="183" y="180"/>
                  </a:lnTo>
                  <a:lnTo>
                    <a:pt x="214" y="151"/>
                  </a:lnTo>
                  <a:lnTo>
                    <a:pt x="252" y="132"/>
                  </a:lnTo>
                  <a:lnTo>
                    <a:pt x="295" y="120"/>
                  </a:lnTo>
                  <a:lnTo>
                    <a:pt x="342" y="116"/>
                  </a:lnTo>
                  <a:lnTo>
                    <a:pt x="384" y="120"/>
                  </a:lnTo>
                  <a:lnTo>
                    <a:pt x="427" y="132"/>
                  </a:lnTo>
                  <a:lnTo>
                    <a:pt x="464" y="151"/>
                  </a:lnTo>
                  <a:lnTo>
                    <a:pt x="497" y="180"/>
                  </a:lnTo>
                  <a:lnTo>
                    <a:pt x="524" y="211"/>
                  </a:lnTo>
                  <a:lnTo>
                    <a:pt x="545" y="250"/>
                  </a:lnTo>
                  <a:lnTo>
                    <a:pt x="557" y="291"/>
                  </a:lnTo>
                  <a:lnTo>
                    <a:pt x="565" y="337"/>
                  </a:lnTo>
                  <a:lnTo>
                    <a:pt x="681" y="337"/>
                  </a:lnTo>
                  <a:lnTo>
                    <a:pt x="671" y="267"/>
                  </a:lnTo>
                  <a:lnTo>
                    <a:pt x="652" y="205"/>
                  </a:lnTo>
                  <a:lnTo>
                    <a:pt x="619" y="147"/>
                  </a:lnTo>
                  <a:lnTo>
                    <a:pt x="580" y="99"/>
                  </a:lnTo>
                  <a:lnTo>
                    <a:pt x="528" y="56"/>
                  </a:lnTo>
                  <a:lnTo>
                    <a:pt x="472" y="25"/>
                  </a:lnTo>
                  <a:lnTo>
                    <a:pt x="408" y="6"/>
                  </a:lnTo>
                  <a:lnTo>
                    <a:pt x="342" y="0"/>
                  </a:lnTo>
                  <a:lnTo>
                    <a:pt x="272" y="6"/>
                  </a:lnTo>
                  <a:lnTo>
                    <a:pt x="208" y="25"/>
                  </a:lnTo>
                  <a:lnTo>
                    <a:pt x="150" y="56"/>
                  </a:lnTo>
                  <a:lnTo>
                    <a:pt x="101" y="99"/>
                  </a:lnTo>
                  <a:lnTo>
                    <a:pt x="59" y="147"/>
                  </a:lnTo>
                  <a:lnTo>
                    <a:pt x="27" y="205"/>
                  </a:lnTo>
                  <a:lnTo>
                    <a:pt x="6" y="267"/>
                  </a:lnTo>
                  <a:lnTo>
                    <a:pt x="0" y="337"/>
                  </a:lnTo>
                  <a:lnTo>
                    <a:pt x="0" y="508"/>
                  </a:lnTo>
                  <a:lnTo>
                    <a:pt x="117" y="508"/>
                  </a:lnTo>
                  <a:lnTo>
                    <a:pt x="117" y="337"/>
                  </a:lnTo>
                  <a:close/>
                </a:path>
              </a:pathLst>
            </a:custGeom>
            <a:noFill/>
            <a:ln w="38160">
              <a:solidFill>
                <a:srgbClr val="b3cce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AutoShape 18"/>
            <p:cNvSpPr/>
            <p:nvPr/>
          </p:nvSpPr>
          <p:spPr>
            <a:xfrm rot="684000">
              <a:off x="504720" y="5688000"/>
              <a:ext cx="719280" cy="587520"/>
            </a:xfrm>
            <a:prstGeom prst="roundRect">
              <a:avLst>
                <a:gd name="adj" fmla="val 16667"/>
              </a:avLst>
            </a:prstGeom>
            <a:solidFill>
              <a:srgbClr val="336599"/>
            </a:solid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rot="684000">
              <a:off x="854640" y="5771880"/>
              <a:ext cx="73440" cy="152280"/>
            </a:xfrm>
            <a:custGeom>
              <a:avLst/>
              <a:gdLst/>
              <a:ahLst/>
              <a:rect l="l" t="t" r="r" b="b"/>
              <a:pathLst>
                <a:path w="99" h="221">
                  <a:moveTo>
                    <a:pt x="99" y="48"/>
                  </a:moveTo>
                  <a:lnTo>
                    <a:pt x="93" y="27"/>
                  </a:lnTo>
                  <a:lnTo>
                    <a:pt x="84" y="14"/>
                  </a:lnTo>
                  <a:lnTo>
                    <a:pt x="68" y="2"/>
                  </a:lnTo>
                  <a:lnTo>
                    <a:pt x="51" y="0"/>
                  </a:lnTo>
                  <a:lnTo>
                    <a:pt x="29" y="2"/>
                  </a:lnTo>
                  <a:lnTo>
                    <a:pt x="14" y="14"/>
                  </a:lnTo>
                  <a:lnTo>
                    <a:pt x="4" y="27"/>
                  </a:lnTo>
                  <a:lnTo>
                    <a:pt x="0" y="48"/>
                  </a:lnTo>
                  <a:lnTo>
                    <a:pt x="2" y="64"/>
                  </a:lnTo>
                  <a:lnTo>
                    <a:pt x="10" y="78"/>
                  </a:lnTo>
                  <a:lnTo>
                    <a:pt x="20" y="87"/>
                  </a:lnTo>
                  <a:lnTo>
                    <a:pt x="37" y="95"/>
                  </a:lnTo>
                  <a:lnTo>
                    <a:pt x="31" y="221"/>
                  </a:lnTo>
                  <a:lnTo>
                    <a:pt x="68" y="221"/>
                  </a:lnTo>
                  <a:lnTo>
                    <a:pt x="62" y="95"/>
                  </a:lnTo>
                  <a:lnTo>
                    <a:pt x="76" y="87"/>
                  </a:lnTo>
                  <a:lnTo>
                    <a:pt x="88" y="78"/>
                  </a:lnTo>
                  <a:lnTo>
                    <a:pt x="95" y="64"/>
                  </a:lnTo>
                  <a:lnTo>
                    <a:pt x="99" y="48"/>
                  </a:lnTo>
                  <a:close/>
                </a:path>
              </a:pathLst>
            </a:custGeom>
            <a:noFill/>
            <a:ln w="38160">
              <a:solidFill>
                <a:srgbClr val="b3cce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 name="Group 20"/>
          <p:cNvGrpSpPr/>
          <p:nvPr/>
        </p:nvGrpSpPr>
        <p:grpSpPr>
          <a:xfrm>
            <a:off x="398520" y="2851200"/>
            <a:ext cx="930240" cy="673200"/>
            <a:chOff x="398520" y="2851200"/>
            <a:chExt cx="930240" cy="673200"/>
          </a:xfrm>
        </p:grpSpPr>
        <p:sp>
          <p:nvSpPr>
            <p:cNvPr id="19" name="Freeform 21"/>
            <p:cNvSpPr/>
            <p:nvPr/>
          </p:nvSpPr>
          <p:spPr>
            <a:xfrm>
              <a:off x="398520" y="2851200"/>
              <a:ext cx="930240" cy="673200"/>
            </a:xfrm>
            <a:custGeom>
              <a:avLst/>
              <a:gdLst/>
              <a:ahLst/>
              <a:rect l="l" t="t" r="r" b="b"/>
              <a:pathLst>
                <a:path w="581" h="395">
                  <a:moveTo>
                    <a:pt x="581" y="365"/>
                  </a:moveTo>
                  <a:cubicBezTo>
                    <a:pt x="581" y="381"/>
                    <a:pt x="568" y="395"/>
                    <a:pt x="552" y="395"/>
                  </a:cubicBezTo>
                  <a:cubicBezTo>
                    <a:pt x="30" y="395"/>
                    <a:pt x="30" y="395"/>
                    <a:pt x="30" y="395"/>
                  </a:cubicBezTo>
                  <a:cubicBezTo>
                    <a:pt x="13" y="395"/>
                    <a:pt x="0" y="381"/>
                    <a:pt x="0" y="365"/>
                  </a:cubicBezTo>
                  <a:cubicBezTo>
                    <a:pt x="0" y="29"/>
                    <a:pt x="0" y="29"/>
                    <a:pt x="0" y="29"/>
                  </a:cubicBezTo>
                  <a:cubicBezTo>
                    <a:pt x="0" y="13"/>
                    <a:pt x="13" y="0"/>
                    <a:pt x="30" y="0"/>
                  </a:cubicBezTo>
                  <a:cubicBezTo>
                    <a:pt x="552" y="0"/>
                    <a:pt x="552" y="0"/>
                    <a:pt x="552" y="0"/>
                  </a:cubicBezTo>
                  <a:cubicBezTo>
                    <a:pt x="568" y="0"/>
                    <a:pt x="581" y="13"/>
                    <a:pt x="581" y="29"/>
                  </a:cubicBezTo>
                  <a:lnTo>
                    <a:pt x="581" y="365"/>
                  </a:lnTo>
                  <a:close/>
                </a:path>
              </a:pathLst>
            </a:custGeom>
            <a:noFill/>
            <a:ln w="38160">
              <a:solidFill>
                <a:srgbClr val="b3cce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399960" y="2906640"/>
              <a:ext cx="927000" cy="284400"/>
            </a:xfrm>
            <a:custGeom>
              <a:avLst/>
              <a:gdLst/>
              <a:ahLst/>
              <a:rect l="l" t="t" r="r" b="b"/>
              <a:pathLst>
                <a:path w="1158" h="332">
                  <a:moveTo>
                    <a:pt x="0" y="0"/>
                  </a:moveTo>
                  <a:lnTo>
                    <a:pt x="580" y="332"/>
                  </a:lnTo>
                  <a:lnTo>
                    <a:pt x="1158" y="0"/>
                  </a:lnTo>
                </a:path>
              </a:pathLst>
            </a:custGeom>
            <a:noFill/>
            <a:ln w="38160">
              <a:solidFill>
                <a:srgbClr val="b3cce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1" name="Group 23"/>
          <p:cNvGrpSpPr/>
          <p:nvPr/>
        </p:nvGrpSpPr>
        <p:grpSpPr>
          <a:xfrm>
            <a:off x="8317080" y="5877000"/>
            <a:ext cx="726840" cy="749160"/>
            <a:chOff x="8317080" y="5877000"/>
            <a:chExt cx="726840" cy="749160"/>
          </a:xfrm>
        </p:grpSpPr>
        <p:sp>
          <p:nvSpPr>
            <p:cNvPr id="22" name="Freeform 24"/>
            <p:cNvSpPr/>
            <p:nvPr/>
          </p:nvSpPr>
          <p:spPr>
            <a:xfrm>
              <a:off x="8577000" y="5877000"/>
              <a:ext cx="355320" cy="212760"/>
            </a:xfrm>
            <a:custGeom>
              <a:avLst/>
              <a:gdLst/>
              <a:ahLst/>
              <a:rect l="l" t="t" r="r" b="b"/>
              <a:pathLst>
                <a:path w="1039" h="606">
                  <a:moveTo>
                    <a:pt x="1034" y="450"/>
                  </a:moveTo>
                  <a:lnTo>
                    <a:pt x="1034" y="450"/>
                  </a:lnTo>
                  <a:lnTo>
                    <a:pt x="1029" y="464"/>
                  </a:lnTo>
                  <a:lnTo>
                    <a:pt x="1024" y="476"/>
                  </a:lnTo>
                  <a:lnTo>
                    <a:pt x="1016" y="489"/>
                  </a:lnTo>
                  <a:lnTo>
                    <a:pt x="1009" y="501"/>
                  </a:lnTo>
                  <a:lnTo>
                    <a:pt x="999" y="511"/>
                  </a:lnTo>
                  <a:lnTo>
                    <a:pt x="988" y="523"/>
                  </a:lnTo>
                  <a:lnTo>
                    <a:pt x="976" y="532"/>
                  </a:lnTo>
                  <a:lnTo>
                    <a:pt x="965" y="542"/>
                  </a:lnTo>
                  <a:lnTo>
                    <a:pt x="951" y="550"/>
                  </a:lnTo>
                  <a:lnTo>
                    <a:pt x="936" y="559"/>
                  </a:lnTo>
                  <a:lnTo>
                    <a:pt x="903" y="574"/>
                  </a:lnTo>
                  <a:lnTo>
                    <a:pt x="868" y="586"/>
                  </a:lnTo>
                  <a:lnTo>
                    <a:pt x="830" y="594"/>
                  </a:lnTo>
                  <a:lnTo>
                    <a:pt x="788" y="601"/>
                  </a:lnTo>
                  <a:lnTo>
                    <a:pt x="744" y="606"/>
                  </a:lnTo>
                  <a:lnTo>
                    <a:pt x="698" y="606"/>
                  </a:lnTo>
                  <a:lnTo>
                    <a:pt x="650" y="605"/>
                  </a:lnTo>
                  <a:lnTo>
                    <a:pt x="599" y="601"/>
                  </a:lnTo>
                  <a:lnTo>
                    <a:pt x="548" y="593"/>
                  </a:lnTo>
                  <a:lnTo>
                    <a:pt x="497" y="583"/>
                  </a:lnTo>
                  <a:lnTo>
                    <a:pt x="445" y="569"/>
                  </a:lnTo>
                  <a:lnTo>
                    <a:pt x="445" y="569"/>
                  </a:lnTo>
                  <a:lnTo>
                    <a:pt x="392" y="552"/>
                  </a:lnTo>
                  <a:lnTo>
                    <a:pt x="341" y="533"/>
                  </a:lnTo>
                  <a:lnTo>
                    <a:pt x="295" y="513"/>
                  </a:lnTo>
                  <a:lnTo>
                    <a:pt x="249" y="491"/>
                  </a:lnTo>
                  <a:lnTo>
                    <a:pt x="209" y="467"/>
                  </a:lnTo>
                  <a:lnTo>
                    <a:pt x="169" y="442"/>
                  </a:lnTo>
                  <a:lnTo>
                    <a:pt x="134" y="414"/>
                  </a:lnTo>
                  <a:lnTo>
                    <a:pt x="103" y="387"/>
                  </a:lnTo>
                  <a:lnTo>
                    <a:pt x="74" y="358"/>
                  </a:lnTo>
                  <a:lnTo>
                    <a:pt x="51" y="329"/>
                  </a:lnTo>
                  <a:lnTo>
                    <a:pt x="32" y="301"/>
                  </a:lnTo>
                  <a:lnTo>
                    <a:pt x="23" y="285"/>
                  </a:lnTo>
                  <a:lnTo>
                    <a:pt x="17" y="272"/>
                  </a:lnTo>
                  <a:lnTo>
                    <a:pt x="11" y="256"/>
                  </a:lnTo>
                  <a:lnTo>
                    <a:pt x="6" y="243"/>
                  </a:lnTo>
                  <a:lnTo>
                    <a:pt x="3" y="228"/>
                  </a:lnTo>
                  <a:lnTo>
                    <a:pt x="1" y="212"/>
                  </a:lnTo>
                  <a:lnTo>
                    <a:pt x="0" y="199"/>
                  </a:lnTo>
                  <a:lnTo>
                    <a:pt x="1" y="185"/>
                  </a:lnTo>
                  <a:lnTo>
                    <a:pt x="3" y="170"/>
                  </a:lnTo>
                  <a:lnTo>
                    <a:pt x="6" y="156"/>
                  </a:lnTo>
                  <a:lnTo>
                    <a:pt x="6" y="156"/>
                  </a:lnTo>
                  <a:lnTo>
                    <a:pt x="10" y="143"/>
                  </a:lnTo>
                  <a:lnTo>
                    <a:pt x="17" y="131"/>
                  </a:lnTo>
                  <a:lnTo>
                    <a:pt x="23" y="117"/>
                  </a:lnTo>
                  <a:lnTo>
                    <a:pt x="32" y="105"/>
                  </a:lnTo>
                  <a:lnTo>
                    <a:pt x="40" y="95"/>
                  </a:lnTo>
                  <a:lnTo>
                    <a:pt x="51" y="85"/>
                  </a:lnTo>
                  <a:lnTo>
                    <a:pt x="62" y="75"/>
                  </a:lnTo>
                  <a:lnTo>
                    <a:pt x="76" y="64"/>
                  </a:lnTo>
                  <a:lnTo>
                    <a:pt x="90" y="56"/>
                  </a:lnTo>
                  <a:lnTo>
                    <a:pt x="103" y="47"/>
                  </a:lnTo>
                  <a:lnTo>
                    <a:pt x="136" y="32"/>
                  </a:lnTo>
                  <a:lnTo>
                    <a:pt x="171" y="20"/>
                  </a:lnTo>
                  <a:lnTo>
                    <a:pt x="210" y="12"/>
                  </a:lnTo>
                  <a:lnTo>
                    <a:pt x="251" y="5"/>
                  </a:lnTo>
                  <a:lnTo>
                    <a:pt x="295" y="2"/>
                  </a:lnTo>
                  <a:lnTo>
                    <a:pt x="341" y="0"/>
                  </a:lnTo>
                  <a:lnTo>
                    <a:pt x="390" y="2"/>
                  </a:lnTo>
                  <a:lnTo>
                    <a:pt x="440" y="5"/>
                  </a:lnTo>
                  <a:lnTo>
                    <a:pt x="491" y="13"/>
                  </a:lnTo>
                  <a:lnTo>
                    <a:pt x="543" y="24"/>
                  </a:lnTo>
                  <a:lnTo>
                    <a:pt x="596" y="37"/>
                  </a:lnTo>
                  <a:lnTo>
                    <a:pt x="596" y="37"/>
                  </a:lnTo>
                  <a:lnTo>
                    <a:pt x="649" y="54"/>
                  </a:lnTo>
                  <a:lnTo>
                    <a:pt x="698" y="73"/>
                  </a:lnTo>
                  <a:lnTo>
                    <a:pt x="745" y="93"/>
                  </a:lnTo>
                  <a:lnTo>
                    <a:pt x="790" y="115"/>
                  </a:lnTo>
                  <a:lnTo>
                    <a:pt x="832" y="139"/>
                  </a:lnTo>
                  <a:lnTo>
                    <a:pt x="869" y="165"/>
                  </a:lnTo>
                  <a:lnTo>
                    <a:pt x="905" y="192"/>
                  </a:lnTo>
                  <a:lnTo>
                    <a:pt x="937" y="219"/>
                  </a:lnTo>
                  <a:lnTo>
                    <a:pt x="965" y="248"/>
                  </a:lnTo>
                  <a:lnTo>
                    <a:pt x="988" y="277"/>
                  </a:lnTo>
                  <a:lnTo>
                    <a:pt x="1009" y="306"/>
                  </a:lnTo>
                  <a:lnTo>
                    <a:pt x="1016" y="321"/>
                  </a:lnTo>
                  <a:lnTo>
                    <a:pt x="1022" y="335"/>
                  </a:lnTo>
                  <a:lnTo>
                    <a:pt x="1029" y="350"/>
                  </a:lnTo>
                  <a:lnTo>
                    <a:pt x="1033" y="365"/>
                  </a:lnTo>
                  <a:lnTo>
                    <a:pt x="1036" y="379"/>
                  </a:lnTo>
                  <a:lnTo>
                    <a:pt x="1039" y="394"/>
                  </a:lnTo>
                  <a:lnTo>
                    <a:pt x="1039" y="408"/>
                  </a:lnTo>
                  <a:lnTo>
                    <a:pt x="1039" y="423"/>
                  </a:lnTo>
                  <a:lnTo>
                    <a:pt x="1038" y="436"/>
                  </a:lnTo>
                  <a:lnTo>
                    <a:pt x="1034" y="450"/>
                  </a:lnTo>
                  <a:lnTo>
                    <a:pt x="1034" y="450"/>
                  </a:lnTo>
                  <a:close/>
                </a:path>
              </a:pathLst>
            </a:custGeom>
            <a:noFill/>
            <a:ln w="57240">
              <a:solidFill>
                <a:srgbClr val="3365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416800" y="5990040"/>
              <a:ext cx="257400" cy="261720"/>
            </a:xfrm>
            <a:custGeom>
              <a:avLst/>
              <a:gdLst/>
              <a:ahLst/>
              <a:rect l="l" t="t" r="r" b="b"/>
              <a:pathLst>
                <a:path w="749" h="747">
                  <a:moveTo>
                    <a:pt x="12" y="0"/>
                  </a:moveTo>
                  <a:lnTo>
                    <a:pt x="12" y="0"/>
                  </a:lnTo>
                  <a:lnTo>
                    <a:pt x="5" y="25"/>
                  </a:lnTo>
                  <a:lnTo>
                    <a:pt x="2" y="51"/>
                  </a:lnTo>
                  <a:lnTo>
                    <a:pt x="0" y="78"/>
                  </a:lnTo>
                  <a:lnTo>
                    <a:pt x="0" y="105"/>
                  </a:lnTo>
                  <a:lnTo>
                    <a:pt x="3" y="130"/>
                  </a:lnTo>
                  <a:lnTo>
                    <a:pt x="9" y="158"/>
                  </a:lnTo>
                  <a:lnTo>
                    <a:pt x="15" y="185"/>
                  </a:lnTo>
                  <a:lnTo>
                    <a:pt x="26" y="212"/>
                  </a:lnTo>
                  <a:lnTo>
                    <a:pt x="36" y="239"/>
                  </a:lnTo>
                  <a:lnTo>
                    <a:pt x="49" y="266"/>
                  </a:lnTo>
                  <a:lnTo>
                    <a:pt x="65" y="293"/>
                  </a:lnTo>
                  <a:lnTo>
                    <a:pt x="82" y="319"/>
                  </a:lnTo>
                  <a:lnTo>
                    <a:pt x="100" y="346"/>
                  </a:lnTo>
                  <a:lnTo>
                    <a:pt x="122" y="372"/>
                  </a:lnTo>
                  <a:lnTo>
                    <a:pt x="145" y="399"/>
                  </a:lnTo>
                  <a:lnTo>
                    <a:pt x="168" y="424"/>
                  </a:lnTo>
                  <a:lnTo>
                    <a:pt x="194" y="450"/>
                  </a:lnTo>
                  <a:lnTo>
                    <a:pt x="223" y="474"/>
                  </a:lnTo>
                  <a:lnTo>
                    <a:pt x="252" y="497"/>
                  </a:lnTo>
                  <a:lnTo>
                    <a:pt x="282" y="521"/>
                  </a:lnTo>
                  <a:lnTo>
                    <a:pt x="313" y="545"/>
                  </a:lnTo>
                  <a:lnTo>
                    <a:pt x="347" y="567"/>
                  </a:lnTo>
                  <a:lnTo>
                    <a:pt x="382" y="589"/>
                  </a:lnTo>
                  <a:lnTo>
                    <a:pt x="418" y="609"/>
                  </a:lnTo>
                  <a:lnTo>
                    <a:pt x="455" y="630"/>
                  </a:lnTo>
                  <a:lnTo>
                    <a:pt x="494" y="650"/>
                  </a:lnTo>
                  <a:lnTo>
                    <a:pt x="534" y="669"/>
                  </a:lnTo>
                  <a:lnTo>
                    <a:pt x="574" y="686"/>
                  </a:lnTo>
                  <a:lnTo>
                    <a:pt x="617" y="703"/>
                  </a:lnTo>
                  <a:lnTo>
                    <a:pt x="659" y="718"/>
                  </a:lnTo>
                  <a:lnTo>
                    <a:pt x="703" y="733"/>
                  </a:lnTo>
                  <a:lnTo>
                    <a:pt x="749" y="747"/>
                  </a:lnTo>
                </a:path>
              </a:pathLst>
            </a:custGeom>
            <a:noFill/>
            <a:ln w="57240">
              <a:solidFill>
                <a:srgbClr val="3365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674200" y="6152760"/>
              <a:ext cx="355320" cy="119160"/>
            </a:xfrm>
            <a:custGeom>
              <a:avLst/>
              <a:gdLst/>
              <a:ahLst/>
              <a:rect l="l" t="t" r="r" b="b"/>
              <a:pathLst>
                <a:path w="1037" h="337">
                  <a:moveTo>
                    <a:pt x="1037" y="0"/>
                  </a:moveTo>
                  <a:lnTo>
                    <a:pt x="1037" y="0"/>
                  </a:lnTo>
                  <a:lnTo>
                    <a:pt x="1028" y="28"/>
                  </a:lnTo>
                  <a:lnTo>
                    <a:pt x="1016" y="53"/>
                  </a:lnTo>
                  <a:lnTo>
                    <a:pt x="1003" y="79"/>
                  </a:lnTo>
                  <a:lnTo>
                    <a:pt x="987" y="102"/>
                  </a:lnTo>
                  <a:lnTo>
                    <a:pt x="970" y="124"/>
                  </a:lnTo>
                  <a:lnTo>
                    <a:pt x="952" y="146"/>
                  </a:lnTo>
                  <a:lnTo>
                    <a:pt x="931" y="167"/>
                  </a:lnTo>
                  <a:lnTo>
                    <a:pt x="908" y="187"/>
                  </a:lnTo>
                  <a:lnTo>
                    <a:pt x="884" y="206"/>
                  </a:lnTo>
                  <a:lnTo>
                    <a:pt x="858" y="223"/>
                  </a:lnTo>
                  <a:lnTo>
                    <a:pt x="829" y="238"/>
                  </a:lnTo>
                  <a:lnTo>
                    <a:pt x="800" y="254"/>
                  </a:lnTo>
                  <a:lnTo>
                    <a:pt x="770" y="267"/>
                  </a:lnTo>
                  <a:lnTo>
                    <a:pt x="738" y="281"/>
                  </a:lnTo>
                  <a:lnTo>
                    <a:pt x="705" y="293"/>
                  </a:lnTo>
                  <a:lnTo>
                    <a:pt x="670" y="301"/>
                  </a:lnTo>
                  <a:lnTo>
                    <a:pt x="634" y="311"/>
                  </a:lnTo>
                  <a:lnTo>
                    <a:pt x="598" y="318"/>
                  </a:lnTo>
                  <a:lnTo>
                    <a:pt x="559" y="325"/>
                  </a:lnTo>
                  <a:lnTo>
                    <a:pt x="520" y="330"/>
                  </a:lnTo>
                  <a:lnTo>
                    <a:pt x="481" y="333"/>
                  </a:lnTo>
                  <a:lnTo>
                    <a:pt x="440" y="335"/>
                  </a:lnTo>
                  <a:lnTo>
                    <a:pt x="400" y="337"/>
                  </a:lnTo>
                  <a:lnTo>
                    <a:pt x="357" y="335"/>
                  </a:lnTo>
                  <a:lnTo>
                    <a:pt x="315" y="333"/>
                  </a:lnTo>
                  <a:lnTo>
                    <a:pt x="270" y="330"/>
                  </a:lnTo>
                  <a:lnTo>
                    <a:pt x="226" y="325"/>
                  </a:lnTo>
                  <a:lnTo>
                    <a:pt x="182" y="320"/>
                  </a:lnTo>
                  <a:lnTo>
                    <a:pt x="136" y="311"/>
                  </a:lnTo>
                  <a:lnTo>
                    <a:pt x="92" y="303"/>
                  </a:lnTo>
                  <a:lnTo>
                    <a:pt x="46" y="291"/>
                  </a:lnTo>
                  <a:lnTo>
                    <a:pt x="0" y="279"/>
                  </a:lnTo>
                </a:path>
              </a:pathLst>
            </a:custGeom>
            <a:noFill/>
            <a:ln w="57240">
              <a:solidFill>
                <a:srgbClr val="3365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321400" y="6183000"/>
              <a:ext cx="306720" cy="249120"/>
            </a:xfrm>
            <a:custGeom>
              <a:avLst/>
              <a:gdLst/>
              <a:ahLst/>
              <a:rect l="l" t="t" r="r" b="b"/>
              <a:pathLst>
                <a:path w="897" h="710">
                  <a:moveTo>
                    <a:pt x="7" y="0"/>
                  </a:moveTo>
                  <a:lnTo>
                    <a:pt x="7" y="0"/>
                  </a:lnTo>
                  <a:lnTo>
                    <a:pt x="1" y="22"/>
                  </a:lnTo>
                  <a:lnTo>
                    <a:pt x="0" y="44"/>
                  </a:lnTo>
                  <a:lnTo>
                    <a:pt x="0" y="68"/>
                  </a:lnTo>
                  <a:lnTo>
                    <a:pt x="3" y="90"/>
                  </a:lnTo>
                  <a:lnTo>
                    <a:pt x="8" y="113"/>
                  </a:lnTo>
                  <a:lnTo>
                    <a:pt x="15" y="137"/>
                  </a:lnTo>
                  <a:lnTo>
                    <a:pt x="25" y="163"/>
                  </a:lnTo>
                  <a:lnTo>
                    <a:pt x="39" y="187"/>
                  </a:lnTo>
                  <a:lnTo>
                    <a:pt x="54" y="210"/>
                  </a:lnTo>
                  <a:lnTo>
                    <a:pt x="71" y="236"/>
                  </a:lnTo>
                  <a:lnTo>
                    <a:pt x="90" y="260"/>
                  </a:lnTo>
                  <a:lnTo>
                    <a:pt x="112" y="285"/>
                  </a:lnTo>
                  <a:lnTo>
                    <a:pt x="134" y="309"/>
                  </a:lnTo>
                  <a:lnTo>
                    <a:pt x="159" y="334"/>
                  </a:lnTo>
                  <a:lnTo>
                    <a:pt x="188" y="358"/>
                  </a:lnTo>
                  <a:lnTo>
                    <a:pt x="217" y="382"/>
                  </a:lnTo>
                  <a:lnTo>
                    <a:pt x="248" y="407"/>
                  </a:lnTo>
                  <a:lnTo>
                    <a:pt x="280" y="431"/>
                  </a:lnTo>
                  <a:lnTo>
                    <a:pt x="316" y="453"/>
                  </a:lnTo>
                  <a:lnTo>
                    <a:pt x="351" y="477"/>
                  </a:lnTo>
                  <a:lnTo>
                    <a:pt x="389" y="499"/>
                  </a:lnTo>
                  <a:lnTo>
                    <a:pt x="430" y="521"/>
                  </a:lnTo>
                  <a:lnTo>
                    <a:pt x="470" y="543"/>
                  </a:lnTo>
                  <a:lnTo>
                    <a:pt x="513" y="565"/>
                  </a:lnTo>
                  <a:lnTo>
                    <a:pt x="555" y="586"/>
                  </a:lnTo>
                  <a:lnTo>
                    <a:pt x="601" y="606"/>
                  </a:lnTo>
                  <a:lnTo>
                    <a:pt x="647" y="625"/>
                  </a:lnTo>
                  <a:lnTo>
                    <a:pt x="695" y="643"/>
                  </a:lnTo>
                  <a:lnTo>
                    <a:pt x="744" y="662"/>
                  </a:lnTo>
                  <a:lnTo>
                    <a:pt x="793" y="679"/>
                  </a:lnTo>
                  <a:lnTo>
                    <a:pt x="844" y="694"/>
                  </a:lnTo>
                  <a:lnTo>
                    <a:pt x="897" y="710"/>
                  </a:lnTo>
                </a:path>
              </a:pathLst>
            </a:custGeom>
            <a:noFill/>
            <a:ln w="57240">
              <a:solidFill>
                <a:srgbClr val="3365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8629560" y="6386760"/>
              <a:ext cx="387360" cy="77760"/>
            </a:xfrm>
            <a:custGeom>
              <a:avLst/>
              <a:gdLst/>
              <a:ahLst/>
              <a:rect l="l" t="t" r="r" b="b"/>
              <a:pathLst>
                <a:path w="1132" h="224">
                  <a:moveTo>
                    <a:pt x="1132" y="0"/>
                  </a:moveTo>
                  <a:lnTo>
                    <a:pt x="1132" y="0"/>
                  </a:lnTo>
                  <a:lnTo>
                    <a:pt x="1125" y="22"/>
                  </a:lnTo>
                  <a:lnTo>
                    <a:pt x="1115" y="43"/>
                  </a:lnTo>
                  <a:lnTo>
                    <a:pt x="1103" y="61"/>
                  </a:lnTo>
                  <a:lnTo>
                    <a:pt x="1087" y="80"/>
                  </a:lnTo>
                  <a:lnTo>
                    <a:pt x="1070" y="97"/>
                  </a:lnTo>
                  <a:lnTo>
                    <a:pt x="1050" y="114"/>
                  </a:lnTo>
                  <a:lnTo>
                    <a:pt x="1030" y="129"/>
                  </a:lnTo>
                  <a:lnTo>
                    <a:pt x="1006" y="143"/>
                  </a:lnTo>
                  <a:lnTo>
                    <a:pt x="980" y="155"/>
                  </a:lnTo>
                  <a:lnTo>
                    <a:pt x="953" y="167"/>
                  </a:lnTo>
                  <a:lnTo>
                    <a:pt x="923" y="179"/>
                  </a:lnTo>
                  <a:lnTo>
                    <a:pt x="892" y="187"/>
                  </a:lnTo>
                  <a:lnTo>
                    <a:pt x="860" y="196"/>
                  </a:lnTo>
                  <a:lnTo>
                    <a:pt x="824" y="204"/>
                  </a:lnTo>
                  <a:lnTo>
                    <a:pt x="788" y="209"/>
                  </a:lnTo>
                  <a:lnTo>
                    <a:pt x="751" y="214"/>
                  </a:lnTo>
                  <a:lnTo>
                    <a:pt x="712" y="219"/>
                  </a:lnTo>
                  <a:lnTo>
                    <a:pt x="671" y="221"/>
                  </a:lnTo>
                  <a:lnTo>
                    <a:pt x="629" y="223"/>
                  </a:lnTo>
                  <a:lnTo>
                    <a:pt x="586" y="224"/>
                  </a:lnTo>
                  <a:lnTo>
                    <a:pt x="542" y="223"/>
                  </a:lnTo>
                  <a:lnTo>
                    <a:pt x="498" y="221"/>
                  </a:lnTo>
                  <a:lnTo>
                    <a:pt x="450" y="218"/>
                  </a:lnTo>
                  <a:lnTo>
                    <a:pt x="405" y="214"/>
                  </a:lnTo>
                  <a:lnTo>
                    <a:pt x="355" y="207"/>
                  </a:lnTo>
                  <a:lnTo>
                    <a:pt x="306" y="202"/>
                  </a:lnTo>
                  <a:lnTo>
                    <a:pt x="257" y="194"/>
                  </a:lnTo>
                  <a:lnTo>
                    <a:pt x="207" y="184"/>
                  </a:lnTo>
                  <a:lnTo>
                    <a:pt x="156" y="173"/>
                  </a:lnTo>
                  <a:lnTo>
                    <a:pt x="106" y="162"/>
                  </a:lnTo>
                  <a:lnTo>
                    <a:pt x="53" y="150"/>
                  </a:lnTo>
                  <a:lnTo>
                    <a:pt x="0" y="134"/>
                  </a:lnTo>
                </a:path>
              </a:pathLst>
            </a:custGeom>
            <a:noFill/>
            <a:ln w="57240">
              <a:solidFill>
                <a:srgbClr val="336599"/>
              </a:solidFill>
              <a:round/>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7" name="Freeform 29"/>
            <p:cNvSpPr/>
            <p:nvPr/>
          </p:nvSpPr>
          <p:spPr>
            <a:xfrm>
              <a:off x="8357760" y="6405840"/>
              <a:ext cx="234720" cy="156960"/>
            </a:xfrm>
            <a:custGeom>
              <a:avLst/>
              <a:gdLst/>
              <a:ahLst/>
              <a:rect l="l" t="t" r="r" b="b"/>
              <a:pathLst>
                <a:path w="688" h="450">
                  <a:moveTo>
                    <a:pt x="4" y="0"/>
                  </a:moveTo>
                  <a:lnTo>
                    <a:pt x="4" y="0"/>
                  </a:lnTo>
                  <a:lnTo>
                    <a:pt x="2" y="11"/>
                  </a:lnTo>
                  <a:lnTo>
                    <a:pt x="0" y="25"/>
                  </a:lnTo>
                  <a:lnTo>
                    <a:pt x="2" y="39"/>
                  </a:lnTo>
                  <a:lnTo>
                    <a:pt x="5" y="51"/>
                  </a:lnTo>
                  <a:lnTo>
                    <a:pt x="10" y="66"/>
                  </a:lnTo>
                  <a:lnTo>
                    <a:pt x="17" y="79"/>
                  </a:lnTo>
                  <a:lnTo>
                    <a:pt x="26" y="93"/>
                  </a:lnTo>
                  <a:lnTo>
                    <a:pt x="36" y="108"/>
                  </a:lnTo>
                  <a:lnTo>
                    <a:pt x="48" y="122"/>
                  </a:lnTo>
                  <a:lnTo>
                    <a:pt x="61" y="137"/>
                  </a:lnTo>
                  <a:lnTo>
                    <a:pt x="94" y="168"/>
                  </a:lnTo>
                  <a:lnTo>
                    <a:pt x="133" y="198"/>
                  </a:lnTo>
                  <a:lnTo>
                    <a:pt x="175" y="229"/>
                  </a:lnTo>
                  <a:lnTo>
                    <a:pt x="224" y="259"/>
                  </a:lnTo>
                  <a:lnTo>
                    <a:pt x="279" y="288"/>
                  </a:lnTo>
                  <a:lnTo>
                    <a:pt x="338" y="319"/>
                  </a:lnTo>
                  <a:lnTo>
                    <a:pt x="401" y="348"/>
                  </a:lnTo>
                  <a:lnTo>
                    <a:pt x="467" y="375"/>
                  </a:lnTo>
                  <a:lnTo>
                    <a:pt x="537" y="400"/>
                  </a:lnTo>
                  <a:lnTo>
                    <a:pt x="612" y="426"/>
                  </a:lnTo>
                  <a:lnTo>
                    <a:pt x="688" y="450"/>
                  </a:lnTo>
                </a:path>
              </a:pathLst>
            </a:custGeom>
            <a:noFill/>
            <a:ln w="57240">
              <a:solidFill>
                <a:srgbClr val="3365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8591400" y="6562800"/>
              <a:ext cx="240840" cy="37800"/>
            </a:xfrm>
            <a:custGeom>
              <a:avLst/>
              <a:gdLst/>
              <a:ahLst/>
              <a:rect l="l" t="t" r="r" b="b"/>
              <a:pathLst>
                <a:path w="707" h="107">
                  <a:moveTo>
                    <a:pt x="707" y="73"/>
                  </a:moveTo>
                  <a:lnTo>
                    <a:pt x="707" y="73"/>
                  </a:lnTo>
                  <a:lnTo>
                    <a:pt x="705" y="78"/>
                  </a:lnTo>
                  <a:lnTo>
                    <a:pt x="700" y="83"/>
                  </a:lnTo>
                  <a:lnTo>
                    <a:pt x="695" y="88"/>
                  </a:lnTo>
                  <a:lnTo>
                    <a:pt x="686" y="93"/>
                  </a:lnTo>
                  <a:lnTo>
                    <a:pt x="678" y="97"/>
                  </a:lnTo>
                  <a:lnTo>
                    <a:pt x="668" y="100"/>
                  </a:lnTo>
                  <a:lnTo>
                    <a:pt x="642" y="104"/>
                  </a:lnTo>
                  <a:lnTo>
                    <a:pt x="610" y="107"/>
                  </a:lnTo>
                  <a:lnTo>
                    <a:pt x="574" y="107"/>
                  </a:lnTo>
                  <a:lnTo>
                    <a:pt x="532" y="105"/>
                  </a:lnTo>
                  <a:lnTo>
                    <a:pt x="486" y="100"/>
                  </a:lnTo>
                  <a:lnTo>
                    <a:pt x="437" y="95"/>
                  </a:lnTo>
                  <a:lnTo>
                    <a:pt x="382" y="87"/>
                  </a:lnTo>
                  <a:lnTo>
                    <a:pt x="326" y="76"/>
                  </a:lnTo>
                  <a:lnTo>
                    <a:pt x="265" y="66"/>
                  </a:lnTo>
                  <a:lnTo>
                    <a:pt x="202" y="51"/>
                  </a:lnTo>
                  <a:lnTo>
                    <a:pt x="136" y="36"/>
                  </a:lnTo>
                  <a:lnTo>
                    <a:pt x="70" y="19"/>
                  </a:lnTo>
                  <a:lnTo>
                    <a:pt x="0" y="0"/>
                  </a:lnTo>
                </a:path>
              </a:pathLst>
            </a:custGeom>
            <a:noFill/>
            <a:ln w="57240">
              <a:solidFill>
                <a:srgbClr val="336599"/>
              </a:solidFill>
              <a:round/>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29" name="Line 31"/>
            <p:cNvSpPr/>
            <p:nvPr/>
          </p:nvSpPr>
          <p:spPr>
            <a:xfrm flipH="1">
              <a:off x="8581320" y="5892840"/>
              <a:ext cx="201240" cy="722520"/>
            </a:xfrm>
            <a:prstGeom prst="line">
              <a:avLst/>
            </a:prstGeom>
            <a:ln w="57240">
              <a:solidFill>
                <a:srgbClr val="3365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8317080" y="5877000"/>
              <a:ext cx="725400" cy="749160"/>
            </a:xfrm>
            <a:custGeom>
              <a:avLst/>
              <a:gdLst/>
              <a:ahLst/>
              <a:rect l="l" t="t" r="r" b="b"/>
              <a:pathLst>
                <a:path w="2117" h="2132">
                  <a:moveTo>
                    <a:pt x="2076" y="1357"/>
                  </a:moveTo>
                  <a:lnTo>
                    <a:pt x="2076" y="1357"/>
                  </a:lnTo>
                  <a:lnTo>
                    <a:pt x="2059" y="1410"/>
                  </a:lnTo>
                  <a:lnTo>
                    <a:pt x="2041" y="1461"/>
                  </a:lnTo>
                  <a:lnTo>
                    <a:pt x="2020" y="1510"/>
                  </a:lnTo>
                  <a:lnTo>
                    <a:pt x="1996" y="1558"/>
                  </a:lnTo>
                  <a:lnTo>
                    <a:pt x="1971" y="1604"/>
                  </a:lnTo>
                  <a:lnTo>
                    <a:pt x="1944" y="1650"/>
                  </a:lnTo>
                  <a:lnTo>
                    <a:pt x="1913" y="1692"/>
                  </a:lnTo>
                  <a:lnTo>
                    <a:pt x="1883" y="1733"/>
                  </a:lnTo>
                  <a:lnTo>
                    <a:pt x="1849" y="1774"/>
                  </a:lnTo>
                  <a:lnTo>
                    <a:pt x="1813" y="1811"/>
                  </a:lnTo>
                  <a:lnTo>
                    <a:pt x="1777" y="1847"/>
                  </a:lnTo>
                  <a:lnTo>
                    <a:pt x="1738" y="1881"/>
                  </a:lnTo>
                  <a:lnTo>
                    <a:pt x="1699" y="1913"/>
                  </a:lnTo>
                  <a:lnTo>
                    <a:pt x="1657" y="1944"/>
                  </a:lnTo>
                  <a:lnTo>
                    <a:pt x="1614" y="1971"/>
                  </a:lnTo>
                  <a:lnTo>
                    <a:pt x="1572" y="1998"/>
                  </a:lnTo>
                  <a:lnTo>
                    <a:pt x="1526" y="2022"/>
                  </a:lnTo>
                  <a:lnTo>
                    <a:pt x="1480" y="2042"/>
                  </a:lnTo>
                  <a:lnTo>
                    <a:pt x="1432" y="2062"/>
                  </a:lnTo>
                  <a:lnTo>
                    <a:pt x="1385" y="2079"/>
                  </a:lnTo>
                  <a:lnTo>
                    <a:pt x="1336" y="2095"/>
                  </a:lnTo>
                  <a:lnTo>
                    <a:pt x="1286" y="2107"/>
                  </a:lnTo>
                  <a:lnTo>
                    <a:pt x="1235" y="2117"/>
                  </a:lnTo>
                  <a:lnTo>
                    <a:pt x="1184" y="2125"/>
                  </a:lnTo>
                  <a:lnTo>
                    <a:pt x="1133" y="2130"/>
                  </a:lnTo>
                  <a:lnTo>
                    <a:pt x="1081" y="2132"/>
                  </a:lnTo>
                  <a:lnTo>
                    <a:pt x="1030" y="2132"/>
                  </a:lnTo>
                  <a:lnTo>
                    <a:pt x="977" y="2130"/>
                  </a:lnTo>
                  <a:lnTo>
                    <a:pt x="924" y="2125"/>
                  </a:lnTo>
                  <a:lnTo>
                    <a:pt x="872" y="2117"/>
                  </a:lnTo>
                  <a:lnTo>
                    <a:pt x="819" y="2107"/>
                  </a:lnTo>
                  <a:lnTo>
                    <a:pt x="766" y="2093"/>
                  </a:lnTo>
                  <a:lnTo>
                    <a:pt x="766" y="2093"/>
                  </a:lnTo>
                  <a:lnTo>
                    <a:pt x="714" y="2076"/>
                  </a:lnTo>
                  <a:lnTo>
                    <a:pt x="663" y="2057"/>
                  </a:lnTo>
                  <a:lnTo>
                    <a:pt x="613" y="2037"/>
                  </a:lnTo>
                  <a:lnTo>
                    <a:pt x="568" y="2013"/>
                  </a:lnTo>
                  <a:lnTo>
                    <a:pt x="520" y="1988"/>
                  </a:lnTo>
                  <a:lnTo>
                    <a:pt x="476" y="1961"/>
                  </a:lnTo>
                  <a:lnTo>
                    <a:pt x="433" y="1930"/>
                  </a:lnTo>
                  <a:lnTo>
                    <a:pt x="393" y="1899"/>
                  </a:lnTo>
                  <a:lnTo>
                    <a:pt x="354" y="1865"/>
                  </a:lnTo>
                  <a:lnTo>
                    <a:pt x="316" y="1830"/>
                  </a:lnTo>
                  <a:lnTo>
                    <a:pt x="281" y="1794"/>
                  </a:lnTo>
                  <a:lnTo>
                    <a:pt x="247" y="1755"/>
                  </a:lnTo>
                  <a:lnTo>
                    <a:pt x="216" y="1714"/>
                  </a:lnTo>
                  <a:lnTo>
                    <a:pt x="185" y="1673"/>
                  </a:lnTo>
                  <a:lnTo>
                    <a:pt x="158" y="1631"/>
                  </a:lnTo>
                  <a:lnTo>
                    <a:pt x="133" y="1587"/>
                  </a:lnTo>
                  <a:lnTo>
                    <a:pt x="109" y="1541"/>
                  </a:lnTo>
                  <a:lnTo>
                    <a:pt x="87" y="1495"/>
                  </a:lnTo>
                  <a:lnTo>
                    <a:pt x="68" y="1448"/>
                  </a:lnTo>
                  <a:lnTo>
                    <a:pt x="51" y="1400"/>
                  </a:lnTo>
                  <a:lnTo>
                    <a:pt x="38" y="1351"/>
                  </a:lnTo>
                  <a:lnTo>
                    <a:pt x="24" y="1300"/>
                  </a:lnTo>
                  <a:lnTo>
                    <a:pt x="15" y="1249"/>
                  </a:lnTo>
                  <a:lnTo>
                    <a:pt x="7" y="1198"/>
                  </a:lnTo>
                  <a:lnTo>
                    <a:pt x="2" y="1147"/>
                  </a:lnTo>
                  <a:lnTo>
                    <a:pt x="0" y="1094"/>
                  </a:lnTo>
                  <a:lnTo>
                    <a:pt x="0" y="1042"/>
                  </a:lnTo>
                  <a:lnTo>
                    <a:pt x="4" y="989"/>
                  </a:lnTo>
                  <a:lnTo>
                    <a:pt x="9" y="936"/>
                  </a:lnTo>
                  <a:lnTo>
                    <a:pt x="17" y="882"/>
                  </a:lnTo>
                  <a:lnTo>
                    <a:pt x="27" y="829"/>
                  </a:lnTo>
                  <a:lnTo>
                    <a:pt x="41" y="777"/>
                  </a:lnTo>
                  <a:lnTo>
                    <a:pt x="41" y="777"/>
                  </a:lnTo>
                  <a:lnTo>
                    <a:pt x="58" y="724"/>
                  </a:lnTo>
                  <a:lnTo>
                    <a:pt x="77" y="673"/>
                  </a:lnTo>
                  <a:lnTo>
                    <a:pt x="99" y="624"/>
                  </a:lnTo>
                  <a:lnTo>
                    <a:pt x="121" y="576"/>
                  </a:lnTo>
                  <a:lnTo>
                    <a:pt x="146" y="529"/>
                  </a:lnTo>
                  <a:lnTo>
                    <a:pt x="175" y="484"/>
                  </a:lnTo>
                  <a:lnTo>
                    <a:pt x="204" y="442"/>
                  </a:lnTo>
                  <a:lnTo>
                    <a:pt x="236" y="399"/>
                  </a:lnTo>
                  <a:lnTo>
                    <a:pt x="269" y="360"/>
                  </a:lnTo>
                  <a:lnTo>
                    <a:pt x="304" y="323"/>
                  </a:lnTo>
                  <a:lnTo>
                    <a:pt x="340" y="286"/>
                  </a:lnTo>
                  <a:lnTo>
                    <a:pt x="379" y="252"/>
                  </a:lnTo>
                  <a:lnTo>
                    <a:pt x="418" y="219"/>
                  </a:lnTo>
                  <a:lnTo>
                    <a:pt x="461" y="190"/>
                  </a:lnTo>
                  <a:lnTo>
                    <a:pt x="503" y="162"/>
                  </a:lnTo>
                  <a:lnTo>
                    <a:pt x="547" y="136"/>
                  </a:lnTo>
                  <a:lnTo>
                    <a:pt x="591" y="112"/>
                  </a:lnTo>
                  <a:lnTo>
                    <a:pt x="637" y="90"/>
                  </a:lnTo>
                  <a:lnTo>
                    <a:pt x="685" y="72"/>
                  </a:lnTo>
                  <a:lnTo>
                    <a:pt x="732" y="53"/>
                  </a:lnTo>
                  <a:lnTo>
                    <a:pt x="782" y="39"/>
                  </a:lnTo>
                  <a:lnTo>
                    <a:pt x="831" y="26"/>
                  </a:lnTo>
                  <a:lnTo>
                    <a:pt x="882" y="15"/>
                  </a:lnTo>
                  <a:lnTo>
                    <a:pt x="933" y="9"/>
                  </a:lnTo>
                  <a:lnTo>
                    <a:pt x="984" y="4"/>
                  </a:lnTo>
                  <a:lnTo>
                    <a:pt x="1037" y="0"/>
                  </a:lnTo>
                  <a:lnTo>
                    <a:pt x="1087" y="0"/>
                  </a:lnTo>
                  <a:lnTo>
                    <a:pt x="1140" y="4"/>
                  </a:lnTo>
                  <a:lnTo>
                    <a:pt x="1193" y="9"/>
                  </a:lnTo>
                  <a:lnTo>
                    <a:pt x="1245" y="17"/>
                  </a:lnTo>
                  <a:lnTo>
                    <a:pt x="1300" y="27"/>
                  </a:lnTo>
                  <a:lnTo>
                    <a:pt x="1353" y="41"/>
                  </a:lnTo>
                  <a:lnTo>
                    <a:pt x="1353" y="41"/>
                  </a:lnTo>
                  <a:lnTo>
                    <a:pt x="1403" y="56"/>
                  </a:lnTo>
                  <a:lnTo>
                    <a:pt x="1454" y="75"/>
                  </a:lnTo>
                  <a:lnTo>
                    <a:pt x="1504" y="97"/>
                  </a:lnTo>
                  <a:lnTo>
                    <a:pt x="1551" y="121"/>
                  </a:lnTo>
                  <a:lnTo>
                    <a:pt x="1597" y="146"/>
                  </a:lnTo>
                  <a:lnTo>
                    <a:pt x="1641" y="173"/>
                  </a:lnTo>
                  <a:lnTo>
                    <a:pt x="1684" y="202"/>
                  </a:lnTo>
                  <a:lnTo>
                    <a:pt x="1725" y="235"/>
                  </a:lnTo>
                  <a:lnTo>
                    <a:pt x="1764" y="269"/>
                  </a:lnTo>
                  <a:lnTo>
                    <a:pt x="1801" y="303"/>
                  </a:lnTo>
                  <a:lnTo>
                    <a:pt x="1837" y="340"/>
                  </a:lnTo>
                  <a:lnTo>
                    <a:pt x="1871" y="379"/>
                  </a:lnTo>
                  <a:lnTo>
                    <a:pt x="1903" y="418"/>
                  </a:lnTo>
                  <a:lnTo>
                    <a:pt x="1932" y="461"/>
                  </a:lnTo>
                  <a:lnTo>
                    <a:pt x="1959" y="503"/>
                  </a:lnTo>
                  <a:lnTo>
                    <a:pt x="1984" y="547"/>
                  </a:lnTo>
                  <a:lnTo>
                    <a:pt x="2008" y="591"/>
                  </a:lnTo>
                  <a:lnTo>
                    <a:pt x="2030" y="639"/>
                  </a:lnTo>
                  <a:lnTo>
                    <a:pt x="2049" y="685"/>
                  </a:lnTo>
                  <a:lnTo>
                    <a:pt x="2066" y="734"/>
                  </a:lnTo>
                  <a:lnTo>
                    <a:pt x="2081" y="783"/>
                  </a:lnTo>
                  <a:lnTo>
                    <a:pt x="2093" y="833"/>
                  </a:lnTo>
                  <a:lnTo>
                    <a:pt x="2103" y="884"/>
                  </a:lnTo>
                  <a:lnTo>
                    <a:pt x="2110" y="934"/>
                  </a:lnTo>
                  <a:lnTo>
                    <a:pt x="2115" y="987"/>
                  </a:lnTo>
                  <a:lnTo>
                    <a:pt x="2117" y="1038"/>
                  </a:lnTo>
                  <a:lnTo>
                    <a:pt x="2117" y="1091"/>
                  </a:lnTo>
                  <a:lnTo>
                    <a:pt x="2114" y="1145"/>
                  </a:lnTo>
                  <a:lnTo>
                    <a:pt x="2109" y="1198"/>
                  </a:lnTo>
                  <a:lnTo>
                    <a:pt x="2100" y="1250"/>
                  </a:lnTo>
                  <a:lnTo>
                    <a:pt x="2090" y="1303"/>
                  </a:lnTo>
                  <a:lnTo>
                    <a:pt x="2076" y="1357"/>
                  </a:lnTo>
                  <a:lnTo>
                    <a:pt x="2076" y="1357"/>
                  </a:lnTo>
                  <a:close/>
                </a:path>
              </a:pathLst>
            </a:custGeom>
            <a:noFill/>
            <a:ln w="57240">
              <a:solidFill>
                <a:srgbClr val="3365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8318160" y="5877000"/>
              <a:ext cx="725760" cy="749160"/>
            </a:xfrm>
            <a:custGeom>
              <a:avLst/>
              <a:gdLst/>
              <a:ahLst/>
              <a:rect l="l" t="t" r="r" b="b"/>
              <a:pathLst>
                <a:path w="2117" h="2132">
                  <a:moveTo>
                    <a:pt x="2076" y="1357"/>
                  </a:moveTo>
                  <a:lnTo>
                    <a:pt x="2076" y="1357"/>
                  </a:lnTo>
                  <a:lnTo>
                    <a:pt x="2059" y="1408"/>
                  </a:lnTo>
                  <a:lnTo>
                    <a:pt x="2040" y="1459"/>
                  </a:lnTo>
                  <a:lnTo>
                    <a:pt x="2020" y="1510"/>
                  </a:lnTo>
                  <a:lnTo>
                    <a:pt x="1996" y="1558"/>
                  </a:lnTo>
                  <a:lnTo>
                    <a:pt x="1971" y="1604"/>
                  </a:lnTo>
                  <a:lnTo>
                    <a:pt x="1944" y="1648"/>
                  </a:lnTo>
                  <a:lnTo>
                    <a:pt x="1913" y="1692"/>
                  </a:lnTo>
                  <a:lnTo>
                    <a:pt x="1882" y="1733"/>
                  </a:lnTo>
                  <a:lnTo>
                    <a:pt x="1848" y="1773"/>
                  </a:lnTo>
                  <a:lnTo>
                    <a:pt x="1813" y="1811"/>
                  </a:lnTo>
                  <a:lnTo>
                    <a:pt x="1777" y="1846"/>
                  </a:lnTo>
                  <a:lnTo>
                    <a:pt x="1738" y="1880"/>
                  </a:lnTo>
                  <a:lnTo>
                    <a:pt x="1699" y="1913"/>
                  </a:lnTo>
                  <a:lnTo>
                    <a:pt x="1656" y="1943"/>
                  </a:lnTo>
                  <a:lnTo>
                    <a:pt x="1614" y="1970"/>
                  </a:lnTo>
                  <a:lnTo>
                    <a:pt x="1570" y="1998"/>
                  </a:lnTo>
                  <a:lnTo>
                    <a:pt x="1526" y="2021"/>
                  </a:lnTo>
                  <a:lnTo>
                    <a:pt x="1480" y="2042"/>
                  </a:lnTo>
                  <a:lnTo>
                    <a:pt x="1432" y="2062"/>
                  </a:lnTo>
                  <a:lnTo>
                    <a:pt x="1385" y="2079"/>
                  </a:lnTo>
                  <a:lnTo>
                    <a:pt x="1335" y="2094"/>
                  </a:lnTo>
                  <a:lnTo>
                    <a:pt x="1286" y="2106"/>
                  </a:lnTo>
                  <a:lnTo>
                    <a:pt x="1235" y="2117"/>
                  </a:lnTo>
                  <a:lnTo>
                    <a:pt x="1184" y="2125"/>
                  </a:lnTo>
                  <a:lnTo>
                    <a:pt x="1133" y="2130"/>
                  </a:lnTo>
                  <a:lnTo>
                    <a:pt x="1080" y="2132"/>
                  </a:lnTo>
                  <a:lnTo>
                    <a:pt x="1030" y="2132"/>
                  </a:lnTo>
                  <a:lnTo>
                    <a:pt x="977" y="2130"/>
                  </a:lnTo>
                  <a:lnTo>
                    <a:pt x="924" y="2125"/>
                  </a:lnTo>
                  <a:lnTo>
                    <a:pt x="872" y="2117"/>
                  </a:lnTo>
                  <a:lnTo>
                    <a:pt x="819" y="2105"/>
                  </a:lnTo>
                  <a:lnTo>
                    <a:pt x="766" y="2091"/>
                  </a:lnTo>
                  <a:lnTo>
                    <a:pt x="766" y="2091"/>
                  </a:lnTo>
                  <a:lnTo>
                    <a:pt x="714" y="2076"/>
                  </a:lnTo>
                  <a:lnTo>
                    <a:pt x="663" y="2057"/>
                  </a:lnTo>
                  <a:lnTo>
                    <a:pt x="613" y="2035"/>
                  </a:lnTo>
                  <a:lnTo>
                    <a:pt x="566" y="2013"/>
                  </a:lnTo>
                  <a:lnTo>
                    <a:pt x="520" y="1987"/>
                  </a:lnTo>
                  <a:lnTo>
                    <a:pt x="476" y="1959"/>
                  </a:lnTo>
                  <a:lnTo>
                    <a:pt x="433" y="1930"/>
                  </a:lnTo>
                  <a:lnTo>
                    <a:pt x="392" y="1897"/>
                  </a:lnTo>
                  <a:lnTo>
                    <a:pt x="353" y="1865"/>
                  </a:lnTo>
                  <a:lnTo>
                    <a:pt x="316" y="1829"/>
                  </a:lnTo>
                  <a:lnTo>
                    <a:pt x="280" y="1792"/>
                  </a:lnTo>
                  <a:lnTo>
                    <a:pt x="246" y="1755"/>
                  </a:lnTo>
                  <a:lnTo>
                    <a:pt x="216" y="1714"/>
                  </a:lnTo>
                  <a:lnTo>
                    <a:pt x="185" y="1673"/>
                  </a:lnTo>
                  <a:lnTo>
                    <a:pt x="158" y="1631"/>
                  </a:lnTo>
                  <a:lnTo>
                    <a:pt x="133" y="1587"/>
                  </a:lnTo>
                  <a:lnTo>
                    <a:pt x="109" y="1541"/>
                  </a:lnTo>
                  <a:lnTo>
                    <a:pt x="87" y="1495"/>
                  </a:lnTo>
                  <a:lnTo>
                    <a:pt x="68" y="1447"/>
                  </a:lnTo>
                  <a:lnTo>
                    <a:pt x="51" y="1398"/>
                  </a:lnTo>
                  <a:lnTo>
                    <a:pt x="37" y="1350"/>
                  </a:lnTo>
                  <a:lnTo>
                    <a:pt x="24" y="1299"/>
                  </a:lnTo>
                  <a:lnTo>
                    <a:pt x="15" y="1248"/>
                  </a:lnTo>
                  <a:lnTo>
                    <a:pt x="7" y="1198"/>
                  </a:lnTo>
                  <a:lnTo>
                    <a:pt x="2" y="1147"/>
                  </a:lnTo>
                  <a:lnTo>
                    <a:pt x="0" y="1094"/>
                  </a:lnTo>
                  <a:lnTo>
                    <a:pt x="0" y="1041"/>
                  </a:lnTo>
                  <a:lnTo>
                    <a:pt x="3" y="989"/>
                  </a:lnTo>
                  <a:lnTo>
                    <a:pt x="8" y="936"/>
                  </a:lnTo>
                  <a:lnTo>
                    <a:pt x="17" y="882"/>
                  </a:lnTo>
                  <a:lnTo>
                    <a:pt x="27" y="829"/>
                  </a:lnTo>
                  <a:lnTo>
                    <a:pt x="41" y="776"/>
                  </a:lnTo>
                  <a:lnTo>
                    <a:pt x="41" y="776"/>
                  </a:lnTo>
                  <a:lnTo>
                    <a:pt x="58" y="724"/>
                  </a:lnTo>
                  <a:lnTo>
                    <a:pt x="76" y="673"/>
                  </a:lnTo>
                  <a:lnTo>
                    <a:pt x="97" y="623"/>
                  </a:lnTo>
                  <a:lnTo>
                    <a:pt x="121" y="574"/>
                  </a:lnTo>
                  <a:lnTo>
                    <a:pt x="146" y="528"/>
                  </a:lnTo>
                  <a:lnTo>
                    <a:pt x="173" y="484"/>
                  </a:lnTo>
                  <a:lnTo>
                    <a:pt x="204" y="440"/>
                  </a:lnTo>
                  <a:lnTo>
                    <a:pt x="234" y="399"/>
                  </a:lnTo>
                  <a:lnTo>
                    <a:pt x="268" y="360"/>
                  </a:lnTo>
                  <a:lnTo>
                    <a:pt x="304" y="321"/>
                  </a:lnTo>
                  <a:lnTo>
                    <a:pt x="340" y="285"/>
                  </a:lnTo>
                  <a:lnTo>
                    <a:pt x="379" y="251"/>
                  </a:lnTo>
                  <a:lnTo>
                    <a:pt x="418" y="219"/>
                  </a:lnTo>
                  <a:lnTo>
                    <a:pt x="460" y="190"/>
                  </a:lnTo>
                  <a:lnTo>
                    <a:pt x="503" y="161"/>
                  </a:lnTo>
                  <a:lnTo>
                    <a:pt x="547" y="136"/>
                  </a:lnTo>
                  <a:lnTo>
                    <a:pt x="591" y="112"/>
                  </a:lnTo>
                  <a:lnTo>
                    <a:pt x="637" y="90"/>
                  </a:lnTo>
                  <a:lnTo>
                    <a:pt x="685" y="70"/>
                  </a:lnTo>
                  <a:lnTo>
                    <a:pt x="732" y="53"/>
                  </a:lnTo>
                  <a:lnTo>
                    <a:pt x="781" y="39"/>
                  </a:lnTo>
                  <a:lnTo>
                    <a:pt x="831" y="25"/>
                  </a:lnTo>
                  <a:lnTo>
                    <a:pt x="882" y="15"/>
                  </a:lnTo>
                  <a:lnTo>
                    <a:pt x="933" y="8"/>
                  </a:lnTo>
                  <a:lnTo>
                    <a:pt x="984" y="3"/>
                  </a:lnTo>
                  <a:lnTo>
                    <a:pt x="1036" y="0"/>
                  </a:lnTo>
                  <a:lnTo>
                    <a:pt x="1087" y="0"/>
                  </a:lnTo>
                  <a:lnTo>
                    <a:pt x="1140" y="3"/>
                  </a:lnTo>
                  <a:lnTo>
                    <a:pt x="1193" y="8"/>
                  </a:lnTo>
                  <a:lnTo>
                    <a:pt x="1245" y="15"/>
                  </a:lnTo>
                  <a:lnTo>
                    <a:pt x="1298" y="27"/>
                  </a:lnTo>
                  <a:lnTo>
                    <a:pt x="1351" y="41"/>
                  </a:lnTo>
                  <a:lnTo>
                    <a:pt x="1351" y="41"/>
                  </a:lnTo>
                  <a:lnTo>
                    <a:pt x="1403" y="56"/>
                  </a:lnTo>
                  <a:lnTo>
                    <a:pt x="1454" y="75"/>
                  </a:lnTo>
                  <a:lnTo>
                    <a:pt x="1504" y="97"/>
                  </a:lnTo>
                  <a:lnTo>
                    <a:pt x="1551" y="119"/>
                  </a:lnTo>
                  <a:lnTo>
                    <a:pt x="1597" y="144"/>
                  </a:lnTo>
                  <a:lnTo>
                    <a:pt x="1641" y="173"/>
                  </a:lnTo>
                  <a:lnTo>
                    <a:pt x="1684" y="202"/>
                  </a:lnTo>
                  <a:lnTo>
                    <a:pt x="1724" y="234"/>
                  </a:lnTo>
                  <a:lnTo>
                    <a:pt x="1763" y="267"/>
                  </a:lnTo>
                  <a:lnTo>
                    <a:pt x="1801" y="302"/>
                  </a:lnTo>
                  <a:lnTo>
                    <a:pt x="1836" y="340"/>
                  </a:lnTo>
                  <a:lnTo>
                    <a:pt x="1870" y="377"/>
                  </a:lnTo>
                  <a:lnTo>
                    <a:pt x="1901" y="418"/>
                  </a:lnTo>
                  <a:lnTo>
                    <a:pt x="1932" y="459"/>
                  </a:lnTo>
                  <a:lnTo>
                    <a:pt x="1959" y="503"/>
                  </a:lnTo>
                  <a:lnTo>
                    <a:pt x="1984" y="547"/>
                  </a:lnTo>
                  <a:lnTo>
                    <a:pt x="2008" y="591"/>
                  </a:lnTo>
                  <a:lnTo>
                    <a:pt x="2030" y="637"/>
                  </a:lnTo>
                  <a:lnTo>
                    <a:pt x="2049" y="684"/>
                  </a:lnTo>
                  <a:lnTo>
                    <a:pt x="2066" y="734"/>
                  </a:lnTo>
                  <a:lnTo>
                    <a:pt x="2079" y="783"/>
                  </a:lnTo>
                  <a:lnTo>
                    <a:pt x="2093" y="832"/>
                  </a:lnTo>
                  <a:lnTo>
                    <a:pt x="2102" y="883"/>
                  </a:lnTo>
                  <a:lnTo>
                    <a:pt x="2110" y="934"/>
                  </a:lnTo>
                  <a:lnTo>
                    <a:pt x="2115" y="987"/>
                  </a:lnTo>
                  <a:lnTo>
                    <a:pt x="2117" y="1038"/>
                  </a:lnTo>
                  <a:lnTo>
                    <a:pt x="2117" y="1090"/>
                  </a:lnTo>
                  <a:lnTo>
                    <a:pt x="2113" y="1143"/>
                  </a:lnTo>
                  <a:lnTo>
                    <a:pt x="2108" y="1198"/>
                  </a:lnTo>
                  <a:lnTo>
                    <a:pt x="2100" y="1250"/>
                  </a:lnTo>
                  <a:lnTo>
                    <a:pt x="2090" y="1303"/>
                  </a:lnTo>
                  <a:lnTo>
                    <a:pt x="2076" y="1357"/>
                  </a:lnTo>
                  <a:lnTo>
                    <a:pt x="2076" y="1357"/>
                  </a:lnTo>
                  <a:close/>
                </a:path>
              </a:pathLst>
            </a:custGeom>
            <a:noFill/>
            <a:ln w="57240">
              <a:solidFill>
                <a:srgbClr val="3365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8357760" y="5950080"/>
              <a:ext cx="550800" cy="464760"/>
            </a:xfrm>
            <a:custGeom>
              <a:avLst/>
              <a:gdLst/>
              <a:ahLst/>
              <a:rect l="l" t="t" r="r" b="b"/>
              <a:pathLst>
                <a:path w="1609" h="1326">
                  <a:moveTo>
                    <a:pt x="0" y="1326"/>
                  </a:moveTo>
                  <a:lnTo>
                    <a:pt x="0" y="1326"/>
                  </a:lnTo>
                  <a:lnTo>
                    <a:pt x="26" y="1243"/>
                  </a:lnTo>
                  <a:lnTo>
                    <a:pt x="53" y="1162"/>
                  </a:lnTo>
                  <a:lnTo>
                    <a:pt x="83" y="1082"/>
                  </a:lnTo>
                  <a:lnTo>
                    <a:pt x="116" y="1005"/>
                  </a:lnTo>
                  <a:lnTo>
                    <a:pt x="151" y="931"/>
                  </a:lnTo>
                  <a:lnTo>
                    <a:pt x="189" y="858"/>
                  </a:lnTo>
                  <a:lnTo>
                    <a:pt x="228" y="786"/>
                  </a:lnTo>
                  <a:lnTo>
                    <a:pt x="269" y="718"/>
                  </a:lnTo>
                  <a:lnTo>
                    <a:pt x="311" y="654"/>
                  </a:lnTo>
                  <a:lnTo>
                    <a:pt x="357" y="591"/>
                  </a:lnTo>
                  <a:lnTo>
                    <a:pt x="403" y="531"/>
                  </a:lnTo>
                  <a:lnTo>
                    <a:pt x="452" y="474"/>
                  </a:lnTo>
                  <a:lnTo>
                    <a:pt x="501" y="419"/>
                  </a:lnTo>
                  <a:lnTo>
                    <a:pt x="552" y="367"/>
                  </a:lnTo>
                  <a:lnTo>
                    <a:pt x="605" y="319"/>
                  </a:lnTo>
                  <a:lnTo>
                    <a:pt x="658" y="273"/>
                  </a:lnTo>
                  <a:lnTo>
                    <a:pt x="714" y="231"/>
                  </a:lnTo>
                  <a:lnTo>
                    <a:pt x="768" y="192"/>
                  </a:lnTo>
                  <a:lnTo>
                    <a:pt x="826" y="156"/>
                  </a:lnTo>
                  <a:lnTo>
                    <a:pt x="884" y="124"/>
                  </a:lnTo>
                  <a:lnTo>
                    <a:pt x="941" y="97"/>
                  </a:lnTo>
                  <a:lnTo>
                    <a:pt x="1001" y="71"/>
                  </a:lnTo>
                  <a:lnTo>
                    <a:pt x="1060" y="49"/>
                  </a:lnTo>
                  <a:lnTo>
                    <a:pt x="1120" y="32"/>
                  </a:lnTo>
                  <a:lnTo>
                    <a:pt x="1181" y="17"/>
                  </a:lnTo>
                  <a:lnTo>
                    <a:pt x="1242" y="8"/>
                  </a:lnTo>
                  <a:lnTo>
                    <a:pt x="1303" y="1"/>
                  </a:lnTo>
                  <a:lnTo>
                    <a:pt x="1334" y="0"/>
                  </a:lnTo>
                  <a:lnTo>
                    <a:pt x="1364" y="0"/>
                  </a:lnTo>
                  <a:lnTo>
                    <a:pt x="1395" y="0"/>
                  </a:lnTo>
                  <a:lnTo>
                    <a:pt x="1425" y="1"/>
                  </a:lnTo>
                  <a:lnTo>
                    <a:pt x="1456" y="5"/>
                  </a:lnTo>
                  <a:lnTo>
                    <a:pt x="1487" y="8"/>
                  </a:lnTo>
                  <a:lnTo>
                    <a:pt x="1517" y="13"/>
                  </a:lnTo>
                  <a:lnTo>
                    <a:pt x="1548" y="18"/>
                  </a:lnTo>
                  <a:lnTo>
                    <a:pt x="1578" y="25"/>
                  </a:lnTo>
                  <a:lnTo>
                    <a:pt x="1609" y="34"/>
                  </a:lnTo>
                </a:path>
              </a:pathLst>
            </a:custGeom>
            <a:noFill/>
            <a:ln w="57240">
              <a:solidFill>
                <a:srgbClr val="3365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8639280" y="5880240"/>
              <a:ext cx="279000" cy="677520"/>
            </a:xfrm>
            <a:custGeom>
              <a:avLst/>
              <a:gdLst/>
              <a:ahLst/>
              <a:rect l="l" t="t" r="r" b="b"/>
              <a:pathLst>
                <a:path w="817" h="1928">
                  <a:moveTo>
                    <a:pt x="730" y="1928"/>
                  </a:moveTo>
                  <a:lnTo>
                    <a:pt x="730" y="1928"/>
                  </a:lnTo>
                  <a:lnTo>
                    <a:pt x="752" y="1845"/>
                  </a:lnTo>
                  <a:lnTo>
                    <a:pt x="771" y="1762"/>
                  </a:lnTo>
                  <a:lnTo>
                    <a:pt x="786" y="1680"/>
                  </a:lnTo>
                  <a:lnTo>
                    <a:pt x="800" y="1599"/>
                  </a:lnTo>
                  <a:lnTo>
                    <a:pt x="808" y="1517"/>
                  </a:lnTo>
                  <a:lnTo>
                    <a:pt x="813" y="1436"/>
                  </a:lnTo>
                  <a:lnTo>
                    <a:pt x="817" y="1358"/>
                  </a:lnTo>
                  <a:lnTo>
                    <a:pt x="815" y="1278"/>
                  </a:lnTo>
                  <a:lnTo>
                    <a:pt x="812" y="1201"/>
                  </a:lnTo>
                  <a:lnTo>
                    <a:pt x="805" y="1125"/>
                  </a:lnTo>
                  <a:lnTo>
                    <a:pt x="796" y="1050"/>
                  </a:lnTo>
                  <a:lnTo>
                    <a:pt x="783" y="977"/>
                  </a:lnTo>
                  <a:lnTo>
                    <a:pt x="768" y="906"/>
                  </a:lnTo>
                  <a:lnTo>
                    <a:pt x="751" y="836"/>
                  </a:lnTo>
                  <a:lnTo>
                    <a:pt x="729" y="767"/>
                  </a:lnTo>
                  <a:lnTo>
                    <a:pt x="706" y="702"/>
                  </a:lnTo>
                  <a:lnTo>
                    <a:pt x="679" y="637"/>
                  </a:lnTo>
                  <a:lnTo>
                    <a:pt x="650" y="575"/>
                  </a:lnTo>
                  <a:lnTo>
                    <a:pt x="620" y="515"/>
                  </a:lnTo>
                  <a:lnTo>
                    <a:pt x="586" y="457"/>
                  </a:lnTo>
                  <a:lnTo>
                    <a:pt x="548" y="403"/>
                  </a:lnTo>
                  <a:lnTo>
                    <a:pt x="511" y="352"/>
                  </a:lnTo>
                  <a:lnTo>
                    <a:pt x="469" y="301"/>
                  </a:lnTo>
                  <a:lnTo>
                    <a:pt x="426" y="255"/>
                  </a:lnTo>
                  <a:lnTo>
                    <a:pt x="380" y="211"/>
                  </a:lnTo>
                  <a:lnTo>
                    <a:pt x="333" y="172"/>
                  </a:lnTo>
                  <a:lnTo>
                    <a:pt x="282" y="135"/>
                  </a:lnTo>
                  <a:lnTo>
                    <a:pt x="229" y="101"/>
                  </a:lnTo>
                  <a:lnTo>
                    <a:pt x="175" y="70"/>
                  </a:lnTo>
                  <a:lnTo>
                    <a:pt x="147" y="56"/>
                  </a:lnTo>
                  <a:lnTo>
                    <a:pt x="119" y="43"/>
                  </a:lnTo>
                  <a:lnTo>
                    <a:pt x="90" y="31"/>
                  </a:lnTo>
                  <a:lnTo>
                    <a:pt x="61" y="19"/>
                  </a:lnTo>
                  <a:lnTo>
                    <a:pt x="30" y="9"/>
                  </a:lnTo>
                  <a:lnTo>
                    <a:pt x="0" y="0"/>
                  </a:lnTo>
                </a:path>
              </a:pathLst>
            </a:custGeom>
            <a:noFill/>
            <a:ln w="57240">
              <a:solidFill>
                <a:srgbClr val="3365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216000" y="1305000"/>
            <a:ext cx="1296720" cy="1081080"/>
            <a:chOff x="216000" y="1305000"/>
            <a:chExt cx="1296720" cy="1081080"/>
          </a:xfrm>
        </p:grpSpPr>
        <p:sp>
          <p:nvSpPr>
            <p:cNvPr id="35" name="AutoShape 37"/>
            <p:cNvSpPr/>
            <p:nvPr/>
          </p:nvSpPr>
          <p:spPr>
            <a:xfrm>
              <a:off x="216000" y="130500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6" name="Group 38"/>
            <p:cNvGrpSpPr/>
            <p:nvPr/>
          </p:nvGrpSpPr>
          <p:grpSpPr>
            <a:xfrm>
              <a:off x="463680" y="1449360"/>
              <a:ext cx="799920" cy="792360"/>
              <a:chOff x="463680" y="1449360"/>
              <a:chExt cx="799920" cy="792360"/>
            </a:xfrm>
          </p:grpSpPr>
          <p:sp>
            <p:nvSpPr>
              <p:cNvPr id="37" name="Freeform 39"/>
              <p:cNvSpPr/>
              <p:nvPr/>
            </p:nvSpPr>
            <p:spPr>
              <a:xfrm>
                <a:off x="749160" y="1449360"/>
                <a:ext cx="391680" cy="225360"/>
              </a:xfrm>
              <a:custGeom>
                <a:avLst/>
                <a:gdLst/>
                <a:ahLst/>
                <a:rect l="l" t="t" r="r" b="b"/>
                <a:pathLst>
                  <a:path w="1039" h="606">
                    <a:moveTo>
                      <a:pt x="1034" y="450"/>
                    </a:moveTo>
                    <a:lnTo>
                      <a:pt x="1034" y="450"/>
                    </a:lnTo>
                    <a:lnTo>
                      <a:pt x="1029" y="464"/>
                    </a:lnTo>
                    <a:lnTo>
                      <a:pt x="1024" y="476"/>
                    </a:lnTo>
                    <a:lnTo>
                      <a:pt x="1016" y="489"/>
                    </a:lnTo>
                    <a:lnTo>
                      <a:pt x="1009" y="501"/>
                    </a:lnTo>
                    <a:lnTo>
                      <a:pt x="999" y="511"/>
                    </a:lnTo>
                    <a:lnTo>
                      <a:pt x="988" y="523"/>
                    </a:lnTo>
                    <a:lnTo>
                      <a:pt x="976" y="532"/>
                    </a:lnTo>
                    <a:lnTo>
                      <a:pt x="965" y="542"/>
                    </a:lnTo>
                    <a:lnTo>
                      <a:pt x="951" y="550"/>
                    </a:lnTo>
                    <a:lnTo>
                      <a:pt x="936" y="559"/>
                    </a:lnTo>
                    <a:lnTo>
                      <a:pt x="903" y="574"/>
                    </a:lnTo>
                    <a:lnTo>
                      <a:pt x="868" y="586"/>
                    </a:lnTo>
                    <a:lnTo>
                      <a:pt x="830" y="594"/>
                    </a:lnTo>
                    <a:lnTo>
                      <a:pt x="788" y="601"/>
                    </a:lnTo>
                    <a:lnTo>
                      <a:pt x="744" y="606"/>
                    </a:lnTo>
                    <a:lnTo>
                      <a:pt x="698" y="606"/>
                    </a:lnTo>
                    <a:lnTo>
                      <a:pt x="650" y="605"/>
                    </a:lnTo>
                    <a:lnTo>
                      <a:pt x="599" y="601"/>
                    </a:lnTo>
                    <a:lnTo>
                      <a:pt x="548" y="593"/>
                    </a:lnTo>
                    <a:lnTo>
                      <a:pt x="497" y="583"/>
                    </a:lnTo>
                    <a:lnTo>
                      <a:pt x="445" y="569"/>
                    </a:lnTo>
                    <a:lnTo>
                      <a:pt x="445" y="569"/>
                    </a:lnTo>
                    <a:lnTo>
                      <a:pt x="392" y="552"/>
                    </a:lnTo>
                    <a:lnTo>
                      <a:pt x="341" y="533"/>
                    </a:lnTo>
                    <a:lnTo>
                      <a:pt x="295" y="513"/>
                    </a:lnTo>
                    <a:lnTo>
                      <a:pt x="249" y="491"/>
                    </a:lnTo>
                    <a:lnTo>
                      <a:pt x="209" y="467"/>
                    </a:lnTo>
                    <a:lnTo>
                      <a:pt x="169" y="442"/>
                    </a:lnTo>
                    <a:lnTo>
                      <a:pt x="134" y="414"/>
                    </a:lnTo>
                    <a:lnTo>
                      <a:pt x="103" y="387"/>
                    </a:lnTo>
                    <a:lnTo>
                      <a:pt x="74" y="358"/>
                    </a:lnTo>
                    <a:lnTo>
                      <a:pt x="51" y="329"/>
                    </a:lnTo>
                    <a:lnTo>
                      <a:pt x="32" y="301"/>
                    </a:lnTo>
                    <a:lnTo>
                      <a:pt x="23" y="285"/>
                    </a:lnTo>
                    <a:lnTo>
                      <a:pt x="17" y="272"/>
                    </a:lnTo>
                    <a:lnTo>
                      <a:pt x="11" y="256"/>
                    </a:lnTo>
                    <a:lnTo>
                      <a:pt x="6" y="243"/>
                    </a:lnTo>
                    <a:lnTo>
                      <a:pt x="3" y="228"/>
                    </a:lnTo>
                    <a:lnTo>
                      <a:pt x="1" y="212"/>
                    </a:lnTo>
                    <a:lnTo>
                      <a:pt x="0" y="199"/>
                    </a:lnTo>
                    <a:lnTo>
                      <a:pt x="1" y="185"/>
                    </a:lnTo>
                    <a:lnTo>
                      <a:pt x="3" y="170"/>
                    </a:lnTo>
                    <a:lnTo>
                      <a:pt x="6" y="156"/>
                    </a:lnTo>
                    <a:lnTo>
                      <a:pt x="6" y="156"/>
                    </a:lnTo>
                    <a:lnTo>
                      <a:pt x="10" y="143"/>
                    </a:lnTo>
                    <a:lnTo>
                      <a:pt x="17" y="131"/>
                    </a:lnTo>
                    <a:lnTo>
                      <a:pt x="23" y="117"/>
                    </a:lnTo>
                    <a:lnTo>
                      <a:pt x="32" y="105"/>
                    </a:lnTo>
                    <a:lnTo>
                      <a:pt x="40" y="95"/>
                    </a:lnTo>
                    <a:lnTo>
                      <a:pt x="51" y="85"/>
                    </a:lnTo>
                    <a:lnTo>
                      <a:pt x="62" y="75"/>
                    </a:lnTo>
                    <a:lnTo>
                      <a:pt x="76" y="64"/>
                    </a:lnTo>
                    <a:lnTo>
                      <a:pt x="90" y="56"/>
                    </a:lnTo>
                    <a:lnTo>
                      <a:pt x="103" y="47"/>
                    </a:lnTo>
                    <a:lnTo>
                      <a:pt x="136" y="32"/>
                    </a:lnTo>
                    <a:lnTo>
                      <a:pt x="171" y="20"/>
                    </a:lnTo>
                    <a:lnTo>
                      <a:pt x="210" y="12"/>
                    </a:lnTo>
                    <a:lnTo>
                      <a:pt x="251" y="5"/>
                    </a:lnTo>
                    <a:lnTo>
                      <a:pt x="295" y="2"/>
                    </a:lnTo>
                    <a:lnTo>
                      <a:pt x="341" y="0"/>
                    </a:lnTo>
                    <a:lnTo>
                      <a:pt x="390" y="2"/>
                    </a:lnTo>
                    <a:lnTo>
                      <a:pt x="440" y="5"/>
                    </a:lnTo>
                    <a:lnTo>
                      <a:pt x="491" y="13"/>
                    </a:lnTo>
                    <a:lnTo>
                      <a:pt x="543" y="24"/>
                    </a:lnTo>
                    <a:lnTo>
                      <a:pt x="596" y="37"/>
                    </a:lnTo>
                    <a:lnTo>
                      <a:pt x="596" y="37"/>
                    </a:lnTo>
                    <a:lnTo>
                      <a:pt x="649" y="54"/>
                    </a:lnTo>
                    <a:lnTo>
                      <a:pt x="698" y="73"/>
                    </a:lnTo>
                    <a:lnTo>
                      <a:pt x="745" y="93"/>
                    </a:lnTo>
                    <a:lnTo>
                      <a:pt x="790" y="115"/>
                    </a:lnTo>
                    <a:lnTo>
                      <a:pt x="832" y="139"/>
                    </a:lnTo>
                    <a:lnTo>
                      <a:pt x="869" y="165"/>
                    </a:lnTo>
                    <a:lnTo>
                      <a:pt x="905" y="192"/>
                    </a:lnTo>
                    <a:lnTo>
                      <a:pt x="937" y="219"/>
                    </a:lnTo>
                    <a:lnTo>
                      <a:pt x="965" y="248"/>
                    </a:lnTo>
                    <a:lnTo>
                      <a:pt x="988" y="277"/>
                    </a:lnTo>
                    <a:lnTo>
                      <a:pt x="1009" y="306"/>
                    </a:lnTo>
                    <a:lnTo>
                      <a:pt x="1016" y="321"/>
                    </a:lnTo>
                    <a:lnTo>
                      <a:pt x="1022" y="335"/>
                    </a:lnTo>
                    <a:lnTo>
                      <a:pt x="1029" y="350"/>
                    </a:lnTo>
                    <a:lnTo>
                      <a:pt x="1033" y="365"/>
                    </a:lnTo>
                    <a:lnTo>
                      <a:pt x="1036" y="379"/>
                    </a:lnTo>
                    <a:lnTo>
                      <a:pt x="1039" y="394"/>
                    </a:lnTo>
                    <a:lnTo>
                      <a:pt x="1039" y="408"/>
                    </a:lnTo>
                    <a:lnTo>
                      <a:pt x="1039" y="423"/>
                    </a:lnTo>
                    <a:lnTo>
                      <a:pt x="1038" y="436"/>
                    </a:lnTo>
                    <a:lnTo>
                      <a:pt x="1034" y="450"/>
                    </a:lnTo>
                    <a:lnTo>
                      <a:pt x="1034" y="450"/>
                    </a:lnTo>
                    <a:close/>
                  </a:path>
                </a:pathLst>
              </a:custGeom>
              <a:noFill/>
              <a:ln w="38160">
                <a:solidFill>
                  <a:srgbClr val="b3cce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574920" y="1568160"/>
                <a:ext cx="282240" cy="277920"/>
              </a:xfrm>
              <a:custGeom>
                <a:avLst/>
                <a:gdLst/>
                <a:ahLst/>
                <a:rect l="l" t="t" r="r" b="b"/>
                <a:pathLst>
                  <a:path w="749" h="747">
                    <a:moveTo>
                      <a:pt x="12" y="0"/>
                    </a:moveTo>
                    <a:lnTo>
                      <a:pt x="12" y="0"/>
                    </a:lnTo>
                    <a:lnTo>
                      <a:pt x="5" y="25"/>
                    </a:lnTo>
                    <a:lnTo>
                      <a:pt x="2" y="51"/>
                    </a:lnTo>
                    <a:lnTo>
                      <a:pt x="0" y="78"/>
                    </a:lnTo>
                    <a:lnTo>
                      <a:pt x="0" y="105"/>
                    </a:lnTo>
                    <a:lnTo>
                      <a:pt x="3" y="130"/>
                    </a:lnTo>
                    <a:lnTo>
                      <a:pt x="9" y="158"/>
                    </a:lnTo>
                    <a:lnTo>
                      <a:pt x="15" y="185"/>
                    </a:lnTo>
                    <a:lnTo>
                      <a:pt x="26" y="212"/>
                    </a:lnTo>
                    <a:lnTo>
                      <a:pt x="36" y="239"/>
                    </a:lnTo>
                    <a:lnTo>
                      <a:pt x="49" y="266"/>
                    </a:lnTo>
                    <a:lnTo>
                      <a:pt x="65" y="293"/>
                    </a:lnTo>
                    <a:lnTo>
                      <a:pt x="82" y="319"/>
                    </a:lnTo>
                    <a:lnTo>
                      <a:pt x="100" y="346"/>
                    </a:lnTo>
                    <a:lnTo>
                      <a:pt x="122" y="372"/>
                    </a:lnTo>
                    <a:lnTo>
                      <a:pt x="145" y="399"/>
                    </a:lnTo>
                    <a:lnTo>
                      <a:pt x="168" y="424"/>
                    </a:lnTo>
                    <a:lnTo>
                      <a:pt x="194" y="450"/>
                    </a:lnTo>
                    <a:lnTo>
                      <a:pt x="223" y="474"/>
                    </a:lnTo>
                    <a:lnTo>
                      <a:pt x="252" y="497"/>
                    </a:lnTo>
                    <a:lnTo>
                      <a:pt x="282" y="521"/>
                    </a:lnTo>
                    <a:lnTo>
                      <a:pt x="313" y="545"/>
                    </a:lnTo>
                    <a:lnTo>
                      <a:pt x="347" y="567"/>
                    </a:lnTo>
                    <a:lnTo>
                      <a:pt x="382" y="589"/>
                    </a:lnTo>
                    <a:lnTo>
                      <a:pt x="418" y="609"/>
                    </a:lnTo>
                    <a:lnTo>
                      <a:pt x="455" y="630"/>
                    </a:lnTo>
                    <a:lnTo>
                      <a:pt x="494" y="650"/>
                    </a:lnTo>
                    <a:lnTo>
                      <a:pt x="534" y="669"/>
                    </a:lnTo>
                    <a:lnTo>
                      <a:pt x="574" y="686"/>
                    </a:lnTo>
                    <a:lnTo>
                      <a:pt x="617" y="703"/>
                    </a:lnTo>
                    <a:lnTo>
                      <a:pt x="659" y="718"/>
                    </a:lnTo>
                    <a:lnTo>
                      <a:pt x="703" y="733"/>
                    </a:lnTo>
                    <a:lnTo>
                      <a:pt x="749" y="747"/>
                    </a:lnTo>
                  </a:path>
                </a:pathLst>
              </a:custGeom>
              <a:noFill/>
              <a:ln w="38160">
                <a:solidFill>
                  <a:srgbClr val="b3cce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857520" y="1741680"/>
                <a:ext cx="390240" cy="124920"/>
              </a:xfrm>
              <a:custGeom>
                <a:avLst/>
                <a:gdLst/>
                <a:ahLst/>
                <a:rect l="l" t="t" r="r" b="b"/>
                <a:pathLst>
                  <a:path w="1037" h="337">
                    <a:moveTo>
                      <a:pt x="1037" y="0"/>
                    </a:moveTo>
                    <a:lnTo>
                      <a:pt x="1037" y="0"/>
                    </a:lnTo>
                    <a:lnTo>
                      <a:pt x="1028" y="28"/>
                    </a:lnTo>
                    <a:lnTo>
                      <a:pt x="1016" y="53"/>
                    </a:lnTo>
                    <a:lnTo>
                      <a:pt x="1003" y="79"/>
                    </a:lnTo>
                    <a:lnTo>
                      <a:pt x="987" y="102"/>
                    </a:lnTo>
                    <a:lnTo>
                      <a:pt x="970" y="124"/>
                    </a:lnTo>
                    <a:lnTo>
                      <a:pt x="952" y="146"/>
                    </a:lnTo>
                    <a:lnTo>
                      <a:pt x="931" y="167"/>
                    </a:lnTo>
                    <a:lnTo>
                      <a:pt x="908" y="187"/>
                    </a:lnTo>
                    <a:lnTo>
                      <a:pt x="884" y="206"/>
                    </a:lnTo>
                    <a:lnTo>
                      <a:pt x="858" y="223"/>
                    </a:lnTo>
                    <a:lnTo>
                      <a:pt x="829" y="238"/>
                    </a:lnTo>
                    <a:lnTo>
                      <a:pt x="800" y="254"/>
                    </a:lnTo>
                    <a:lnTo>
                      <a:pt x="770" y="267"/>
                    </a:lnTo>
                    <a:lnTo>
                      <a:pt x="738" y="281"/>
                    </a:lnTo>
                    <a:lnTo>
                      <a:pt x="705" y="293"/>
                    </a:lnTo>
                    <a:lnTo>
                      <a:pt x="670" y="301"/>
                    </a:lnTo>
                    <a:lnTo>
                      <a:pt x="634" y="311"/>
                    </a:lnTo>
                    <a:lnTo>
                      <a:pt x="598" y="318"/>
                    </a:lnTo>
                    <a:lnTo>
                      <a:pt x="559" y="325"/>
                    </a:lnTo>
                    <a:lnTo>
                      <a:pt x="520" y="330"/>
                    </a:lnTo>
                    <a:lnTo>
                      <a:pt x="481" y="333"/>
                    </a:lnTo>
                    <a:lnTo>
                      <a:pt x="440" y="335"/>
                    </a:lnTo>
                    <a:lnTo>
                      <a:pt x="400" y="337"/>
                    </a:lnTo>
                    <a:lnTo>
                      <a:pt x="357" y="335"/>
                    </a:lnTo>
                    <a:lnTo>
                      <a:pt x="315" y="333"/>
                    </a:lnTo>
                    <a:lnTo>
                      <a:pt x="270" y="330"/>
                    </a:lnTo>
                    <a:lnTo>
                      <a:pt x="226" y="325"/>
                    </a:lnTo>
                    <a:lnTo>
                      <a:pt x="182" y="320"/>
                    </a:lnTo>
                    <a:lnTo>
                      <a:pt x="136" y="311"/>
                    </a:lnTo>
                    <a:lnTo>
                      <a:pt x="92" y="303"/>
                    </a:lnTo>
                    <a:lnTo>
                      <a:pt x="46" y="291"/>
                    </a:lnTo>
                    <a:lnTo>
                      <a:pt x="0" y="279"/>
                    </a:lnTo>
                  </a:path>
                </a:pathLst>
              </a:custGeom>
              <a:noFill/>
              <a:ln w="38160">
                <a:solidFill>
                  <a:srgbClr val="b3cce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468000" y="1773360"/>
                <a:ext cx="338040" cy="263160"/>
              </a:xfrm>
              <a:custGeom>
                <a:avLst/>
                <a:gdLst/>
                <a:ahLst/>
                <a:rect l="l" t="t" r="r" b="b"/>
                <a:pathLst>
                  <a:path w="897" h="710">
                    <a:moveTo>
                      <a:pt x="7" y="0"/>
                    </a:moveTo>
                    <a:lnTo>
                      <a:pt x="7" y="0"/>
                    </a:lnTo>
                    <a:lnTo>
                      <a:pt x="1" y="22"/>
                    </a:lnTo>
                    <a:lnTo>
                      <a:pt x="0" y="44"/>
                    </a:lnTo>
                    <a:lnTo>
                      <a:pt x="0" y="68"/>
                    </a:lnTo>
                    <a:lnTo>
                      <a:pt x="3" y="90"/>
                    </a:lnTo>
                    <a:lnTo>
                      <a:pt x="8" y="113"/>
                    </a:lnTo>
                    <a:lnTo>
                      <a:pt x="15" y="137"/>
                    </a:lnTo>
                    <a:lnTo>
                      <a:pt x="25" y="163"/>
                    </a:lnTo>
                    <a:lnTo>
                      <a:pt x="39" y="187"/>
                    </a:lnTo>
                    <a:lnTo>
                      <a:pt x="54" y="210"/>
                    </a:lnTo>
                    <a:lnTo>
                      <a:pt x="71" y="236"/>
                    </a:lnTo>
                    <a:lnTo>
                      <a:pt x="90" y="260"/>
                    </a:lnTo>
                    <a:lnTo>
                      <a:pt x="112" y="285"/>
                    </a:lnTo>
                    <a:lnTo>
                      <a:pt x="134" y="309"/>
                    </a:lnTo>
                    <a:lnTo>
                      <a:pt x="159" y="334"/>
                    </a:lnTo>
                    <a:lnTo>
                      <a:pt x="188" y="358"/>
                    </a:lnTo>
                    <a:lnTo>
                      <a:pt x="217" y="382"/>
                    </a:lnTo>
                    <a:lnTo>
                      <a:pt x="248" y="407"/>
                    </a:lnTo>
                    <a:lnTo>
                      <a:pt x="280" y="431"/>
                    </a:lnTo>
                    <a:lnTo>
                      <a:pt x="316" y="453"/>
                    </a:lnTo>
                    <a:lnTo>
                      <a:pt x="351" y="477"/>
                    </a:lnTo>
                    <a:lnTo>
                      <a:pt x="389" y="499"/>
                    </a:lnTo>
                    <a:lnTo>
                      <a:pt x="430" y="521"/>
                    </a:lnTo>
                    <a:lnTo>
                      <a:pt x="470" y="543"/>
                    </a:lnTo>
                    <a:lnTo>
                      <a:pt x="513" y="565"/>
                    </a:lnTo>
                    <a:lnTo>
                      <a:pt x="555" y="586"/>
                    </a:lnTo>
                    <a:lnTo>
                      <a:pt x="601" y="606"/>
                    </a:lnTo>
                    <a:lnTo>
                      <a:pt x="647" y="625"/>
                    </a:lnTo>
                    <a:lnTo>
                      <a:pt x="695" y="643"/>
                    </a:lnTo>
                    <a:lnTo>
                      <a:pt x="744" y="662"/>
                    </a:lnTo>
                    <a:lnTo>
                      <a:pt x="793" y="679"/>
                    </a:lnTo>
                    <a:lnTo>
                      <a:pt x="844" y="694"/>
                    </a:lnTo>
                    <a:lnTo>
                      <a:pt x="897" y="710"/>
                    </a:lnTo>
                  </a:path>
                </a:pathLst>
              </a:custGeom>
              <a:noFill/>
              <a:ln w="38160">
                <a:solidFill>
                  <a:srgbClr val="b3cce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7840" y="1987560"/>
                <a:ext cx="425520" cy="84240"/>
              </a:xfrm>
              <a:custGeom>
                <a:avLst/>
                <a:gdLst/>
                <a:ahLst/>
                <a:rect l="l" t="t" r="r" b="b"/>
                <a:pathLst>
                  <a:path w="1132" h="224">
                    <a:moveTo>
                      <a:pt x="1132" y="0"/>
                    </a:moveTo>
                    <a:lnTo>
                      <a:pt x="1132" y="0"/>
                    </a:lnTo>
                    <a:lnTo>
                      <a:pt x="1125" y="22"/>
                    </a:lnTo>
                    <a:lnTo>
                      <a:pt x="1115" y="43"/>
                    </a:lnTo>
                    <a:lnTo>
                      <a:pt x="1103" y="61"/>
                    </a:lnTo>
                    <a:lnTo>
                      <a:pt x="1087" y="80"/>
                    </a:lnTo>
                    <a:lnTo>
                      <a:pt x="1070" y="97"/>
                    </a:lnTo>
                    <a:lnTo>
                      <a:pt x="1050" y="114"/>
                    </a:lnTo>
                    <a:lnTo>
                      <a:pt x="1030" y="129"/>
                    </a:lnTo>
                    <a:lnTo>
                      <a:pt x="1006" y="143"/>
                    </a:lnTo>
                    <a:lnTo>
                      <a:pt x="980" y="155"/>
                    </a:lnTo>
                    <a:lnTo>
                      <a:pt x="953" y="167"/>
                    </a:lnTo>
                    <a:lnTo>
                      <a:pt x="923" y="179"/>
                    </a:lnTo>
                    <a:lnTo>
                      <a:pt x="892" y="187"/>
                    </a:lnTo>
                    <a:lnTo>
                      <a:pt x="860" y="196"/>
                    </a:lnTo>
                    <a:lnTo>
                      <a:pt x="824" y="204"/>
                    </a:lnTo>
                    <a:lnTo>
                      <a:pt x="788" y="209"/>
                    </a:lnTo>
                    <a:lnTo>
                      <a:pt x="751" y="214"/>
                    </a:lnTo>
                    <a:lnTo>
                      <a:pt x="712" y="219"/>
                    </a:lnTo>
                    <a:lnTo>
                      <a:pt x="671" y="221"/>
                    </a:lnTo>
                    <a:lnTo>
                      <a:pt x="629" y="223"/>
                    </a:lnTo>
                    <a:lnTo>
                      <a:pt x="586" y="224"/>
                    </a:lnTo>
                    <a:lnTo>
                      <a:pt x="542" y="223"/>
                    </a:lnTo>
                    <a:lnTo>
                      <a:pt x="498" y="221"/>
                    </a:lnTo>
                    <a:lnTo>
                      <a:pt x="450" y="218"/>
                    </a:lnTo>
                    <a:lnTo>
                      <a:pt x="405" y="214"/>
                    </a:lnTo>
                    <a:lnTo>
                      <a:pt x="355" y="207"/>
                    </a:lnTo>
                    <a:lnTo>
                      <a:pt x="306" y="202"/>
                    </a:lnTo>
                    <a:lnTo>
                      <a:pt x="257" y="194"/>
                    </a:lnTo>
                    <a:lnTo>
                      <a:pt x="207" y="184"/>
                    </a:lnTo>
                    <a:lnTo>
                      <a:pt x="156" y="173"/>
                    </a:lnTo>
                    <a:lnTo>
                      <a:pt x="106" y="162"/>
                    </a:lnTo>
                    <a:lnTo>
                      <a:pt x="53" y="150"/>
                    </a:lnTo>
                    <a:lnTo>
                      <a:pt x="0" y="134"/>
                    </a:lnTo>
                  </a:path>
                </a:pathLst>
              </a:custGeom>
              <a:noFill/>
              <a:ln w="38160">
                <a:solidFill>
                  <a:srgbClr val="b3cce6"/>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42" name="Freeform 44"/>
              <p:cNvSpPr/>
              <p:nvPr/>
            </p:nvSpPr>
            <p:spPr>
              <a:xfrm>
                <a:off x="507960" y="2008080"/>
                <a:ext cx="260640" cy="166320"/>
              </a:xfrm>
              <a:custGeom>
                <a:avLst/>
                <a:gdLst/>
                <a:ahLst/>
                <a:rect l="l" t="t" r="r" b="b"/>
                <a:pathLst>
                  <a:path w="688" h="450">
                    <a:moveTo>
                      <a:pt x="4" y="0"/>
                    </a:moveTo>
                    <a:lnTo>
                      <a:pt x="4" y="0"/>
                    </a:lnTo>
                    <a:lnTo>
                      <a:pt x="2" y="11"/>
                    </a:lnTo>
                    <a:lnTo>
                      <a:pt x="0" y="25"/>
                    </a:lnTo>
                    <a:lnTo>
                      <a:pt x="2" y="39"/>
                    </a:lnTo>
                    <a:lnTo>
                      <a:pt x="5" y="51"/>
                    </a:lnTo>
                    <a:lnTo>
                      <a:pt x="10" y="66"/>
                    </a:lnTo>
                    <a:lnTo>
                      <a:pt x="17" y="79"/>
                    </a:lnTo>
                    <a:lnTo>
                      <a:pt x="26" y="93"/>
                    </a:lnTo>
                    <a:lnTo>
                      <a:pt x="36" y="108"/>
                    </a:lnTo>
                    <a:lnTo>
                      <a:pt x="48" y="122"/>
                    </a:lnTo>
                    <a:lnTo>
                      <a:pt x="61" y="137"/>
                    </a:lnTo>
                    <a:lnTo>
                      <a:pt x="94" y="168"/>
                    </a:lnTo>
                    <a:lnTo>
                      <a:pt x="133" y="198"/>
                    </a:lnTo>
                    <a:lnTo>
                      <a:pt x="175" y="229"/>
                    </a:lnTo>
                    <a:lnTo>
                      <a:pt x="224" y="259"/>
                    </a:lnTo>
                    <a:lnTo>
                      <a:pt x="279" y="288"/>
                    </a:lnTo>
                    <a:lnTo>
                      <a:pt x="338" y="319"/>
                    </a:lnTo>
                    <a:lnTo>
                      <a:pt x="401" y="348"/>
                    </a:lnTo>
                    <a:lnTo>
                      <a:pt x="467" y="375"/>
                    </a:lnTo>
                    <a:lnTo>
                      <a:pt x="537" y="400"/>
                    </a:lnTo>
                    <a:lnTo>
                      <a:pt x="612" y="426"/>
                    </a:lnTo>
                    <a:lnTo>
                      <a:pt x="688" y="450"/>
                    </a:lnTo>
                  </a:path>
                </a:pathLst>
              </a:custGeom>
              <a:noFill/>
              <a:ln w="38160">
                <a:solidFill>
                  <a:srgbClr val="b3cce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765000" y="2173320"/>
                <a:ext cx="266400" cy="41400"/>
              </a:xfrm>
              <a:custGeom>
                <a:avLst/>
                <a:gdLst/>
                <a:ahLst/>
                <a:rect l="l" t="t" r="r" b="b"/>
                <a:pathLst>
                  <a:path w="707" h="107">
                    <a:moveTo>
                      <a:pt x="707" y="73"/>
                    </a:moveTo>
                    <a:lnTo>
                      <a:pt x="707" y="73"/>
                    </a:lnTo>
                    <a:lnTo>
                      <a:pt x="705" y="78"/>
                    </a:lnTo>
                    <a:lnTo>
                      <a:pt x="700" y="83"/>
                    </a:lnTo>
                    <a:lnTo>
                      <a:pt x="695" y="88"/>
                    </a:lnTo>
                    <a:lnTo>
                      <a:pt x="686" y="93"/>
                    </a:lnTo>
                    <a:lnTo>
                      <a:pt x="678" y="97"/>
                    </a:lnTo>
                    <a:lnTo>
                      <a:pt x="668" y="100"/>
                    </a:lnTo>
                    <a:lnTo>
                      <a:pt x="642" y="104"/>
                    </a:lnTo>
                    <a:lnTo>
                      <a:pt x="610" y="107"/>
                    </a:lnTo>
                    <a:lnTo>
                      <a:pt x="574" y="107"/>
                    </a:lnTo>
                    <a:lnTo>
                      <a:pt x="532" y="105"/>
                    </a:lnTo>
                    <a:lnTo>
                      <a:pt x="486" y="100"/>
                    </a:lnTo>
                    <a:lnTo>
                      <a:pt x="437" y="95"/>
                    </a:lnTo>
                    <a:lnTo>
                      <a:pt x="382" y="87"/>
                    </a:lnTo>
                    <a:lnTo>
                      <a:pt x="326" y="76"/>
                    </a:lnTo>
                    <a:lnTo>
                      <a:pt x="265" y="66"/>
                    </a:lnTo>
                    <a:lnTo>
                      <a:pt x="202" y="51"/>
                    </a:lnTo>
                    <a:lnTo>
                      <a:pt x="136" y="36"/>
                    </a:lnTo>
                    <a:lnTo>
                      <a:pt x="70" y="19"/>
                    </a:lnTo>
                    <a:lnTo>
                      <a:pt x="0" y="0"/>
                    </a:lnTo>
                  </a:path>
                </a:pathLst>
              </a:custGeom>
              <a:noFill/>
              <a:ln w="38160">
                <a:solidFill>
                  <a:srgbClr val="b3cce6"/>
                </a:solidFill>
                <a:round/>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44" name="Line 46"/>
              <p:cNvSpPr/>
              <p:nvPr/>
            </p:nvSpPr>
            <p:spPr>
              <a:xfrm flipH="1">
                <a:off x="755640" y="1465200"/>
                <a:ext cx="222120" cy="765360"/>
              </a:xfrm>
              <a:prstGeom prst="line">
                <a:avLst/>
              </a:prstGeom>
              <a:ln w="38160">
                <a:solidFill>
                  <a:srgbClr val="b3cce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463680" y="1449360"/>
                <a:ext cx="798480" cy="792360"/>
              </a:xfrm>
              <a:custGeom>
                <a:avLst/>
                <a:gdLst/>
                <a:ahLst/>
                <a:rect l="l" t="t" r="r" b="b"/>
                <a:pathLst>
                  <a:path w="2117" h="2132">
                    <a:moveTo>
                      <a:pt x="2076" y="1357"/>
                    </a:moveTo>
                    <a:lnTo>
                      <a:pt x="2076" y="1357"/>
                    </a:lnTo>
                    <a:lnTo>
                      <a:pt x="2059" y="1410"/>
                    </a:lnTo>
                    <a:lnTo>
                      <a:pt x="2041" y="1461"/>
                    </a:lnTo>
                    <a:lnTo>
                      <a:pt x="2020" y="1510"/>
                    </a:lnTo>
                    <a:lnTo>
                      <a:pt x="1996" y="1558"/>
                    </a:lnTo>
                    <a:lnTo>
                      <a:pt x="1971" y="1604"/>
                    </a:lnTo>
                    <a:lnTo>
                      <a:pt x="1944" y="1650"/>
                    </a:lnTo>
                    <a:lnTo>
                      <a:pt x="1913" y="1692"/>
                    </a:lnTo>
                    <a:lnTo>
                      <a:pt x="1883" y="1733"/>
                    </a:lnTo>
                    <a:lnTo>
                      <a:pt x="1849" y="1774"/>
                    </a:lnTo>
                    <a:lnTo>
                      <a:pt x="1813" y="1811"/>
                    </a:lnTo>
                    <a:lnTo>
                      <a:pt x="1777" y="1847"/>
                    </a:lnTo>
                    <a:lnTo>
                      <a:pt x="1738" y="1881"/>
                    </a:lnTo>
                    <a:lnTo>
                      <a:pt x="1699" y="1913"/>
                    </a:lnTo>
                    <a:lnTo>
                      <a:pt x="1657" y="1944"/>
                    </a:lnTo>
                    <a:lnTo>
                      <a:pt x="1614" y="1971"/>
                    </a:lnTo>
                    <a:lnTo>
                      <a:pt x="1572" y="1998"/>
                    </a:lnTo>
                    <a:lnTo>
                      <a:pt x="1526" y="2022"/>
                    </a:lnTo>
                    <a:lnTo>
                      <a:pt x="1480" y="2042"/>
                    </a:lnTo>
                    <a:lnTo>
                      <a:pt x="1432" y="2062"/>
                    </a:lnTo>
                    <a:lnTo>
                      <a:pt x="1385" y="2079"/>
                    </a:lnTo>
                    <a:lnTo>
                      <a:pt x="1336" y="2095"/>
                    </a:lnTo>
                    <a:lnTo>
                      <a:pt x="1286" y="2107"/>
                    </a:lnTo>
                    <a:lnTo>
                      <a:pt x="1235" y="2117"/>
                    </a:lnTo>
                    <a:lnTo>
                      <a:pt x="1184" y="2125"/>
                    </a:lnTo>
                    <a:lnTo>
                      <a:pt x="1133" y="2130"/>
                    </a:lnTo>
                    <a:lnTo>
                      <a:pt x="1081" y="2132"/>
                    </a:lnTo>
                    <a:lnTo>
                      <a:pt x="1030" y="2132"/>
                    </a:lnTo>
                    <a:lnTo>
                      <a:pt x="977" y="2130"/>
                    </a:lnTo>
                    <a:lnTo>
                      <a:pt x="924" y="2125"/>
                    </a:lnTo>
                    <a:lnTo>
                      <a:pt x="872" y="2117"/>
                    </a:lnTo>
                    <a:lnTo>
                      <a:pt x="819" y="2107"/>
                    </a:lnTo>
                    <a:lnTo>
                      <a:pt x="766" y="2093"/>
                    </a:lnTo>
                    <a:lnTo>
                      <a:pt x="766" y="2093"/>
                    </a:lnTo>
                    <a:lnTo>
                      <a:pt x="714" y="2076"/>
                    </a:lnTo>
                    <a:lnTo>
                      <a:pt x="663" y="2057"/>
                    </a:lnTo>
                    <a:lnTo>
                      <a:pt x="613" y="2037"/>
                    </a:lnTo>
                    <a:lnTo>
                      <a:pt x="568" y="2013"/>
                    </a:lnTo>
                    <a:lnTo>
                      <a:pt x="520" y="1988"/>
                    </a:lnTo>
                    <a:lnTo>
                      <a:pt x="476" y="1961"/>
                    </a:lnTo>
                    <a:lnTo>
                      <a:pt x="433" y="1930"/>
                    </a:lnTo>
                    <a:lnTo>
                      <a:pt x="393" y="1899"/>
                    </a:lnTo>
                    <a:lnTo>
                      <a:pt x="354" y="1865"/>
                    </a:lnTo>
                    <a:lnTo>
                      <a:pt x="316" y="1830"/>
                    </a:lnTo>
                    <a:lnTo>
                      <a:pt x="281" y="1794"/>
                    </a:lnTo>
                    <a:lnTo>
                      <a:pt x="247" y="1755"/>
                    </a:lnTo>
                    <a:lnTo>
                      <a:pt x="216" y="1714"/>
                    </a:lnTo>
                    <a:lnTo>
                      <a:pt x="185" y="1673"/>
                    </a:lnTo>
                    <a:lnTo>
                      <a:pt x="158" y="1631"/>
                    </a:lnTo>
                    <a:lnTo>
                      <a:pt x="133" y="1587"/>
                    </a:lnTo>
                    <a:lnTo>
                      <a:pt x="109" y="1541"/>
                    </a:lnTo>
                    <a:lnTo>
                      <a:pt x="87" y="1495"/>
                    </a:lnTo>
                    <a:lnTo>
                      <a:pt x="68" y="1448"/>
                    </a:lnTo>
                    <a:lnTo>
                      <a:pt x="51" y="1400"/>
                    </a:lnTo>
                    <a:lnTo>
                      <a:pt x="38" y="1351"/>
                    </a:lnTo>
                    <a:lnTo>
                      <a:pt x="24" y="1300"/>
                    </a:lnTo>
                    <a:lnTo>
                      <a:pt x="15" y="1249"/>
                    </a:lnTo>
                    <a:lnTo>
                      <a:pt x="7" y="1198"/>
                    </a:lnTo>
                    <a:lnTo>
                      <a:pt x="2" y="1147"/>
                    </a:lnTo>
                    <a:lnTo>
                      <a:pt x="0" y="1094"/>
                    </a:lnTo>
                    <a:lnTo>
                      <a:pt x="0" y="1042"/>
                    </a:lnTo>
                    <a:lnTo>
                      <a:pt x="4" y="989"/>
                    </a:lnTo>
                    <a:lnTo>
                      <a:pt x="9" y="936"/>
                    </a:lnTo>
                    <a:lnTo>
                      <a:pt x="17" y="882"/>
                    </a:lnTo>
                    <a:lnTo>
                      <a:pt x="27" y="829"/>
                    </a:lnTo>
                    <a:lnTo>
                      <a:pt x="41" y="777"/>
                    </a:lnTo>
                    <a:lnTo>
                      <a:pt x="41" y="777"/>
                    </a:lnTo>
                    <a:lnTo>
                      <a:pt x="58" y="724"/>
                    </a:lnTo>
                    <a:lnTo>
                      <a:pt x="77" y="673"/>
                    </a:lnTo>
                    <a:lnTo>
                      <a:pt x="99" y="624"/>
                    </a:lnTo>
                    <a:lnTo>
                      <a:pt x="121" y="576"/>
                    </a:lnTo>
                    <a:lnTo>
                      <a:pt x="146" y="529"/>
                    </a:lnTo>
                    <a:lnTo>
                      <a:pt x="175" y="484"/>
                    </a:lnTo>
                    <a:lnTo>
                      <a:pt x="204" y="442"/>
                    </a:lnTo>
                    <a:lnTo>
                      <a:pt x="236" y="399"/>
                    </a:lnTo>
                    <a:lnTo>
                      <a:pt x="269" y="360"/>
                    </a:lnTo>
                    <a:lnTo>
                      <a:pt x="304" y="323"/>
                    </a:lnTo>
                    <a:lnTo>
                      <a:pt x="340" y="286"/>
                    </a:lnTo>
                    <a:lnTo>
                      <a:pt x="379" y="252"/>
                    </a:lnTo>
                    <a:lnTo>
                      <a:pt x="418" y="219"/>
                    </a:lnTo>
                    <a:lnTo>
                      <a:pt x="461" y="190"/>
                    </a:lnTo>
                    <a:lnTo>
                      <a:pt x="503" y="162"/>
                    </a:lnTo>
                    <a:lnTo>
                      <a:pt x="547" y="136"/>
                    </a:lnTo>
                    <a:lnTo>
                      <a:pt x="591" y="112"/>
                    </a:lnTo>
                    <a:lnTo>
                      <a:pt x="637" y="90"/>
                    </a:lnTo>
                    <a:lnTo>
                      <a:pt x="685" y="72"/>
                    </a:lnTo>
                    <a:lnTo>
                      <a:pt x="732" y="53"/>
                    </a:lnTo>
                    <a:lnTo>
                      <a:pt x="782" y="39"/>
                    </a:lnTo>
                    <a:lnTo>
                      <a:pt x="831" y="26"/>
                    </a:lnTo>
                    <a:lnTo>
                      <a:pt x="882" y="15"/>
                    </a:lnTo>
                    <a:lnTo>
                      <a:pt x="933" y="9"/>
                    </a:lnTo>
                    <a:lnTo>
                      <a:pt x="984" y="4"/>
                    </a:lnTo>
                    <a:lnTo>
                      <a:pt x="1037" y="0"/>
                    </a:lnTo>
                    <a:lnTo>
                      <a:pt x="1087" y="0"/>
                    </a:lnTo>
                    <a:lnTo>
                      <a:pt x="1140" y="4"/>
                    </a:lnTo>
                    <a:lnTo>
                      <a:pt x="1193" y="9"/>
                    </a:lnTo>
                    <a:lnTo>
                      <a:pt x="1245" y="17"/>
                    </a:lnTo>
                    <a:lnTo>
                      <a:pt x="1300" y="27"/>
                    </a:lnTo>
                    <a:lnTo>
                      <a:pt x="1353" y="41"/>
                    </a:lnTo>
                    <a:lnTo>
                      <a:pt x="1353" y="41"/>
                    </a:lnTo>
                    <a:lnTo>
                      <a:pt x="1403" y="56"/>
                    </a:lnTo>
                    <a:lnTo>
                      <a:pt x="1454" y="75"/>
                    </a:lnTo>
                    <a:lnTo>
                      <a:pt x="1504" y="97"/>
                    </a:lnTo>
                    <a:lnTo>
                      <a:pt x="1551" y="121"/>
                    </a:lnTo>
                    <a:lnTo>
                      <a:pt x="1597" y="146"/>
                    </a:lnTo>
                    <a:lnTo>
                      <a:pt x="1641" y="173"/>
                    </a:lnTo>
                    <a:lnTo>
                      <a:pt x="1684" y="202"/>
                    </a:lnTo>
                    <a:lnTo>
                      <a:pt x="1725" y="235"/>
                    </a:lnTo>
                    <a:lnTo>
                      <a:pt x="1764" y="269"/>
                    </a:lnTo>
                    <a:lnTo>
                      <a:pt x="1801" y="303"/>
                    </a:lnTo>
                    <a:lnTo>
                      <a:pt x="1837" y="340"/>
                    </a:lnTo>
                    <a:lnTo>
                      <a:pt x="1871" y="379"/>
                    </a:lnTo>
                    <a:lnTo>
                      <a:pt x="1903" y="418"/>
                    </a:lnTo>
                    <a:lnTo>
                      <a:pt x="1932" y="461"/>
                    </a:lnTo>
                    <a:lnTo>
                      <a:pt x="1959" y="503"/>
                    </a:lnTo>
                    <a:lnTo>
                      <a:pt x="1984" y="547"/>
                    </a:lnTo>
                    <a:lnTo>
                      <a:pt x="2008" y="591"/>
                    </a:lnTo>
                    <a:lnTo>
                      <a:pt x="2030" y="639"/>
                    </a:lnTo>
                    <a:lnTo>
                      <a:pt x="2049" y="685"/>
                    </a:lnTo>
                    <a:lnTo>
                      <a:pt x="2066" y="734"/>
                    </a:lnTo>
                    <a:lnTo>
                      <a:pt x="2081" y="783"/>
                    </a:lnTo>
                    <a:lnTo>
                      <a:pt x="2093" y="833"/>
                    </a:lnTo>
                    <a:lnTo>
                      <a:pt x="2103" y="884"/>
                    </a:lnTo>
                    <a:lnTo>
                      <a:pt x="2110" y="934"/>
                    </a:lnTo>
                    <a:lnTo>
                      <a:pt x="2115" y="987"/>
                    </a:lnTo>
                    <a:lnTo>
                      <a:pt x="2117" y="1038"/>
                    </a:lnTo>
                    <a:lnTo>
                      <a:pt x="2117" y="1091"/>
                    </a:lnTo>
                    <a:lnTo>
                      <a:pt x="2114" y="1145"/>
                    </a:lnTo>
                    <a:lnTo>
                      <a:pt x="2109" y="1198"/>
                    </a:lnTo>
                    <a:lnTo>
                      <a:pt x="2100" y="1250"/>
                    </a:lnTo>
                    <a:lnTo>
                      <a:pt x="2090" y="1303"/>
                    </a:lnTo>
                    <a:lnTo>
                      <a:pt x="2076" y="1357"/>
                    </a:lnTo>
                    <a:lnTo>
                      <a:pt x="2076" y="1357"/>
                    </a:lnTo>
                    <a:close/>
                  </a:path>
                </a:pathLst>
              </a:custGeom>
              <a:noFill/>
              <a:ln w="38160">
                <a:solidFill>
                  <a:srgbClr val="b3cce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Freeform 48"/>
              <p:cNvSpPr/>
              <p:nvPr/>
            </p:nvSpPr>
            <p:spPr>
              <a:xfrm>
                <a:off x="465120" y="1449360"/>
                <a:ext cx="798480" cy="792360"/>
              </a:xfrm>
              <a:custGeom>
                <a:avLst/>
                <a:gdLst/>
                <a:ahLst/>
                <a:rect l="l" t="t" r="r" b="b"/>
                <a:pathLst>
                  <a:path w="2117" h="2132">
                    <a:moveTo>
                      <a:pt x="2076" y="1357"/>
                    </a:moveTo>
                    <a:lnTo>
                      <a:pt x="2076" y="1357"/>
                    </a:lnTo>
                    <a:lnTo>
                      <a:pt x="2059" y="1408"/>
                    </a:lnTo>
                    <a:lnTo>
                      <a:pt x="2040" y="1459"/>
                    </a:lnTo>
                    <a:lnTo>
                      <a:pt x="2020" y="1510"/>
                    </a:lnTo>
                    <a:lnTo>
                      <a:pt x="1996" y="1558"/>
                    </a:lnTo>
                    <a:lnTo>
                      <a:pt x="1971" y="1604"/>
                    </a:lnTo>
                    <a:lnTo>
                      <a:pt x="1944" y="1648"/>
                    </a:lnTo>
                    <a:lnTo>
                      <a:pt x="1913" y="1692"/>
                    </a:lnTo>
                    <a:lnTo>
                      <a:pt x="1882" y="1733"/>
                    </a:lnTo>
                    <a:lnTo>
                      <a:pt x="1848" y="1773"/>
                    </a:lnTo>
                    <a:lnTo>
                      <a:pt x="1813" y="1811"/>
                    </a:lnTo>
                    <a:lnTo>
                      <a:pt x="1777" y="1846"/>
                    </a:lnTo>
                    <a:lnTo>
                      <a:pt x="1738" y="1880"/>
                    </a:lnTo>
                    <a:lnTo>
                      <a:pt x="1699" y="1913"/>
                    </a:lnTo>
                    <a:lnTo>
                      <a:pt x="1656" y="1943"/>
                    </a:lnTo>
                    <a:lnTo>
                      <a:pt x="1614" y="1970"/>
                    </a:lnTo>
                    <a:lnTo>
                      <a:pt x="1570" y="1998"/>
                    </a:lnTo>
                    <a:lnTo>
                      <a:pt x="1526" y="2021"/>
                    </a:lnTo>
                    <a:lnTo>
                      <a:pt x="1480" y="2042"/>
                    </a:lnTo>
                    <a:lnTo>
                      <a:pt x="1432" y="2062"/>
                    </a:lnTo>
                    <a:lnTo>
                      <a:pt x="1385" y="2079"/>
                    </a:lnTo>
                    <a:lnTo>
                      <a:pt x="1335" y="2094"/>
                    </a:lnTo>
                    <a:lnTo>
                      <a:pt x="1286" y="2106"/>
                    </a:lnTo>
                    <a:lnTo>
                      <a:pt x="1235" y="2117"/>
                    </a:lnTo>
                    <a:lnTo>
                      <a:pt x="1184" y="2125"/>
                    </a:lnTo>
                    <a:lnTo>
                      <a:pt x="1133" y="2130"/>
                    </a:lnTo>
                    <a:lnTo>
                      <a:pt x="1080" y="2132"/>
                    </a:lnTo>
                    <a:lnTo>
                      <a:pt x="1030" y="2132"/>
                    </a:lnTo>
                    <a:lnTo>
                      <a:pt x="977" y="2130"/>
                    </a:lnTo>
                    <a:lnTo>
                      <a:pt x="924" y="2125"/>
                    </a:lnTo>
                    <a:lnTo>
                      <a:pt x="872" y="2117"/>
                    </a:lnTo>
                    <a:lnTo>
                      <a:pt x="819" y="2105"/>
                    </a:lnTo>
                    <a:lnTo>
                      <a:pt x="766" y="2091"/>
                    </a:lnTo>
                    <a:lnTo>
                      <a:pt x="766" y="2091"/>
                    </a:lnTo>
                    <a:lnTo>
                      <a:pt x="714" y="2076"/>
                    </a:lnTo>
                    <a:lnTo>
                      <a:pt x="663" y="2057"/>
                    </a:lnTo>
                    <a:lnTo>
                      <a:pt x="613" y="2035"/>
                    </a:lnTo>
                    <a:lnTo>
                      <a:pt x="566" y="2013"/>
                    </a:lnTo>
                    <a:lnTo>
                      <a:pt x="520" y="1987"/>
                    </a:lnTo>
                    <a:lnTo>
                      <a:pt x="476" y="1959"/>
                    </a:lnTo>
                    <a:lnTo>
                      <a:pt x="433" y="1930"/>
                    </a:lnTo>
                    <a:lnTo>
                      <a:pt x="392" y="1897"/>
                    </a:lnTo>
                    <a:lnTo>
                      <a:pt x="353" y="1865"/>
                    </a:lnTo>
                    <a:lnTo>
                      <a:pt x="316" y="1829"/>
                    </a:lnTo>
                    <a:lnTo>
                      <a:pt x="280" y="1792"/>
                    </a:lnTo>
                    <a:lnTo>
                      <a:pt x="246" y="1755"/>
                    </a:lnTo>
                    <a:lnTo>
                      <a:pt x="216" y="1714"/>
                    </a:lnTo>
                    <a:lnTo>
                      <a:pt x="185" y="1673"/>
                    </a:lnTo>
                    <a:lnTo>
                      <a:pt x="158" y="1631"/>
                    </a:lnTo>
                    <a:lnTo>
                      <a:pt x="133" y="1587"/>
                    </a:lnTo>
                    <a:lnTo>
                      <a:pt x="109" y="1541"/>
                    </a:lnTo>
                    <a:lnTo>
                      <a:pt x="87" y="1495"/>
                    </a:lnTo>
                    <a:lnTo>
                      <a:pt x="68" y="1447"/>
                    </a:lnTo>
                    <a:lnTo>
                      <a:pt x="51" y="1398"/>
                    </a:lnTo>
                    <a:lnTo>
                      <a:pt x="37" y="1350"/>
                    </a:lnTo>
                    <a:lnTo>
                      <a:pt x="24" y="1299"/>
                    </a:lnTo>
                    <a:lnTo>
                      <a:pt x="15" y="1248"/>
                    </a:lnTo>
                    <a:lnTo>
                      <a:pt x="7" y="1198"/>
                    </a:lnTo>
                    <a:lnTo>
                      <a:pt x="2" y="1147"/>
                    </a:lnTo>
                    <a:lnTo>
                      <a:pt x="0" y="1094"/>
                    </a:lnTo>
                    <a:lnTo>
                      <a:pt x="0" y="1041"/>
                    </a:lnTo>
                    <a:lnTo>
                      <a:pt x="3" y="989"/>
                    </a:lnTo>
                    <a:lnTo>
                      <a:pt x="8" y="936"/>
                    </a:lnTo>
                    <a:lnTo>
                      <a:pt x="17" y="882"/>
                    </a:lnTo>
                    <a:lnTo>
                      <a:pt x="27" y="829"/>
                    </a:lnTo>
                    <a:lnTo>
                      <a:pt x="41" y="776"/>
                    </a:lnTo>
                    <a:lnTo>
                      <a:pt x="41" y="776"/>
                    </a:lnTo>
                    <a:lnTo>
                      <a:pt x="58" y="724"/>
                    </a:lnTo>
                    <a:lnTo>
                      <a:pt x="76" y="673"/>
                    </a:lnTo>
                    <a:lnTo>
                      <a:pt x="97" y="623"/>
                    </a:lnTo>
                    <a:lnTo>
                      <a:pt x="121" y="574"/>
                    </a:lnTo>
                    <a:lnTo>
                      <a:pt x="146" y="528"/>
                    </a:lnTo>
                    <a:lnTo>
                      <a:pt x="173" y="484"/>
                    </a:lnTo>
                    <a:lnTo>
                      <a:pt x="204" y="440"/>
                    </a:lnTo>
                    <a:lnTo>
                      <a:pt x="234" y="399"/>
                    </a:lnTo>
                    <a:lnTo>
                      <a:pt x="268" y="360"/>
                    </a:lnTo>
                    <a:lnTo>
                      <a:pt x="304" y="321"/>
                    </a:lnTo>
                    <a:lnTo>
                      <a:pt x="340" y="285"/>
                    </a:lnTo>
                    <a:lnTo>
                      <a:pt x="379" y="251"/>
                    </a:lnTo>
                    <a:lnTo>
                      <a:pt x="418" y="219"/>
                    </a:lnTo>
                    <a:lnTo>
                      <a:pt x="460" y="190"/>
                    </a:lnTo>
                    <a:lnTo>
                      <a:pt x="503" y="161"/>
                    </a:lnTo>
                    <a:lnTo>
                      <a:pt x="547" y="136"/>
                    </a:lnTo>
                    <a:lnTo>
                      <a:pt x="591" y="112"/>
                    </a:lnTo>
                    <a:lnTo>
                      <a:pt x="637" y="90"/>
                    </a:lnTo>
                    <a:lnTo>
                      <a:pt x="685" y="70"/>
                    </a:lnTo>
                    <a:lnTo>
                      <a:pt x="732" y="53"/>
                    </a:lnTo>
                    <a:lnTo>
                      <a:pt x="781" y="39"/>
                    </a:lnTo>
                    <a:lnTo>
                      <a:pt x="831" y="25"/>
                    </a:lnTo>
                    <a:lnTo>
                      <a:pt x="882" y="15"/>
                    </a:lnTo>
                    <a:lnTo>
                      <a:pt x="933" y="8"/>
                    </a:lnTo>
                    <a:lnTo>
                      <a:pt x="984" y="3"/>
                    </a:lnTo>
                    <a:lnTo>
                      <a:pt x="1036" y="0"/>
                    </a:lnTo>
                    <a:lnTo>
                      <a:pt x="1087" y="0"/>
                    </a:lnTo>
                    <a:lnTo>
                      <a:pt x="1140" y="3"/>
                    </a:lnTo>
                    <a:lnTo>
                      <a:pt x="1193" y="8"/>
                    </a:lnTo>
                    <a:lnTo>
                      <a:pt x="1245" y="15"/>
                    </a:lnTo>
                    <a:lnTo>
                      <a:pt x="1298" y="27"/>
                    </a:lnTo>
                    <a:lnTo>
                      <a:pt x="1351" y="41"/>
                    </a:lnTo>
                    <a:lnTo>
                      <a:pt x="1351" y="41"/>
                    </a:lnTo>
                    <a:lnTo>
                      <a:pt x="1403" y="56"/>
                    </a:lnTo>
                    <a:lnTo>
                      <a:pt x="1454" y="75"/>
                    </a:lnTo>
                    <a:lnTo>
                      <a:pt x="1504" y="97"/>
                    </a:lnTo>
                    <a:lnTo>
                      <a:pt x="1551" y="119"/>
                    </a:lnTo>
                    <a:lnTo>
                      <a:pt x="1597" y="144"/>
                    </a:lnTo>
                    <a:lnTo>
                      <a:pt x="1641" y="173"/>
                    </a:lnTo>
                    <a:lnTo>
                      <a:pt x="1684" y="202"/>
                    </a:lnTo>
                    <a:lnTo>
                      <a:pt x="1724" y="234"/>
                    </a:lnTo>
                    <a:lnTo>
                      <a:pt x="1763" y="267"/>
                    </a:lnTo>
                    <a:lnTo>
                      <a:pt x="1801" y="302"/>
                    </a:lnTo>
                    <a:lnTo>
                      <a:pt x="1836" y="340"/>
                    </a:lnTo>
                    <a:lnTo>
                      <a:pt x="1870" y="377"/>
                    </a:lnTo>
                    <a:lnTo>
                      <a:pt x="1901" y="418"/>
                    </a:lnTo>
                    <a:lnTo>
                      <a:pt x="1932" y="459"/>
                    </a:lnTo>
                    <a:lnTo>
                      <a:pt x="1959" y="503"/>
                    </a:lnTo>
                    <a:lnTo>
                      <a:pt x="1984" y="547"/>
                    </a:lnTo>
                    <a:lnTo>
                      <a:pt x="2008" y="591"/>
                    </a:lnTo>
                    <a:lnTo>
                      <a:pt x="2030" y="637"/>
                    </a:lnTo>
                    <a:lnTo>
                      <a:pt x="2049" y="684"/>
                    </a:lnTo>
                    <a:lnTo>
                      <a:pt x="2066" y="734"/>
                    </a:lnTo>
                    <a:lnTo>
                      <a:pt x="2079" y="783"/>
                    </a:lnTo>
                    <a:lnTo>
                      <a:pt x="2093" y="832"/>
                    </a:lnTo>
                    <a:lnTo>
                      <a:pt x="2102" y="883"/>
                    </a:lnTo>
                    <a:lnTo>
                      <a:pt x="2110" y="934"/>
                    </a:lnTo>
                    <a:lnTo>
                      <a:pt x="2115" y="987"/>
                    </a:lnTo>
                    <a:lnTo>
                      <a:pt x="2117" y="1038"/>
                    </a:lnTo>
                    <a:lnTo>
                      <a:pt x="2117" y="1090"/>
                    </a:lnTo>
                    <a:lnTo>
                      <a:pt x="2113" y="1143"/>
                    </a:lnTo>
                    <a:lnTo>
                      <a:pt x="2108" y="1198"/>
                    </a:lnTo>
                    <a:lnTo>
                      <a:pt x="2100" y="1250"/>
                    </a:lnTo>
                    <a:lnTo>
                      <a:pt x="2090" y="1303"/>
                    </a:lnTo>
                    <a:lnTo>
                      <a:pt x="2076" y="1357"/>
                    </a:lnTo>
                    <a:lnTo>
                      <a:pt x="2076" y="1357"/>
                    </a:lnTo>
                    <a:close/>
                  </a:path>
                </a:pathLst>
              </a:custGeom>
              <a:noFill/>
              <a:ln w="38160">
                <a:solidFill>
                  <a:srgbClr val="b3cce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Freeform 49"/>
              <p:cNvSpPr/>
              <p:nvPr/>
            </p:nvSpPr>
            <p:spPr>
              <a:xfrm>
                <a:off x="507960" y="1525320"/>
                <a:ext cx="606240" cy="492120"/>
              </a:xfrm>
              <a:custGeom>
                <a:avLst/>
                <a:gdLst/>
                <a:ahLst/>
                <a:rect l="l" t="t" r="r" b="b"/>
                <a:pathLst>
                  <a:path w="1609" h="1326">
                    <a:moveTo>
                      <a:pt x="0" y="1326"/>
                    </a:moveTo>
                    <a:lnTo>
                      <a:pt x="0" y="1326"/>
                    </a:lnTo>
                    <a:lnTo>
                      <a:pt x="26" y="1243"/>
                    </a:lnTo>
                    <a:lnTo>
                      <a:pt x="53" y="1162"/>
                    </a:lnTo>
                    <a:lnTo>
                      <a:pt x="83" y="1082"/>
                    </a:lnTo>
                    <a:lnTo>
                      <a:pt x="116" y="1005"/>
                    </a:lnTo>
                    <a:lnTo>
                      <a:pt x="151" y="931"/>
                    </a:lnTo>
                    <a:lnTo>
                      <a:pt x="189" y="858"/>
                    </a:lnTo>
                    <a:lnTo>
                      <a:pt x="228" y="786"/>
                    </a:lnTo>
                    <a:lnTo>
                      <a:pt x="269" y="718"/>
                    </a:lnTo>
                    <a:lnTo>
                      <a:pt x="311" y="654"/>
                    </a:lnTo>
                    <a:lnTo>
                      <a:pt x="357" y="591"/>
                    </a:lnTo>
                    <a:lnTo>
                      <a:pt x="403" y="531"/>
                    </a:lnTo>
                    <a:lnTo>
                      <a:pt x="452" y="474"/>
                    </a:lnTo>
                    <a:lnTo>
                      <a:pt x="501" y="419"/>
                    </a:lnTo>
                    <a:lnTo>
                      <a:pt x="552" y="367"/>
                    </a:lnTo>
                    <a:lnTo>
                      <a:pt x="605" y="319"/>
                    </a:lnTo>
                    <a:lnTo>
                      <a:pt x="658" y="273"/>
                    </a:lnTo>
                    <a:lnTo>
                      <a:pt x="714" y="231"/>
                    </a:lnTo>
                    <a:lnTo>
                      <a:pt x="768" y="192"/>
                    </a:lnTo>
                    <a:lnTo>
                      <a:pt x="826" y="156"/>
                    </a:lnTo>
                    <a:lnTo>
                      <a:pt x="884" y="124"/>
                    </a:lnTo>
                    <a:lnTo>
                      <a:pt x="941" y="97"/>
                    </a:lnTo>
                    <a:lnTo>
                      <a:pt x="1001" y="71"/>
                    </a:lnTo>
                    <a:lnTo>
                      <a:pt x="1060" y="49"/>
                    </a:lnTo>
                    <a:lnTo>
                      <a:pt x="1120" y="32"/>
                    </a:lnTo>
                    <a:lnTo>
                      <a:pt x="1181" y="17"/>
                    </a:lnTo>
                    <a:lnTo>
                      <a:pt x="1242" y="8"/>
                    </a:lnTo>
                    <a:lnTo>
                      <a:pt x="1303" y="1"/>
                    </a:lnTo>
                    <a:lnTo>
                      <a:pt x="1334" y="0"/>
                    </a:lnTo>
                    <a:lnTo>
                      <a:pt x="1364" y="0"/>
                    </a:lnTo>
                    <a:lnTo>
                      <a:pt x="1395" y="0"/>
                    </a:lnTo>
                    <a:lnTo>
                      <a:pt x="1425" y="1"/>
                    </a:lnTo>
                    <a:lnTo>
                      <a:pt x="1456" y="5"/>
                    </a:lnTo>
                    <a:lnTo>
                      <a:pt x="1487" y="8"/>
                    </a:lnTo>
                    <a:lnTo>
                      <a:pt x="1517" y="13"/>
                    </a:lnTo>
                    <a:lnTo>
                      <a:pt x="1548" y="18"/>
                    </a:lnTo>
                    <a:lnTo>
                      <a:pt x="1578" y="25"/>
                    </a:lnTo>
                    <a:lnTo>
                      <a:pt x="1609" y="34"/>
                    </a:lnTo>
                  </a:path>
                </a:pathLst>
              </a:custGeom>
              <a:noFill/>
              <a:ln w="38160">
                <a:solidFill>
                  <a:srgbClr val="b3cce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Freeform 50"/>
              <p:cNvSpPr/>
              <p:nvPr/>
            </p:nvSpPr>
            <p:spPr>
              <a:xfrm>
                <a:off x="817560" y="1452240"/>
                <a:ext cx="307800" cy="716400"/>
              </a:xfrm>
              <a:custGeom>
                <a:avLst/>
                <a:gdLst/>
                <a:ahLst/>
                <a:rect l="l" t="t" r="r" b="b"/>
                <a:pathLst>
                  <a:path w="817" h="1928">
                    <a:moveTo>
                      <a:pt x="730" y="1928"/>
                    </a:moveTo>
                    <a:lnTo>
                      <a:pt x="730" y="1928"/>
                    </a:lnTo>
                    <a:lnTo>
                      <a:pt x="752" y="1845"/>
                    </a:lnTo>
                    <a:lnTo>
                      <a:pt x="771" y="1762"/>
                    </a:lnTo>
                    <a:lnTo>
                      <a:pt x="786" y="1680"/>
                    </a:lnTo>
                    <a:lnTo>
                      <a:pt x="800" y="1599"/>
                    </a:lnTo>
                    <a:lnTo>
                      <a:pt x="808" y="1517"/>
                    </a:lnTo>
                    <a:lnTo>
                      <a:pt x="813" y="1436"/>
                    </a:lnTo>
                    <a:lnTo>
                      <a:pt x="817" y="1358"/>
                    </a:lnTo>
                    <a:lnTo>
                      <a:pt x="815" y="1278"/>
                    </a:lnTo>
                    <a:lnTo>
                      <a:pt x="812" y="1201"/>
                    </a:lnTo>
                    <a:lnTo>
                      <a:pt x="805" y="1125"/>
                    </a:lnTo>
                    <a:lnTo>
                      <a:pt x="796" y="1050"/>
                    </a:lnTo>
                    <a:lnTo>
                      <a:pt x="783" y="977"/>
                    </a:lnTo>
                    <a:lnTo>
                      <a:pt x="768" y="906"/>
                    </a:lnTo>
                    <a:lnTo>
                      <a:pt x="751" y="836"/>
                    </a:lnTo>
                    <a:lnTo>
                      <a:pt x="729" y="767"/>
                    </a:lnTo>
                    <a:lnTo>
                      <a:pt x="706" y="702"/>
                    </a:lnTo>
                    <a:lnTo>
                      <a:pt x="679" y="637"/>
                    </a:lnTo>
                    <a:lnTo>
                      <a:pt x="650" y="575"/>
                    </a:lnTo>
                    <a:lnTo>
                      <a:pt x="620" y="515"/>
                    </a:lnTo>
                    <a:lnTo>
                      <a:pt x="586" y="457"/>
                    </a:lnTo>
                    <a:lnTo>
                      <a:pt x="548" y="403"/>
                    </a:lnTo>
                    <a:lnTo>
                      <a:pt x="511" y="352"/>
                    </a:lnTo>
                    <a:lnTo>
                      <a:pt x="469" y="301"/>
                    </a:lnTo>
                    <a:lnTo>
                      <a:pt x="426" y="255"/>
                    </a:lnTo>
                    <a:lnTo>
                      <a:pt x="380" y="211"/>
                    </a:lnTo>
                    <a:lnTo>
                      <a:pt x="333" y="172"/>
                    </a:lnTo>
                    <a:lnTo>
                      <a:pt x="282" y="135"/>
                    </a:lnTo>
                    <a:lnTo>
                      <a:pt x="229" y="101"/>
                    </a:lnTo>
                    <a:lnTo>
                      <a:pt x="175" y="70"/>
                    </a:lnTo>
                    <a:lnTo>
                      <a:pt x="147" y="56"/>
                    </a:lnTo>
                    <a:lnTo>
                      <a:pt x="119" y="43"/>
                    </a:lnTo>
                    <a:lnTo>
                      <a:pt x="90" y="31"/>
                    </a:lnTo>
                    <a:lnTo>
                      <a:pt x="61" y="19"/>
                    </a:lnTo>
                    <a:lnTo>
                      <a:pt x="30" y="9"/>
                    </a:lnTo>
                    <a:lnTo>
                      <a:pt x="0" y="0"/>
                    </a:lnTo>
                  </a:path>
                </a:pathLst>
              </a:custGeom>
              <a:noFill/>
              <a:ln w="38160">
                <a:solidFill>
                  <a:srgbClr val="b3cce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CFE51-CCC2-467E-A178-DD11208D453B}" type="slidenum">
              <a:rPr b="0" lang="tr-T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87"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8"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26" name="Rectangle 2"/>
          <p:cNvSpPr/>
          <p:nvPr/>
        </p:nvSpPr>
        <p:spPr>
          <a:xfrm>
            <a:off x="0" y="0"/>
            <a:ext cx="9144000" cy="3662280"/>
          </a:xfrm>
          <a:prstGeom prst="rect">
            <a:avLst/>
          </a:pr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
          <p:cNvSpPr/>
          <p:nvPr/>
        </p:nvSpPr>
        <p:spPr>
          <a:xfrm>
            <a:off x="0" y="6605640"/>
            <a:ext cx="9139320" cy="27792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4"/>
          <p:cNvSpPr/>
          <p:nvPr/>
        </p:nvSpPr>
        <p:spPr>
          <a:xfrm>
            <a:off x="0" y="3618000"/>
            <a:ext cx="9147240" cy="21564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29" name="Group 7"/>
          <p:cNvGrpSpPr/>
          <p:nvPr/>
        </p:nvGrpSpPr>
        <p:grpSpPr>
          <a:xfrm>
            <a:off x="4927680" y="260280"/>
            <a:ext cx="1296720" cy="1081080"/>
            <a:chOff x="4927680" y="260280"/>
            <a:chExt cx="1296720" cy="1081080"/>
          </a:xfrm>
        </p:grpSpPr>
        <p:sp>
          <p:nvSpPr>
            <p:cNvPr id="130" name="AutoShape 8"/>
            <p:cNvSpPr/>
            <p:nvPr/>
          </p:nvSpPr>
          <p:spPr>
            <a:xfrm>
              <a:off x="4927680" y="26028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1" name="Group 9"/>
            <p:cNvGrpSpPr/>
            <p:nvPr/>
          </p:nvGrpSpPr>
          <p:grpSpPr>
            <a:xfrm>
              <a:off x="5072040" y="422280"/>
              <a:ext cx="1007640" cy="756720"/>
              <a:chOff x="5072040" y="422280"/>
              <a:chExt cx="1007640" cy="756720"/>
            </a:xfrm>
          </p:grpSpPr>
          <p:sp>
            <p:nvSpPr>
              <p:cNvPr id="132" name="Freeform 10"/>
              <p:cNvSpPr/>
              <p:nvPr/>
            </p:nvSpPr>
            <p:spPr>
              <a:xfrm>
                <a:off x="5072040" y="422280"/>
                <a:ext cx="703080" cy="654120"/>
              </a:xfrm>
              <a:custGeom>
                <a:avLst/>
                <a:gdLst/>
                <a:ahLst/>
                <a:rect l="l" t="t" r="r" b="b"/>
                <a:pathLst>
                  <a:path w="463" h="458">
                    <a:moveTo>
                      <a:pt x="406" y="125"/>
                    </a:moveTo>
                    <a:cubicBezTo>
                      <a:pt x="463" y="220"/>
                      <a:pt x="430" y="343"/>
                      <a:pt x="334" y="401"/>
                    </a:cubicBezTo>
                    <a:cubicBezTo>
                      <a:pt x="237" y="458"/>
                      <a:pt x="113" y="428"/>
                      <a:pt x="56" y="333"/>
                    </a:cubicBezTo>
                    <a:cubicBezTo>
                      <a:pt x="0" y="238"/>
                      <a:pt x="32" y="115"/>
                      <a:pt x="129" y="57"/>
                    </a:cubicBezTo>
                    <a:cubicBezTo>
                      <a:pt x="226" y="0"/>
                      <a:pt x="350" y="30"/>
                      <a:pt x="406" y="125"/>
                    </a:cubicBezTo>
                    <a:close/>
                  </a:path>
                </a:pathLst>
              </a:custGeom>
              <a:noFill/>
              <a:ln w="38160">
                <a:solidFill>
                  <a:srgbClr val="b3cce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11"/>
              <p:cNvSpPr/>
              <p:nvPr/>
            </p:nvSpPr>
            <p:spPr>
              <a:xfrm>
                <a:off x="5654880" y="882000"/>
                <a:ext cx="424800" cy="297000"/>
              </a:xfrm>
              <a:custGeom>
                <a:avLst/>
                <a:gdLst/>
                <a:ahLst/>
                <a:rect l="l" t="t" r="r" b="b"/>
                <a:pathLst>
                  <a:path w="560" h="416">
                    <a:moveTo>
                      <a:pt x="560" y="342"/>
                    </a:moveTo>
                    <a:lnTo>
                      <a:pt x="510" y="416"/>
                    </a:lnTo>
                    <a:lnTo>
                      <a:pt x="0" y="76"/>
                    </a:lnTo>
                    <a:lnTo>
                      <a:pt x="50" y="0"/>
                    </a:lnTo>
                    <a:lnTo>
                      <a:pt x="560" y="342"/>
                    </a:lnTo>
                    <a:close/>
                  </a:path>
                </a:pathLst>
              </a:custGeom>
              <a:noFill/>
              <a:ln w="38160">
                <a:solidFill>
                  <a:srgbClr val="b3cce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34" name="Group 12"/>
          <p:cNvGrpSpPr/>
          <p:nvPr/>
        </p:nvGrpSpPr>
        <p:grpSpPr>
          <a:xfrm>
            <a:off x="6856560" y="260280"/>
            <a:ext cx="1296720" cy="1081080"/>
            <a:chOff x="6856560" y="260280"/>
            <a:chExt cx="1296720" cy="1081080"/>
          </a:xfrm>
        </p:grpSpPr>
        <p:sp>
          <p:nvSpPr>
            <p:cNvPr id="135" name="AutoShape 13"/>
            <p:cNvSpPr/>
            <p:nvPr/>
          </p:nvSpPr>
          <p:spPr>
            <a:xfrm>
              <a:off x="6856560" y="26028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6" name="Group 14"/>
            <p:cNvGrpSpPr/>
            <p:nvPr/>
          </p:nvGrpSpPr>
          <p:grpSpPr>
            <a:xfrm>
              <a:off x="7094160" y="352440"/>
              <a:ext cx="821520" cy="913320"/>
              <a:chOff x="7094160" y="352440"/>
              <a:chExt cx="821520" cy="913320"/>
            </a:xfrm>
          </p:grpSpPr>
          <p:sp>
            <p:nvSpPr>
              <p:cNvPr id="137" name="Freeform 15"/>
              <p:cNvSpPr/>
              <p:nvPr/>
            </p:nvSpPr>
            <p:spPr>
              <a:xfrm rot="684000">
                <a:off x="7314840" y="399960"/>
                <a:ext cx="517320" cy="350640"/>
              </a:xfrm>
              <a:custGeom>
                <a:avLst/>
                <a:gdLst/>
                <a:ahLst/>
                <a:rect l="l" t="t" r="r" b="b"/>
                <a:pathLst>
                  <a:path w="681" h="508">
                    <a:moveTo>
                      <a:pt x="117" y="337"/>
                    </a:moveTo>
                    <a:lnTo>
                      <a:pt x="121" y="291"/>
                    </a:lnTo>
                    <a:lnTo>
                      <a:pt x="134" y="250"/>
                    </a:lnTo>
                    <a:lnTo>
                      <a:pt x="154" y="211"/>
                    </a:lnTo>
                    <a:lnTo>
                      <a:pt x="183" y="180"/>
                    </a:lnTo>
                    <a:lnTo>
                      <a:pt x="214" y="151"/>
                    </a:lnTo>
                    <a:lnTo>
                      <a:pt x="252" y="132"/>
                    </a:lnTo>
                    <a:lnTo>
                      <a:pt x="295" y="120"/>
                    </a:lnTo>
                    <a:lnTo>
                      <a:pt x="342" y="116"/>
                    </a:lnTo>
                    <a:lnTo>
                      <a:pt x="384" y="120"/>
                    </a:lnTo>
                    <a:lnTo>
                      <a:pt x="427" y="132"/>
                    </a:lnTo>
                    <a:lnTo>
                      <a:pt x="464" y="151"/>
                    </a:lnTo>
                    <a:lnTo>
                      <a:pt x="497" y="180"/>
                    </a:lnTo>
                    <a:lnTo>
                      <a:pt x="524" y="211"/>
                    </a:lnTo>
                    <a:lnTo>
                      <a:pt x="545" y="250"/>
                    </a:lnTo>
                    <a:lnTo>
                      <a:pt x="557" y="291"/>
                    </a:lnTo>
                    <a:lnTo>
                      <a:pt x="565" y="337"/>
                    </a:lnTo>
                    <a:lnTo>
                      <a:pt x="681" y="337"/>
                    </a:lnTo>
                    <a:lnTo>
                      <a:pt x="671" y="267"/>
                    </a:lnTo>
                    <a:lnTo>
                      <a:pt x="652" y="205"/>
                    </a:lnTo>
                    <a:lnTo>
                      <a:pt x="619" y="147"/>
                    </a:lnTo>
                    <a:lnTo>
                      <a:pt x="580" y="99"/>
                    </a:lnTo>
                    <a:lnTo>
                      <a:pt x="528" y="56"/>
                    </a:lnTo>
                    <a:lnTo>
                      <a:pt x="472" y="25"/>
                    </a:lnTo>
                    <a:lnTo>
                      <a:pt x="408" y="6"/>
                    </a:lnTo>
                    <a:lnTo>
                      <a:pt x="342" y="0"/>
                    </a:lnTo>
                    <a:lnTo>
                      <a:pt x="272" y="6"/>
                    </a:lnTo>
                    <a:lnTo>
                      <a:pt x="208" y="25"/>
                    </a:lnTo>
                    <a:lnTo>
                      <a:pt x="150" y="56"/>
                    </a:lnTo>
                    <a:lnTo>
                      <a:pt x="101" y="99"/>
                    </a:lnTo>
                    <a:lnTo>
                      <a:pt x="59" y="147"/>
                    </a:lnTo>
                    <a:lnTo>
                      <a:pt x="27" y="205"/>
                    </a:lnTo>
                    <a:lnTo>
                      <a:pt x="6" y="267"/>
                    </a:lnTo>
                    <a:lnTo>
                      <a:pt x="0" y="337"/>
                    </a:lnTo>
                    <a:lnTo>
                      <a:pt x="0" y="508"/>
                    </a:lnTo>
                    <a:lnTo>
                      <a:pt x="117" y="508"/>
                    </a:lnTo>
                    <a:lnTo>
                      <a:pt x="117" y="337"/>
                    </a:lnTo>
                    <a:close/>
                  </a:path>
                </a:pathLst>
              </a:custGeom>
              <a:noFill/>
              <a:ln w="38160">
                <a:solidFill>
                  <a:srgbClr val="b3cce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AutoShape 16"/>
              <p:cNvSpPr/>
              <p:nvPr/>
            </p:nvSpPr>
            <p:spPr>
              <a:xfrm rot="684000">
                <a:off x="7145280" y="612720"/>
                <a:ext cx="719280" cy="587520"/>
              </a:xfrm>
              <a:prstGeom prst="roundRect">
                <a:avLst>
                  <a:gd name="adj" fmla="val 16667"/>
                </a:avLst>
              </a:prstGeom>
              <a:solidFill>
                <a:srgbClr val="336599"/>
              </a:solid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Freeform 17"/>
              <p:cNvSpPr/>
              <p:nvPr/>
            </p:nvSpPr>
            <p:spPr>
              <a:xfrm rot="684000">
                <a:off x="7495200" y="696600"/>
                <a:ext cx="73440" cy="152280"/>
              </a:xfrm>
              <a:custGeom>
                <a:avLst/>
                <a:gdLst/>
                <a:ahLst/>
                <a:rect l="l" t="t" r="r" b="b"/>
                <a:pathLst>
                  <a:path w="99" h="221">
                    <a:moveTo>
                      <a:pt x="99" y="48"/>
                    </a:moveTo>
                    <a:lnTo>
                      <a:pt x="93" y="27"/>
                    </a:lnTo>
                    <a:lnTo>
                      <a:pt x="84" y="14"/>
                    </a:lnTo>
                    <a:lnTo>
                      <a:pt x="68" y="2"/>
                    </a:lnTo>
                    <a:lnTo>
                      <a:pt x="51" y="0"/>
                    </a:lnTo>
                    <a:lnTo>
                      <a:pt x="29" y="2"/>
                    </a:lnTo>
                    <a:lnTo>
                      <a:pt x="14" y="14"/>
                    </a:lnTo>
                    <a:lnTo>
                      <a:pt x="4" y="27"/>
                    </a:lnTo>
                    <a:lnTo>
                      <a:pt x="0" y="48"/>
                    </a:lnTo>
                    <a:lnTo>
                      <a:pt x="2" y="64"/>
                    </a:lnTo>
                    <a:lnTo>
                      <a:pt x="10" y="78"/>
                    </a:lnTo>
                    <a:lnTo>
                      <a:pt x="20" y="87"/>
                    </a:lnTo>
                    <a:lnTo>
                      <a:pt x="37" y="95"/>
                    </a:lnTo>
                    <a:lnTo>
                      <a:pt x="31" y="221"/>
                    </a:lnTo>
                    <a:lnTo>
                      <a:pt x="68" y="221"/>
                    </a:lnTo>
                    <a:lnTo>
                      <a:pt x="62" y="95"/>
                    </a:lnTo>
                    <a:lnTo>
                      <a:pt x="76" y="87"/>
                    </a:lnTo>
                    <a:lnTo>
                      <a:pt x="88" y="78"/>
                    </a:lnTo>
                    <a:lnTo>
                      <a:pt x="95" y="64"/>
                    </a:lnTo>
                    <a:lnTo>
                      <a:pt x="99" y="48"/>
                    </a:lnTo>
                    <a:close/>
                  </a:path>
                </a:pathLst>
              </a:custGeom>
              <a:noFill/>
              <a:ln w="38160">
                <a:solidFill>
                  <a:srgbClr val="b3cce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40" name="Group 18"/>
          <p:cNvGrpSpPr/>
          <p:nvPr/>
        </p:nvGrpSpPr>
        <p:grpSpPr>
          <a:xfrm>
            <a:off x="2998800" y="260280"/>
            <a:ext cx="1296720" cy="1081080"/>
            <a:chOff x="2998800" y="260280"/>
            <a:chExt cx="1296720" cy="1081080"/>
          </a:xfrm>
        </p:grpSpPr>
        <p:sp>
          <p:nvSpPr>
            <p:cNvPr id="141" name="AutoShape 19"/>
            <p:cNvSpPr/>
            <p:nvPr/>
          </p:nvSpPr>
          <p:spPr>
            <a:xfrm>
              <a:off x="2998800" y="26028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42" name="Group 20"/>
            <p:cNvGrpSpPr/>
            <p:nvPr/>
          </p:nvGrpSpPr>
          <p:grpSpPr>
            <a:xfrm>
              <a:off x="3181320" y="463680"/>
              <a:ext cx="930240" cy="673200"/>
              <a:chOff x="3181320" y="463680"/>
              <a:chExt cx="930240" cy="673200"/>
            </a:xfrm>
          </p:grpSpPr>
          <p:sp>
            <p:nvSpPr>
              <p:cNvPr id="143" name="Freeform 21"/>
              <p:cNvSpPr/>
              <p:nvPr/>
            </p:nvSpPr>
            <p:spPr>
              <a:xfrm>
                <a:off x="3181320" y="463680"/>
                <a:ext cx="930240" cy="673200"/>
              </a:xfrm>
              <a:custGeom>
                <a:avLst/>
                <a:gdLst/>
                <a:ahLst/>
                <a:rect l="l" t="t" r="r" b="b"/>
                <a:pathLst>
                  <a:path w="581" h="395">
                    <a:moveTo>
                      <a:pt x="581" y="365"/>
                    </a:moveTo>
                    <a:cubicBezTo>
                      <a:pt x="581" y="381"/>
                      <a:pt x="568" y="395"/>
                      <a:pt x="552" y="395"/>
                    </a:cubicBezTo>
                    <a:cubicBezTo>
                      <a:pt x="30" y="395"/>
                      <a:pt x="30" y="395"/>
                      <a:pt x="30" y="395"/>
                    </a:cubicBezTo>
                    <a:cubicBezTo>
                      <a:pt x="13" y="395"/>
                      <a:pt x="0" y="381"/>
                      <a:pt x="0" y="365"/>
                    </a:cubicBezTo>
                    <a:cubicBezTo>
                      <a:pt x="0" y="29"/>
                      <a:pt x="0" y="29"/>
                      <a:pt x="0" y="29"/>
                    </a:cubicBezTo>
                    <a:cubicBezTo>
                      <a:pt x="0" y="13"/>
                      <a:pt x="13" y="0"/>
                      <a:pt x="30" y="0"/>
                    </a:cubicBezTo>
                    <a:cubicBezTo>
                      <a:pt x="552" y="0"/>
                      <a:pt x="552" y="0"/>
                      <a:pt x="552" y="0"/>
                    </a:cubicBezTo>
                    <a:cubicBezTo>
                      <a:pt x="568" y="0"/>
                      <a:pt x="581" y="13"/>
                      <a:pt x="581" y="29"/>
                    </a:cubicBezTo>
                    <a:lnTo>
                      <a:pt x="581" y="365"/>
                    </a:lnTo>
                    <a:close/>
                  </a:path>
                </a:pathLst>
              </a:custGeom>
              <a:noFill/>
              <a:ln w="38160">
                <a:solidFill>
                  <a:srgbClr val="b3cce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Freeform 22"/>
              <p:cNvSpPr/>
              <p:nvPr/>
            </p:nvSpPr>
            <p:spPr>
              <a:xfrm>
                <a:off x="3182760" y="519120"/>
                <a:ext cx="927000" cy="284400"/>
              </a:xfrm>
              <a:custGeom>
                <a:avLst/>
                <a:gdLst/>
                <a:ahLst/>
                <a:rect l="l" t="t" r="r" b="b"/>
                <a:pathLst>
                  <a:path w="1158" h="332">
                    <a:moveTo>
                      <a:pt x="0" y="0"/>
                    </a:moveTo>
                    <a:lnTo>
                      <a:pt x="580" y="332"/>
                    </a:lnTo>
                    <a:lnTo>
                      <a:pt x="1158" y="0"/>
                    </a:lnTo>
                  </a:path>
                </a:pathLst>
              </a:custGeom>
              <a:noFill/>
              <a:ln w="38160">
                <a:solidFill>
                  <a:srgbClr val="b3cce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45" name="Group 23"/>
          <p:cNvGrpSpPr/>
          <p:nvPr/>
        </p:nvGrpSpPr>
        <p:grpSpPr>
          <a:xfrm>
            <a:off x="6539040" y="4025880"/>
            <a:ext cx="2432880" cy="2426760"/>
            <a:chOff x="6539040" y="4025880"/>
            <a:chExt cx="2432880" cy="2426760"/>
          </a:xfrm>
        </p:grpSpPr>
        <p:sp>
          <p:nvSpPr>
            <p:cNvPr id="146" name="Freeform 24"/>
            <p:cNvSpPr/>
            <p:nvPr/>
          </p:nvSpPr>
          <p:spPr>
            <a:xfrm>
              <a:off x="7409160" y="4027680"/>
              <a:ext cx="1191240" cy="691560"/>
            </a:xfrm>
            <a:custGeom>
              <a:avLst/>
              <a:gdLst/>
              <a:ahLst/>
              <a:rect l="l" t="t" r="r" b="b"/>
              <a:pathLst>
                <a:path w="1039" h="606">
                  <a:moveTo>
                    <a:pt x="1034" y="450"/>
                  </a:moveTo>
                  <a:lnTo>
                    <a:pt x="1034" y="450"/>
                  </a:lnTo>
                  <a:lnTo>
                    <a:pt x="1029" y="464"/>
                  </a:lnTo>
                  <a:lnTo>
                    <a:pt x="1024" y="476"/>
                  </a:lnTo>
                  <a:lnTo>
                    <a:pt x="1016" y="489"/>
                  </a:lnTo>
                  <a:lnTo>
                    <a:pt x="1009" y="501"/>
                  </a:lnTo>
                  <a:lnTo>
                    <a:pt x="999" y="511"/>
                  </a:lnTo>
                  <a:lnTo>
                    <a:pt x="988" y="523"/>
                  </a:lnTo>
                  <a:lnTo>
                    <a:pt x="976" y="532"/>
                  </a:lnTo>
                  <a:lnTo>
                    <a:pt x="965" y="542"/>
                  </a:lnTo>
                  <a:lnTo>
                    <a:pt x="951" y="550"/>
                  </a:lnTo>
                  <a:lnTo>
                    <a:pt x="936" y="559"/>
                  </a:lnTo>
                  <a:lnTo>
                    <a:pt x="903" y="574"/>
                  </a:lnTo>
                  <a:lnTo>
                    <a:pt x="868" y="586"/>
                  </a:lnTo>
                  <a:lnTo>
                    <a:pt x="830" y="594"/>
                  </a:lnTo>
                  <a:lnTo>
                    <a:pt x="788" y="601"/>
                  </a:lnTo>
                  <a:lnTo>
                    <a:pt x="744" y="606"/>
                  </a:lnTo>
                  <a:lnTo>
                    <a:pt x="698" y="606"/>
                  </a:lnTo>
                  <a:lnTo>
                    <a:pt x="650" y="605"/>
                  </a:lnTo>
                  <a:lnTo>
                    <a:pt x="599" y="601"/>
                  </a:lnTo>
                  <a:lnTo>
                    <a:pt x="548" y="593"/>
                  </a:lnTo>
                  <a:lnTo>
                    <a:pt x="497" y="583"/>
                  </a:lnTo>
                  <a:lnTo>
                    <a:pt x="445" y="569"/>
                  </a:lnTo>
                  <a:lnTo>
                    <a:pt x="445" y="569"/>
                  </a:lnTo>
                  <a:lnTo>
                    <a:pt x="392" y="552"/>
                  </a:lnTo>
                  <a:lnTo>
                    <a:pt x="341" y="533"/>
                  </a:lnTo>
                  <a:lnTo>
                    <a:pt x="295" y="513"/>
                  </a:lnTo>
                  <a:lnTo>
                    <a:pt x="249" y="491"/>
                  </a:lnTo>
                  <a:lnTo>
                    <a:pt x="209" y="467"/>
                  </a:lnTo>
                  <a:lnTo>
                    <a:pt x="169" y="442"/>
                  </a:lnTo>
                  <a:lnTo>
                    <a:pt x="134" y="414"/>
                  </a:lnTo>
                  <a:lnTo>
                    <a:pt x="103" y="387"/>
                  </a:lnTo>
                  <a:lnTo>
                    <a:pt x="74" y="358"/>
                  </a:lnTo>
                  <a:lnTo>
                    <a:pt x="51" y="329"/>
                  </a:lnTo>
                  <a:lnTo>
                    <a:pt x="32" y="301"/>
                  </a:lnTo>
                  <a:lnTo>
                    <a:pt x="23" y="285"/>
                  </a:lnTo>
                  <a:lnTo>
                    <a:pt x="17" y="272"/>
                  </a:lnTo>
                  <a:lnTo>
                    <a:pt x="11" y="256"/>
                  </a:lnTo>
                  <a:lnTo>
                    <a:pt x="6" y="243"/>
                  </a:lnTo>
                  <a:lnTo>
                    <a:pt x="3" y="228"/>
                  </a:lnTo>
                  <a:lnTo>
                    <a:pt x="1" y="212"/>
                  </a:lnTo>
                  <a:lnTo>
                    <a:pt x="0" y="199"/>
                  </a:lnTo>
                  <a:lnTo>
                    <a:pt x="1" y="185"/>
                  </a:lnTo>
                  <a:lnTo>
                    <a:pt x="3" y="170"/>
                  </a:lnTo>
                  <a:lnTo>
                    <a:pt x="6" y="156"/>
                  </a:lnTo>
                  <a:lnTo>
                    <a:pt x="6" y="156"/>
                  </a:lnTo>
                  <a:lnTo>
                    <a:pt x="10" y="143"/>
                  </a:lnTo>
                  <a:lnTo>
                    <a:pt x="17" y="131"/>
                  </a:lnTo>
                  <a:lnTo>
                    <a:pt x="23" y="117"/>
                  </a:lnTo>
                  <a:lnTo>
                    <a:pt x="32" y="105"/>
                  </a:lnTo>
                  <a:lnTo>
                    <a:pt x="40" y="95"/>
                  </a:lnTo>
                  <a:lnTo>
                    <a:pt x="51" y="85"/>
                  </a:lnTo>
                  <a:lnTo>
                    <a:pt x="62" y="75"/>
                  </a:lnTo>
                  <a:lnTo>
                    <a:pt x="76" y="64"/>
                  </a:lnTo>
                  <a:lnTo>
                    <a:pt x="90" y="56"/>
                  </a:lnTo>
                  <a:lnTo>
                    <a:pt x="103" y="47"/>
                  </a:lnTo>
                  <a:lnTo>
                    <a:pt x="136" y="32"/>
                  </a:lnTo>
                  <a:lnTo>
                    <a:pt x="171" y="20"/>
                  </a:lnTo>
                  <a:lnTo>
                    <a:pt x="210" y="12"/>
                  </a:lnTo>
                  <a:lnTo>
                    <a:pt x="251" y="5"/>
                  </a:lnTo>
                  <a:lnTo>
                    <a:pt x="295" y="2"/>
                  </a:lnTo>
                  <a:lnTo>
                    <a:pt x="341" y="0"/>
                  </a:lnTo>
                  <a:lnTo>
                    <a:pt x="390" y="2"/>
                  </a:lnTo>
                  <a:lnTo>
                    <a:pt x="440" y="5"/>
                  </a:lnTo>
                  <a:lnTo>
                    <a:pt x="491" y="13"/>
                  </a:lnTo>
                  <a:lnTo>
                    <a:pt x="543" y="24"/>
                  </a:lnTo>
                  <a:lnTo>
                    <a:pt x="596" y="37"/>
                  </a:lnTo>
                  <a:lnTo>
                    <a:pt x="596" y="37"/>
                  </a:lnTo>
                  <a:lnTo>
                    <a:pt x="649" y="54"/>
                  </a:lnTo>
                  <a:lnTo>
                    <a:pt x="698" y="73"/>
                  </a:lnTo>
                  <a:lnTo>
                    <a:pt x="745" y="93"/>
                  </a:lnTo>
                  <a:lnTo>
                    <a:pt x="790" y="115"/>
                  </a:lnTo>
                  <a:lnTo>
                    <a:pt x="832" y="139"/>
                  </a:lnTo>
                  <a:lnTo>
                    <a:pt x="869" y="165"/>
                  </a:lnTo>
                  <a:lnTo>
                    <a:pt x="905" y="192"/>
                  </a:lnTo>
                  <a:lnTo>
                    <a:pt x="937" y="219"/>
                  </a:lnTo>
                  <a:lnTo>
                    <a:pt x="965" y="248"/>
                  </a:lnTo>
                  <a:lnTo>
                    <a:pt x="988" y="277"/>
                  </a:lnTo>
                  <a:lnTo>
                    <a:pt x="1009" y="306"/>
                  </a:lnTo>
                  <a:lnTo>
                    <a:pt x="1016" y="321"/>
                  </a:lnTo>
                  <a:lnTo>
                    <a:pt x="1022" y="335"/>
                  </a:lnTo>
                  <a:lnTo>
                    <a:pt x="1029" y="350"/>
                  </a:lnTo>
                  <a:lnTo>
                    <a:pt x="1033" y="365"/>
                  </a:lnTo>
                  <a:lnTo>
                    <a:pt x="1036" y="379"/>
                  </a:lnTo>
                  <a:lnTo>
                    <a:pt x="1039" y="394"/>
                  </a:lnTo>
                  <a:lnTo>
                    <a:pt x="1039" y="408"/>
                  </a:lnTo>
                  <a:lnTo>
                    <a:pt x="1039" y="423"/>
                  </a:lnTo>
                  <a:lnTo>
                    <a:pt x="1038" y="436"/>
                  </a:lnTo>
                  <a:lnTo>
                    <a:pt x="1034" y="450"/>
                  </a:lnTo>
                  <a:lnTo>
                    <a:pt x="1034" y="450"/>
                  </a:lnTo>
                  <a:close/>
                </a:path>
              </a:pathLst>
            </a:custGeom>
            <a:noFill/>
            <a:ln w="76320">
              <a:solidFill>
                <a:srgbClr val="3365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25"/>
            <p:cNvSpPr/>
            <p:nvPr/>
          </p:nvSpPr>
          <p:spPr>
            <a:xfrm>
              <a:off x="6875640" y="4389840"/>
              <a:ext cx="858600" cy="850680"/>
            </a:xfrm>
            <a:custGeom>
              <a:avLst/>
              <a:gdLst/>
              <a:ahLst/>
              <a:rect l="l" t="t" r="r" b="b"/>
              <a:pathLst>
                <a:path w="749" h="747">
                  <a:moveTo>
                    <a:pt x="12" y="0"/>
                  </a:moveTo>
                  <a:lnTo>
                    <a:pt x="12" y="0"/>
                  </a:lnTo>
                  <a:lnTo>
                    <a:pt x="5" y="25"/>
                  </a:lnTo>
                  <a:lnTo>
                    <a:pt x="2" y="51"/>
                  </a:lnTo>
                  <a:lnTo>
                    <a:pt x="0" y="78"/>
                  </a:lnTo>
                  <a:lnTo>
                    <a:pt x="0" y="105"/>
                  </a:lnTo>
                  <a:lnTo>
                    <a:pt x="3" y="130"/>
                  </a:lnTo>
                  <a:lnTo>
                    <a:pt x="9" y="158"/>
                  </a:lnTo>
                  <a:lnTo>
                    <a:pt x="15" y="185"/>
                  </a:lnTo>
                  <a:lnTo>
                    <a:pt x="26" y="212"/>
                  </a:lnTo>
                  <a:lnTo>
                    <a:pt x="36" y="239"/>
                  </a:lnTo>
                  <a:lnTo>
                    <a:pt x="49" y="266"/>
                  </a:lnTo>
                  <a:lnTo>
                    <a:pt x="65" y="293"/>
                  </a:lnTo>
                  <a:lnTo>
                    <a:pt x="82" y="319"/>
                  </a:lnTo>
                  <a:lnTo>
                    <a:pt x="100" y="346"/>
                  </a:lnTo>
                  <a:lnTo>
                    <a:pt x="122" y="372"/>
                  </a:lnTo>
                  <a:lnTo>
                    <a:pt x="145" y="399"/>
                  </a:lnTo>
                  <a:lnTo>
                    <a:pt x="168" y="424"/>
                  </a:lnTo>
                  <a:lnTo>
                    <a:pt x="194" y="450"/>
                  </a:lnTo>
                  <a:lnTo>
                    <a:pt x="223" y="474"/>
                  </a:lnTo>
                  <a:lnTo>
                    <a:pt x="252" y="497"/>
                  </a:lnTo>
                  <a:lnTo>
                    <a:pt x="282" y="521"/>
                  </a:lnTo>
                  <a:lnTo>
                    <a:pt x="313" y="545"/>
                  </a:lnTo>
                  <a:lnTo>
                    <a:pt x="347" y="567"/>
                  </a:lnTo>
                  <a:lnTo>
                    <a:pt x="382" y="589"/>
                  </a:lnTo>
                  <a:lnTo>
                    <a:pt x="418" y="609"/>
                  </a:lnTo>
                  <a:lnTo>
                    <a:pt x="455" y="630"/>
                  </a:lnTo>
                  <a:lnTo>
                    <a:pt x="494" y="650"/>
                  </a:lnTo>
                  <a:lnTo>
                    <a:pt x="534" y="669"/>
                  </a:lnTo>
                  <a:lnTo>
                    <a:pt x="574" y="686"/>
                  </a:lnTo>
                  <a:lnTo>
                    <a:pt x="617" y="703"/>
                  </a:lnTo>
                  <a:lnTo>
                    <a:pt x="659" y="718"/>
                  </a:lnTo>
                  <a:lnTo>
                    <a:pt x="703" y="733"/>
                  </a:lnTo>
                  <a:lnTo>
                    <a:pt x="749" y="747"/>
                  </a:lnTo>
                </a:path>
              </a:pathLst>
            </a:custGeom>
            <a:noFill/>
            <a:ln w="76320">
              <a:solidFill>
                <a:srgbClr val="3365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26"/>
            <p:cNvSpPr/>
            <p:nvPr/>
          </p:nvSpPr>
          <p:spPr>
            <a:xfrm>
              <a:off x="7734600" y="4922280"/>
              <a:ext cx="1184760" cy="379440"/>
            </a:xfrm>
            <a:custGeom>
              <a:avLst/>
              <a:gdLst/>
              <a:ahLst/>
              <a:rect l="l" t="t" r="r" b="b"/>
              <a:pathLst>
                <a:path w="1037" h="337">
                  <a:moveTo>
                    <a:pt x="1037" y="0"/>
                  </a:moveTo>
                  <a:lnTo>
                    <a:pt x="1037" y="0"/>
                  </a:lnTo>
                  <a:lnTo>
                    <a:pt x="1028" y="28"/>
                  </a:lnTo>
                  <a:lnTo>
                    <a:pt x="1016" y="53"/>
                  </a:lnTo>
                  <a:lnTo>
                    <a:pt x="1003" y="79"/>
                  </a:lnTo>
                  <a:lnTo>
                    <a:pt x="987" y="102"/>
                  </a:lnTo>
                  <a:lnTo>
                    <a:pt x="970" y="124"/>
                  </a:lnTo>
                  <a:lnTo>
                    <a:pt x="952" y="146"/>
                  </a:lnTo>
                  <a:lnTo>
                    <a:pt x="931" y="167"/>
                  </a:lnTo>
                  <a:lnTo>
                    <a:pt x="908" y="187"/>
                  </a:lnTo>
                  <a:lnTo>
                    <a:pt x="884" y="206"/>
                  </a:lnTo>
                  <a:lnTo>
                    <a:pt x="858" y="223"/>
                  </a:lnTo>
                  <a:lnTo>
                    <a:pt x="829" y="238"/>
                  </a:lnTo>
                  <a:lnTo>
                    <a:pt x="800" y="254"/>
                  </a:lnTo>
                  <a:lnTo>
                    <a:pt x="770" y="267"/>
                  </a:lnTo>
                  <a:lnTo>
                    <a:pt x="738" y="281"/>
                  </a:lnTo>
                  <a:lnTo>
                    <a:pt x="705" y="293"/>
                  </a:lnTo>
                  <a:lnTo>
                    <a:pt x="670" y="301"/>
                  </a:lnTo>
                  <a:lnTo>
                    <a:pt x="634" y="311"/>
                  </a:lnTo>
                  <a:lnTo>
                    <a:pt x="598" y="318"/>
                  </a:lnTo>
                  <a:lnTo>
                    <a:pt x="559" y="325"/>
                  </a:lnTo>
                  <a:lnTo>
                    <a:pt x="520" y="330"/>
                  </a:lnTo>
                  <a:lnTo>
                    <a:pt x="481" y="333"/>
                  </a:lnTo>
                  <a:lnTo>
                    <a:pt x="440" y="335"/>
                  </a:lnTo>
                  <a:lnTo>
                    <a:pt x="400" y="337"/>
                  </a:lnTo>
                  <a:lnTo>
                    <a:pt x="357" y="335"/>
                  </a:lnTo>
                  <a:lnTo>
                    <a:pt x="315" y="333"/>
                  </a:lnTo>
                  <a:lnTo>
                    <a:pt x="270" y="330"/>
                  </a:lnTo>
                  <a:lnTo>
                    <a:pt x="226" y="325"/>
                  </a:lnTo>
                  <a:lnTo>
                    <a:pt x="182" y="320"/>
                  </a:lnTo>
                  <a:lnTo>
                    <a:pt x="136" y="311"/>
                  </a:lnTo>
                  <a:lnTo>
                    <a:pt x="92" y="303"/>
                  </a:lnTo>
                  <a:lnTo>
                    <a:pt x="46" y="291"/>
                  </a:lnTo>
                  <a:lnTo>
                    <a:pt x="0" y="279"/>
                  </a:lnTo>
                </a:path>
              </a:pathLst>
            </a:custGeom>
            <a:noFill/>
            <a:ln w="76320">
              <a:solidFill>
                <a:srgbClr val="3365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27"/>
            <p:cNvSpPr/>
            <p:nvPr/>
          </p:nvSpPr>
          <p:spPr>
            <a:xfrm>
              <a:off x="6554520" y="5017680"/>
              <a:ext cx="1026720" cy="807120"/>
            </a:xfrm>
            <a:custGeom>
              <a:avLst/>
              <a:gdLst/>
              <a:ahLst/>
              <a:rect l="l" t="t" r="r" b="b"/>
              <a:pathLst>
                <a:path w="897" h="710">
                  <a:moveTo>
                    <a:pt x="7" y="0"/>
                  </a:moveTo>
                  <a:lnTo>
                    <a:pt x="7" y="0"/>
                  </a:lnTo>
                  <a:lnTo>
                    <a:pt x="1" y="22"/>
                  </a:lnTo>
                  <a:lnTo>
                    <a:pt x="0" y="44"/>
                  </a:lnTo>
                  <a:lnTo>
                    <a:pt x="0" y="68"/>
                  </a:lnTo>
                  <a:lnTo>
                    <a:pt x="3" y="90"/>
                  </a:lnTo>
                  <a:lnTo>
                    <a:pt x="8" y="113"/>
                  </a:lnTo>
                  <a:lnTo>
                    <a:pt x="15" y="137"/>
                  </a:lnTo>
                  <a:lnTo>
                    <a:pt x="25" y="163"/>
                  </a:lnTo>
                  <a:lnTo>
                    <a:pt x="39" y="187"/>
                  </a:lnTo>
                  <a:lnTo>
                    <a:pt x="54" y="210"/>
                  </a:lnTo>
                  <a:lnTo>
                    <a:pt x="71" y="236"/>
                  </a:lnTo>
                  <a:lnTo>
                    <a:pt x="90" y="260"/>
                  </a:lnTo>
                  <a:lnTo>
                    <a:pt x="112" y="285"/>
                  </a:lnTo>
                  <a:lnTo>
                    <a:pt x="134" y="309"/>
                  </a:lnTo>
                  <a:lnTo>
                    <a:pt x="159" y="334"/>
                  </a:lnTo>
                  <a:lnTo>
                    <a:pt x="188" y="358"/>
                  </a:lnTo>
                  <a:lnTo>
                    <a:pt x="217" y="382"/>
                  </a:lnTo>
                  <a:lnTo>
                    <a:pt x="248" y="407"/>
                  </a:lnTo>
                  <a:lnTo>
                    <a:pt x="280" y="431"/>
                  </a:lnTo>
                  <a:lnTo>
                    <a:pt x="316" y="453"/>
                  </a:lnTo>
                  <a:lnTo>
                    <a:pt x="351" y="477"/>
                  </a:lnTo>
                  <a:lnTo>
                    <a:pt x="389" y="499"/>
                  </a:lnTo>
                  <a:lnTo>
                    <a:pt x="430" y="521"/>
                  </a:lnTo>
                  <a:lnTo>
                    <a:pt x="470" y="543"/>
                  </a:lnTo>
                  <a:lnTo>
                    <a:pt x="513" y="565"/>
                  </a:lnTo>
                  <a:lnTo>
                    <a:pt x="555" y="586"/>
                  </a:lnTo>
                  <a:lnTo>
                    <a:pt x="601" y="606"/>
                  </a:lnTo>
                  <a:lnTo>
                    <a:pt x="647" y="625"/>
                  </a:lnTo>
                  <a:lnTo>
                    <a:pt x="695" y="643"/>
                  </a:lnTo>
                  <a:lnTo>
                    <a:pt x="744" y="662"/>
                  </a:lnTo>
                  <a:lnTo>
                    <a:pt x="793" y="679"/>
                  </a:lnTo>
                  <a:lnTo>
                    <a:pt x="844" y="694"/>
                  </a:lnTo>
                  <a:lnTo>
                    <a:pt x="897" y="710"/>
                  </a:lnTo>
                </a:path>
              </a:pathLst>
            </a:custGeom>
            <a:noFill/>
            <a:ln w="76320">
              <a:solidFill>
                <a:srgbClr val="3365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28"/>
            <p:cNvSpPr/>
            <p:nvPr/>
          </p:nvSpPr>
          <p:spPr>
            <a:xfrm>
              <a:off x="7585920" y="5675040"/>
              <a:ext cx="1296720" cy="254520"/>
            </a:xfrm>
            <a:custGeom>
              <a:avLst/>
              <a:gdLst/>
              <a:ahLst/>
              <a:rect l="l" t="t" r="r" b="b"/>
              <a:pathLst>
                <a:path w="1132" h="224">
                  <a:moveTo>
                    <a:pt x="1132" y="0"/>
                  </a:moveTo>
                  <a:lnTo>
                    <a:pt x="1132" y="0"/>
                  </a:lnTo>
                  <a:lnTo>
                    <a:pt x="1125" y="22"/>
                  </a:lnTo>
                  <a:lnTo>
                    <a:pt x="1115" y="43"/>
                  </a:lnTo>
                  <a:lnTo>
                    <a:pt x="1103" y="61"/>
                  </a:lnTo>
                  <a:lnTo>
                    <a:pt x="1087" y="80"/>
                  </a:lnTo>
                  <a:lnTo>
                    <a:pt x="1070" y="97"/>
                  </a:lnTo>
                  <a:lnTo>
                    <a:pt x="1050" y="114"/>
                  </a:lnTo>
                  <a:lnTo>
                    <a:pt x="1030" y="129"/>
                  </a:lnTo>
                  <a:lnTo>
                    <a:pt x="1006" y="143"/>
                  </a:lnTo>
                  <a:lnTo>
                    <a:pt x="980" y="155"/>
                  </a:lnTo>
                  <a:lnTo>
                    <a:pt x="953" y="167"/>
                  </a:lnTo>
                  <a:lnTo>
                    <a:pt x="923" y="179"/>
                  </a:lnTo>
                  <a:lnTo>
                    <a:pt x="892" y="187"/>
                  </a:lnTo>
                  <a:lnTo>
                    <a:pt x="860" y="196"/>
                  </a:lnTo>
                  <a:lnTo>
                    <a:pt x="824" y="204"/>
                  </a:lnTo>
                  <a:lnTo>
                    <a:pt x="788" y="209"/>
                  </a:lnTo>
                  <a:lnTo>
                    <a:pt x="751" y="214"/>
                  </a:lnTo>
                  <a:lnTo>
                    <a:pt x="712" y="219"/>
                  </a:lnTo>
                  <a:lnTo>
                    <a:pt x="671" y="221"/>
                  </a:lnTo>
                  <a:lnTo>
                    <a:pt x="629" y="223"/>
                  </a:lnTo>
                  <a:lnTo>
                    <a:pt x="586" y="224"/>
                  </a:lnTo>
                  <a:lnTo>
                    <a:pt x="542" y="223"/>
                  </a:lnTo>
                  <a:lnTo>
                    <a:pt x="498" y="221"/>
                  </a:lnTo>
                  <a:lnTo>
                    <a:pt x="450" y="218"/>
                  </a:lnTo>
                  <a:lnTo>
                    <a:pt x="405" y="214"/>
                  </a:lnTo>
                  <a:lnTo>
                    <a:pt x="355" y="207"/>
                  </a:lnTo>
                  <a:lnTo>
                    <a:pt x="306" y="202"/>
                  </a:lnTo>
                  <a:lnTo>
                    <a:pt x="257" y="194"/>
                  </a:lnTo>
                  <a:lnTo>
                    <a:pt x="207" y="184"/>
                  </a:lnTo>
                  <a:lnTo>
                    <a:pt x="156" y="173"/>
                  </a:lnTo>
                  <a:lnTo>
                    <a:pt x="106" y="162"/>
                  </a:lnTo>
                  <a:lnTo>
                    <a:pt x="53" y="150"/>
                  </a:lnTo>
                  <a:lnTo>
                    <a:pt x="0" y="134"/>
                  </a:lnTo>
                </a:path>
              </a:pathLst>
            </a:custGeom>
            <a:noFill/>
            <a:ln w="76320">
              <a:solidFill>
                <a:srgbClr val="3365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Freeform 29"/>
            <p:cNvSpPr/>
            <p:nvPr/>
          </p:nvSpPr>
          <p:spPr>
            <a:xfrm>
              <a:off x="6676200" y="5736600"/>
              <a:ext cx="788040" cy="511560"/>
            </a:xfrm>
            <a:custGeom>
              <a:avLst/>
              <a:gdLst/>
              <a:ahLst/>
              <a:rect l="l" t="t" r="r" b="b"/>
              <a:pathLst>
                <a:path w="688" h="450">
                  <a:moveTo>
                    <a:pt x="4" y="0"/>
                  </a:moveTo>
                  <a:lnTo>
                    <a:pt x="4" y="0"/>
                  </a:lnTo>
                  <a:lnTo>
                    <a:pt x="2" y="11"/>
                  </a:lnTo>
                  <a:lnTo>
                    <a:pt x="0" y="25"/>
                  </a:lnTo>
                  <a:lnTo>
                    <a:pt x="2" y="39"/>
                  </a:lnTo>
                  <a:lnTo>
                    <a:pt x="5" y="51"/>
                  </a:lnTo>
                  <a:lnTo>
                    <a:pt x="10" y="66"/>
                  </a:lnTo>
                  <a:lnTo>
                    <a:pt x="17" y="79"/>
                  </a:lnTo>
                  <a:lnTo>
                    <a:pt x="26" y="93"/>
                  </a:lnTo>
                  <a:lnTo>
                    <a:pt x="36" y="108"/>
                  </a:lnTo>
                  <a:lnTo>
                    <a:pt x="48" y="122"/>
                  </a:lnTo>
                  <a:lnTo>
                    <a:pt x="61" y="137"/>
                  </a:lnTo>
                  <a:lnTo>
                    <a:pt x="94" y="168"/>
                  </a:lnTo>
                  <a:lnTo>
                    <a:pt x="133" y="198"/>
                  </a:lnTo>
                  <a:lnTo>
                    <a:pt x="175" y="229"/>
                  </a:lnTo>
                  <a:lnTo>
                    <a:pt x="224" y="259"/>
                  </a:lnTo>
                  <a:lnTo>
                    <a:pt x="279" y="288"/>
                  </a:lnTo>
                  <a:lnTo>
                    <a:pt x="338" y="319"/>
                  </a:lnTo>
                  <a:lnTo>
                    <a:pt x="401" y="348"/>
                  </a:lnTo>
                  <a:lnTo>
                    <a:pt x="467" y="375"/>
                  </a:lnTo>
                  <a:lnTo>
                    <a:pt x="537" y="400"/>
                  </a:lnTo>
                  <a:lnTo>
                    <a:pt x="612" y="426"/>
                  </a:lnTo>
                  <a:lnTo>
                    <a:pt x="688" y="450"/>
                  </a:lnTo>
                </a:path>
              </a:pathLst>
            </a:custGeom>
            <a:noFill/>
            <a:ln w="76320">
              <a:solidFill>
                <a:srgbClr val="3365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Freeform 30"/>
            <p:cNvSpPr/>
            <p:nvPr/>
          </p:nvSpPr>
          <p:spPr>
            <a:xfrm>
              <a:off x="7457400" y="6246000"/>
              <a:ext cx="808200" cy="122760"/>
            </a:xfrm>
            <a:custGeom>
              <a:avLst/>
              <a:gdLst/>
              <a:ahLst/>
              <a:rect l="l" t="t" r="r" b="b"/>
              <a:pathLst>
                <a:path w="707" h="107">
                  <a:moveTo>
                    <a:pt x="707" y="73"/>
                  </a:moveTo>
                  <a:lnTo>
                    <a:pt x="707" y="73"/>
                  </a:lnTo>
                  <a:lnTo>
                    <a:pt x="705" y="78"/>
                  </a:lnTo>
                  <a:lnTo>
                    <a:pt x="700" y="83"/>
                  </a:lnTo>
                  <a:lnTo>
                    <a:pt x="695" y="88"/>
                  </a:lnTo>
                  <a:lnTo>
                    <a:pt x="686" y="93"/>
                  </a:lnTo>
                  <a:lnTo>
                    <a:pt x="678" y="97"/>
                  </a:lnTo>
                  <a:lnTo>
                    <a:pt x="668" y="100"/>
                  </a:lnTo>
                  <a:lnTo>
                    <a:pt x="642" y="104"/>
                  </a:lnTo>
                  <a:lnTo>
                    <a:pt x="610" y="107"/>
                  </a:lnTo>
                  <a:lnTo>
                    <a:pt x="574" y="107"/>
                  </a:lnTo>
                  <a:lnTo>
                    <a:pt x="532" y="105"/>
                  </a:lnTo>
                  <a:lnTo>
                    <a:pt x="486" y="100"/>
                  </a:lnTo>
                  <a:lnTo>
                    <a:pt x="437" y="95"/>
                  </a:lnTo>
                  <a:lnTo>
                    <a:pt x="382" y="87"/>
                  </a:lnTo>
                  <a:lnTo>
                    <a:pt x="326" y="76"/>
                  </a:lnTo>
                  <a:lnTo>
                    <a:pt x="265" y="66"/>
                  </a:lnTo>
                  <a:lnTo>
                    <a:pt x="202" y="51"/>
                  </a:lnTo>
                  <a:lnTo>
                    <a:pt x="136" y="36"/>
                  </a:lnTo>
                  <a:lnTo>
                    <a:pt x="70" y="19"/>
                  </a:lnTo>
                  <a:lnTo>
                    <a:pt x="0" y="0"/>
                  </a:lnTo>
                </a:path>
              </a:pathLst>
            </a:custGeom>
            <a:noFill/>
            <a:ln w="76320">
              <a:solidFill>
                <a:srgbClr val="3365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Line 31"/>
            <p:cNvSpPr/>
            <p:nvPr/>
          </p:nvSpPr>
          <p:spPr>
            <a:xfrm flipH="1">
              <a:off x="7427880" y="4075920"/>
              <a:ext cx="673200" cy="2342880"/>
            </a:xfrm>
            <a:prstGeom prst="line">
              <a:avLst/>
            </a:prstGeom>
            <a:ln w="76320">
              <a:solidFill>
                <a:srgbClr val="3365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Freeform 32"/>
            <p:cNvSpPr/>
            <p:nvPr/>
          </p:nvSpPr>
          <p:spPr>
            <a:xfrm>
              <a:off x="6539040" y="4025880"/>
              <a:ext cx="2426040" cy="2424960"/>
            </a:xfrm>
            <a:custGeom>
              <a:avLst/>
              <a:gdLst/>
              <a:ahLst/>
              <a:rect l="l" t="t" r="r" b="b"/>
              <a:pathLst>
                <a:path w="2117" h="2132">
                  <a:moveTo>
                    <a:pt x="2076" y="1357"/>
                  </a:moveTo>
                  <a:lnTo>
                    <a:pt x="2076" y="1357"/>
                  </a:lnTo>
                  <a:lnTo>
                    <a:pt x="2059" y="1410"/>
                  </a:lnTo>
                  <a:lnTo>
                    <a:pt x="2041" y="1461"/>
                  </a:lnTo>
                  <a:lnTo>
                    <a:pt x="2020" y="1510"/>
                  </a:lnTo>
                  <a:lnTo>
                    <a:pt x="1996" y="1558"/>
                  </a:lnTo>
                  <a:lnTo>
                    <a:pt x="1971" y="1604"/>
                  </a:lnTo>
                  <a:lnTo>
                    <a:pt x="1944" y="1650"/>
                  </a:lnTo>
                  <a:lnTo>
                    <a:pt x="1913" y="1692"/>
                  </a:lnTo>
                  <a:lnTo>
                    <a:pt x="1883" y="1733"/>
                  </a:lnTo>
                  <a:lnTo>
                    <a:pt x="1849" y="1774"/>
                  </a:lnTo>
                  <a:lnTo>
                    <a:pt x="1813" y="1811"/>
                  </a:lnTo>
                  <a:lnTo>
                    <a:pt x="1777" y="1847"/>
                  </a:lnTo>
                  <a:lnTo>
                    <a:pt x="1738" y="1881"/>
                  </a:lnTo>
                  <a:lnTo>
                    <a:pt x="1699" y="1913"/>
                  </a:lnTo>
                  <a:lnTo>
                    <a:pt x="1657" y="1944"/>
                  </a:lnTo>
                  <a:lnTo>
                    <a:pt x="1614" y="1971"/>
                  </a:lnTo>
                  <a:lnTo>
                    <a:pt x="1572" y="1998"/>
                  </a:lnTo>
                  <a:lnTo>
                    <a:pt x="1526" y="2022"/>
                  </a:lnTo>
                  <a:lnTo>
                    <a:pt x="1480" y="2042"/>
                  </a:lnTo>
                  <a:lnTo>
                    <a:pt x="1432" y="2062"/>
                  </a:lnTo>
                  <a:lnTo>
                    <a:pt x="1385" y="2079"/>
                  </a:lnTo>
                  <a:lnTo>
                    <a:pt x="1336" y="2095"/>
                  </a:lnTo>
                  <a:lnTo>
                    <a:pt x="1286" y="2107"/>
                  </a:lnTo>
                  <a:lnTo>
                    <a:pt x="1235" y="2117"/>
                  </a:lnTo>
                  <a:lnTo>
                    <a:pt x="1184" y="2125"/>
                  </a:lnTo>
                  <a:lnTo>
                    <a:pt x="1133" y="2130"/>
                  </a:lnTo>
                  <a:lnTo>
                    <a:pt x="1081" y="2132"/>
                  </a:lnTo>
                  <a:lnTo>
                    <a:pt x="1030" y="2132"/>
                  </a:lnTo>
                  <a:lnTo>
                    <a:pt x="977" y="2130"/>
                  </a:lnTo>
                  <a:lnTo>
                    <a:pt x="924" y="2125"/>
                  </a:lnTo>
                  <a:lnTo>
                    <a:pt x="872" y="2117"/>
                  </a:lnTo>
                  <a:lnTo>
                    <a:pt x="819" y="2107"/>
                  </a:lnTo>
                  <a:lnTo>
                    <a:pt x="766" y="2093"/>
                  </a:lnTo>
                  <a:lnTo>
                    <a:pt x="766" y="2093"/>
                  </a:lnTo>
                  <a:lnTo>
                    <a:pt x="714" y="2076"/>
                  </a:lnTo>
                  <a:lnTo>
                    <a:pt x="663" y="2057"/>
                  </a:lnTo>
                  <a:lnTo>
                    <a:pt x="613" y="2037"/>
                  </a:lnTo>
                  <a:lnTo>
                    <a:pt x="568" y="2013"/>
                  </a:lnTo>
                  <a:lnTo>
                    <a:pt x="520" y="1988"/>
                  </a:lnTo>
                  <a:lnTo>
                    <a:pt x="476" y="1961"/>
                  </a:lnTo>
                  <a:lnTo>
                    <a:pt x="433" y="1930"/>
                  </a:lnTo>
                  <a:lnTo>
                    <a:pt x="393" y="1899"/>
                  </a:lnTo>
                  <a:lnTo>
                    <a:pt x="354" y="1865"/>
                  </a:lnTo>
                  <a:lnTo>
                    <a:pt x="316" y="1830"/>
                  </a:lnTo>
                  <a:lnTo>
                    <a:pt x="281" y="1794"/>
                  </a:lnTo>
                  <a:lnTo>
                    <a:pt x="247" y="1755"/>
                  </a:lnTo>
                  <a:lnTo>
                    <a:pt x="216" y="1714"/>
                  </a:lnTo>
                  <a:lnTo>
                    <a:pt x="185" y="1673"/>
                  </a:lnTo>
                  <a:lnTo>
                    <a:pt x="158" y="1631"/>
                  </a:lnTo>
                  <a:lnTo>
                    <a:pt x="133" y="1587"/>
                  </a:lnTo>
                  <a:lnTo>
                    <a:pt x="109" y="1541"/>
                  </a:lnTo>
                  <a:lnTo>
                    <a:pt x="87" y="1495"/>
                  </a:lnTo>
                  <a:lnTo>
                    <a:pt x="68" y="1448"/>
                  </a:lnTo>
                  <a:lnTo>
                    <a:pt x="51" y="1400"/>
                  </a:lnTo>
                  <a:lnTo>
                    <a:pt x="38" y="1351"/>
                  </a:lnTo>
                  <a:lnTo>
                    <a:pt x="24" y="1300"/>
                  </a:lnTo>
                  <a:lnTo>
                    <a:pt x="15" y="1249"/>
                  </a:lnTo>
                  <a:lnTo>
                    <a:pt x="7" y="1198"/>
                  </a:lnTo>
                  <a:lnTo>
                    <a:pt x="2" y="1147"/>
                  </a:lnTo>
                  <a:lnTo>
                    <a:pt x="0" y="1094"/>
                  </a:lnTo>
                  <a:lnTo>
                    <a:pt x="0" y="1042"/>
                  </a:lnTo>
                  <a:lnTo>
                    <a:pt x="4" y="989"/>
                  </a:lnTo>
                  <a:lnTo>
                    <a:pt x="9" y="936"/>
                  </a:lnTo>
                  <a:lnTo>
                    <a:pt x="17" y="882"/>
                  </a:lnTo>
                  <a:lnTo>
                    <a:pt x="27" y="829"/>
                  </a:lnTo>
                  <a:lnTo>
                    <a:pt x="41" y="777"/>
                  </a:lnTo>
                  <a:lnTo>
                    <a:pt x="41" y="777"/>
                  </a:lnTo>
                  <a:lnTo>
                    <a:pt x="58" y="724"/>
                  </a:lnTo>
                  <a:lnTo>
                    <a:pt x="77" y="673"/>
                  </a:lnTo>
                  <a:lnTo>
                    <a:pt x="99" y="624"/>
                  </a:lnTo>
                  <a:lnTo>
                    <a:pt x="121" y="576"/>
                  </a:lnTo>
                  <a:lnTo>
                    <a:pt x="146" y="529"/>
                  </a:lnTo>
                  <a:lnTo>
                    <a:pt x="175" y="484"/>
                  </a:lnTo>
                  <a:lnTo>
                    <a:pt x="204" y="442"/>
                  </a:lnTo>
                  <a:lnTo>
                    <a:pt x="236" y="399"/>
                  </a:lnTo>
                  <a:lnTo>
                    <a:pt x="269" y="360"/>
                  </a:lnTo>
                  <a:lnTo>
                    <a:pt x="304" y="323"/>
                  </a:lnTo>
                  <a:lnTo>
                    <a:pt x="340" y="286"/>
                  </a:lnTo>
                  <a:lnTo>
                    <a:pt x="379" y="252"/>
                  </a:lnTo>
                  <a:lnTo>
                    <a:pt x="418" y="219"/>
                  </a:lnTo>
                  <a:lnTo>
                    <a:pt x="461" y="190"/>
                  </a:lnTo>
                  <a:lnTo>
                    <a:pt x="503" y="162"/>
                  </a:lnTo>
                  <a:lnTo>
                    <a:pt x="547" y="136"/>
                  </a:lnTo>
                  <a:lnTo>
                    <a:pt x="591" y="112"/>
                  </a:lnTo>
                  <a:lnTo>
                    <a:pt x="637" y="90"/>
                  </a:lnTo>
                  <a:lnTo>
                    <a:pt x="685" y="72"/>
                  </a:lnTo>
                  <a:lnTo>
                    <a:pt x="732" y="53"/>
                  </a:lnTo>
                  <a:lnTo>
                    <a:pt x="782" y="39"/>
                  </a:lnTo>
                  <a:lnTo>
                    <a:pt x="831" y="26"/>
                  </a:lnTo>
                  <a:lnTo>
                    <a:pt x="882" y="15"/>
                  </a:lnTo>
                  <a:lnTo>
                    <a:pt x="933" y="9"/>
                  </a:lnTo>
                  <a:lnTo>
                    <a:pt x="984" y="4"/>
                  </a:lnTo>
                  <a:lnTo>
                    <a:pt x="1037" y="0"/>
                  </a:lnTo>
                  <a:lnTo>
                    <a:pt x="1087" y="0"/>
                  </a:lnTo>
                  <a:lnTo>
                    <a:pt x="1140" y="4"/>
                  </a:lnTo>
                  <a:lnTo>
                    <a:pt x="1193" y="9"/>
                  </a:lnTo>
                  <a:lnTo>
                    <a:pt x="1245" y="17"/>
                  </a:lnTo>
                  <a:lnTo>
                    <a:pt x="1300" y="27"/>
                  </a:lnTo>
                  <a:lnTo>
                    <a:pt x="1353" y="41"/>
                  </a:lnTo>
                  <a:lnTo>
                    <a:pt x="1353" y="41"/>
                  </a:lnTo>
                  <a:lnTo>
                    <a:pt x="1403" y="56"/>
                  </a:lnTo>
                  <a:lnTo>
                    <a:pt x="1454" y="75"/>
                  </a:lnTo>
                  <a:lnTo>
                    <a:pt x="1504" y="97"/>
                  </a:lnTo>
                  <a:lnTo>
                    <a:pt x="1551" y="121"/>
                  </a:lnTo>
                  <a:lnTo>
                    <a:pt x="1597" y="146"/>
                  </a:lnTo>
                  <a:lnTo>
                    <a:pt x="1641" y="173"/>
                  </a:lnTo>
                  <a:lnTo>
                    <a:pt x="1684" y="202"/>
                  </a:lnTo>
                  <a:lnTo>
                    <a:pt x="1725" y="235"/>
                  </a:lnTo>
                  <a:lnTo>
                    <a:pt x="1764" y="269"/>
                  </a:lnTo>
                  <a:lnTo>
                    <a:pt x="1801" y="303"/>
                  </a:lnTo>
                  <a:lnTo>
                    <a:pt x="1837" y="340"/>
                  </a:lnTo>
                  <a:lnTo>
                    <a:pt x="1871" y="379"/>
                  </a:lnTo>
                  <a:lnTo>
                    <a:pt x="1903" y="418"/>
                  </a:lnTo>
                  <a:lnTo>
                    <a:pt x="1932" y="461"/>
                  </a:lnTo>
                  <a:lnTo>
                    <a:pt x="1959" y="503"/>
                  </a:lnTo>
                  <a:lnTo>
                    <a:pt x="1984" y="547"/>
                  </a:lnTo>
                  <a:lnTo>
                    <a:pt x="2008" y="591"/>
                  </a:lnTo>
                  <a:lnTo>
                    <a:pt x="2030" y="639"/>
                  </a:lnTo>
                  <a:lnTo>
                    <a:pt x="2049" y="685"/>
                  </a:lnTo>
                  <a:lnTo>
                    <a:pt x="2066" y="734"/>
                  </a:lnTo>
                  <a:lnTo>
                    <a:pt x="2081" y="783"/>
                  </a:lnTo>
                  <a:lnTo>
                    <a:pt x="2093" y="833"/>
                  </a:lnTo>
                  <a:lnTo>
                    <a:pt x="2103" y="884"/>
                  </a:lnTo>
                  <a:lnTo>
                    <a:pt x="2110" y="934"/>
                  </a:lnTo>
                  <a:lnTo>
                    <a:pt x="2115" y="987"/>
                  </a:lnTo>
                  <a:lnTo>
                    <a:pt x="2117" y="1038"/>
                  </a:lnTo>
                  <a:lnTo>
                    <a:pt x="2117" y="1091"/>
                  </a:lnTo>
                  <a:lnTo>
                    <a:pt x="2114" y="1145"/>
                  </a:lnTo>
                  <a:lnTo>
                    <a:pt x="2109" y="1198"/>
                  </a:lnTo>
                  <a:lnTo>
                    <a:pt x="2100" y="1250"/>
                  </a:lnTo>
                  <a:lnTo>
                    <a:pt x="2090" y="1303"/>
                  </a:lnTo>
                  <a:lnTo>
                    <a:pt x="2076" y="1357"/>
                  </a:lnTo>
                  <a:lnTo>
                    <a:pt x="2076" y="1357"/>
                  </a:lnTo>
                  <a:close/>
                </a:path>
              </a:pathLst>
            </a:custGeom>
            <a:noFill/>
            <a:ln w="76320">
              <a:solidFill>
                <a:srgbClr val="3365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Freeform 33"/>
            <p:cNvSpPr/>
            <p:nvPr/>
          </p:nvSpPr>
          <p:spPr>
            <a:xfrm>
              <a:off x="6545520" y="4027680"/>
              <a:ext cx="2426400" cy="2424960"/>
            </a:xfrm>
            <a:custGeom>
              <a:avLst/>
              <a:gdLst/>
              <a:ahLst/>
              <a:rect l="l" t="t" r="r" b="b"/>
              <a:pathLst>
                <a:path w="2117" h="2132">
                  <a:moveTo>
                    <a:pt x="2076" y="1357"/>
                  </a:moveTo>
                  <a:lnTo>
                    <a:pt x="2076" y="1357"/>
                  </a:lnTo>
                  <a:lnTo>
                    <a:pt x="2059" y="1408"/>
                  </a:lnTo>
                  <a:lnTo>
                    <a:pt x="2040" y="1459"/>
                  </a:lnTo>
                  <a:lnTo>
                    <a:pt x="2020" y="1510"/>
                  </a:lnTo>
                  <a:lnTo>
                    <a:pt x="1996" y="1558"/>
                  </a:lnTo>
                  <a:lnTo>
                    <a:pt x="1971" y="1604"/>
                  </a:lnTo>
                  <a:lnTo>
                    <a:pt x="1944" y="1648"/>
                  </a:lnTo>
                  <a:lnTo>
                    <a:pt x="1913" y="1692"/>
                  </a:lnTo>
                  <a:lnTo>
                    <a:pt x="1882" y="1733"/>
                  </a:lnTo>
                  <a:lnTo>
                    <a:pt x="1848" y="1773"/>
                  </a:lnTo>
                  <a:lnTo>
                    <a:pt x="1813" y="1811"/>
                  </a:lnTo>
                  <a:lnTo>
                    <a:pt x="1777" y="1846"/>
                  </a:lnTo>
                  <a:lnTo>
                    <a:pt x="1738" y="1880"/>
                  </a:lnTo>
                  <a:lnTo>
                    <a:pt x="1699" y="1913"/>
                  </a:lnTo>
                  <a:lnTo>
                    <a:pt x="1656" y="1943"/>
                  </a:lnTo>
                  <a:lnTo>
                    <a:pt x="1614" y="1970"/>
                  </a:lnTo>
                  <a:lnTo>
                    <a:pt x="1570" y="1998"/>
                  </a:lnTo>
                  <a:lnTo>
                    <a:pt x="1526" y="2021"/>
                  </a:lnTo>
                  <a:lnTo>
                    <a:pt x="1480" y="2042"/>
                  </a:lnTo>
                  <a:lnTo>
                    <a:pt x="1432" y="2062"/>
                  </a:lnTo>
                  <a:lnTo>
                    <a:pt x="1385" y="2079"/>
                  </a:lnTo>
                  <a:lnTo>
                    <a:pt x="1335" y="2094"/>
                  </a:lnTo>
                  <a:lnTo>
                    <a:pt x="1286" y="2106"/>
                  </a:lnTo>
                  <a:lnTo>
                    <a:pt x="1235" y="2117"/>
                  </a:lnTo>
                  <a:lnTo>
                    <a:pt x="1184" y="2125"/>
                  </a:lnTo>
                  <a:lnTo>
                    <a:pt x="1133" y="2130"/>
                  </a:lnTo>
                  <a:lnTo>
                    <a:pt x="1080" y="2132"/>
                  </a:lnTo>
                  <a:lnTo>
                    <a:pt x="1030" y="2132"/>
                  </a:lnTo>
                  <a:lnTo>
                    <a:pt x="977" y="2130"/>
                  </a:lnTo>
                  <a:lnTo>
                    <a:pt x="924" y="2125"/>
                  </a:lnTo>
                  <a:lnTo>
                    <a:pt x="872" y="2117"/>
                  </a:lnTo>
                  <a:lnTo>
                    <a:pt x="819" y="2105"/>
                  </a:lnTo>
                  <a:lnTo>
                    <a:pt x="766" y="2091"/>
                  </a:lnTo>
                  <a:lnTo>
                    <a:pt x="766" y="2091"/>
                  </a:lnTo>
                  <a:lnTo>
                    <a:pt x="714" y="2076"/>
                  </a:lnTo>
                  <a:lnTo>
                    <a:pt x="663" y="2057"/>
                  </a:lnTo>
                  <a:lnTo>
                    <a:pt x="613" y="2035"/>
                  </a:lnTo>
                  <a:lnTo>
                    <a:pt x="566" y="2013"/>
                  </a:lnTo>
                  <a:lnTo>
                    <a:pt x="520" y="1987"/>
                  </a:lnTo>
                  <a:lnTo>
                    <a:pt x="476" y="1959"/>
                  </a:lnTo>
                  <a:lnTo>
                    <a:pt x="433" y="1930"/>
                  </a:lnTo>
                  <a:lnTo>
                    <a:pt x="392" y="1897"/>
                  </a:lnTo>
                  <a:lnTo>
                    <a:pt x="353" y="1865"/>
                  </a:lnTo>
                  <a:lnTo>
                    <a:pt x="316" y="1829"/>
                  </a:lnTo>
                  <a:lnTo>
                    <a:pt x="280" y="1792"/>
                  </a:lnTo>
                  <a:lnTo>
                    <a:pt x="246" y="1755"/>
                  </a:lnTo>
                  <a:lnTo>
                    <a:pt x="216" y="1714"/>
                  </a:lnTo>
                  <a:lnTo>
                    <a:pt x="185" y="1673"/>
                  </a:lnTo>
                  <a:lnTo>
                    <a:pt x="158" y="1631"/>
                  </a:lnTo>
                  <a:lnTo>
                    <a:pt x="133" y="1587"/>
                  </a:lnTo>
                  <a:lnTo>
                    <a:pt x="109" y="1541"/>
                  </a:lnTo>
                  <a:lnTo>
                    <a:pt x="87" y="1495"/>
                  </a:lnTo>
                  <a:lnTo>
                    <a:pt x="68" y="1447"/>
                  </a:lnTo>
                  <a:lnTo>
                    <a:pt x="51" y="1398"/>
                  </a:lnTo>
                  <a:lnTo>
                    <a:pt x="37" y="1350"/>
                  </a:lnTo>
                  <a:lnTo>
                    <a:pt x="24" y="1299"/>
                  </a:lnTo>
                  <a:lnTo>
                    <a:pt x="15" y="1248"/>
                  </a:lnTo>
                  <a:lnTo>
                    <a:pt x="7" y="1198"/>
                  </a:lnTo>
                  <a:lnTo>
                    <a:pt x="2" y="1147"/>
                  </a:lnTo>
                  <a:lnTo>
                    <a:pt x="0" y="1094"/>
                  </a:lnTo>
                  <a:lnTo>
                    <a:pt x="0" y="1041"/>
                  </a:lnTo>
                  <a:lnTo>
                    <a:pt x="3" y="989"/>
                  </a:lnTo>
                  <a:lnTo>
                    <a:pt x="8" y="936"/>
                  </a:lnTo>
                  <a:lnTo>
                    <a:pt x="17" y="882"/>
                  </a:lnTo>
                  <a:lnTo>
                    <a:pt x="27" y="829"/>
                  </a:lnTo>
                  <a:lnTo>
                    <a:pt x="41" y="776"/>
                  </a:lnTo>
                  <a:lnTo>
                    <a:pt x="41" y="776"/>
                  </a:lnTo>
                  <a:lnTo>
                    <a:pt x="58" y="724"/>
                  </a:lnTo>
                  <a:lnTo>
                    <a:pt x="76" y="673"/>
                  </a:lnTo>
                  <a:lnTo>
                    <a:pt x="97" y="623"/>
                  </a:lnTo>
                  <a:lnTo>
                    <a:pt x="121" y="574"/>
                  </a:lnTo>
                  <a:lnTo>
                    <a:pt x="146" y="528"/>
                  </a:lnTo>
                  <a:lnTo>
                    <a:pt x="173" y="484"/>
                  </a:lnTo>
                  <a:lnTo>
                    <a:pt x="204" y="440"/>
                  </a:lnTo>
                  <a:lnTo>
                    <a:pt x="234" y="399"/>
                  </a:lnTo>
                  <a:lnTo>
                    <a:pt x="268" y="360"/>
                  </a:lnTo>
                  <a:lnTo>
                    <a:pt x="304" y="321"/>
                  </a:lnTo>
                  <a:lnTo>
                    <a:pt x="340" y="285"/>
                  </a:lnTo>
                  <a:lnTo>
                    <a:pt x="379" y="251"/>
                  </a:lnTo>
                  <a:lnTo>
                    <a:pt x="418" y="219"/>
                  </a:lnTo>
                  <a:lnTo>
                    <a:pt x="460" y="190"/>
                  </a:lnTo>
                  <a:lnTo>
                    <a:pt x="503" y="161"/>
                  </a:lnTo>
                  <a:lnTo>
                    <a:pt x="547" y="136"/>
                  </a:lnTo>
                  <a:lnTo>
                    <a:pt x="591" y="112"/>
                  </a:lnTo>
                  <a:lnTo>
                    <a:pt x="637" y="90"/>
                  </a:lnTo>
                  <a:lnTo>
                    <a:pt x="685" y="70"/>
                  </a:lnTo>
                  <a:lnTo>
                    <a:pt x="732" y="53"/>
                  </a:lnTo>
                  <a:lnTo>
                    <a:pt x="781" y="39"/>
                  </a:lnTo>
                  <a:lnTo>
                    <a:pt x="831" y="25"/>
                  </a:lnTo>
                  <a:lnTo>
                    <a:pt x="882" y="15"/>
                  </a:lnTo>
                  <a:lnTo>
                    <a:pt x="933" y="8"/>
                  </a:lnTo>
                  <a:lnTo>
                    <a:pt x="984" y="3"/>
                  </a:lnTo>
                  <a:lnTo>
                    <a:pt x="1036" y="0"/>
                  </a:lnTo>
                  <a:lnTo>
                    <a:pt x="1087" y="0"/>
                  </a:lnTo>
                  <a:lnTo>
                    <a:pt x="1140" y="3"/>
                  </a:lnTo>
                  <a:lnTo>
                    <a:pt x="1193" y="8"/>
                  </a:lnTo>
                  <a:lnTo>
                    <a:pt x="1245" y="15"/>
                  </a:lnTo>
                  <a:lnTo>
                    <a:pt x="1298" y="27"/>
                  </a:lnTo>
                  <a:lnTo>
                    <a:pt x="1351" y="41"/>
                  </a:lnTo>
                  <a:lnTo>
                    <a:pt x="1351" y="41"/>
                  </a:lnTo>
                  <a:lnTo>
                    <a:pt x="1403" y="56"/>
                  </a:lnTo>
                  <a:lnTo>
                    <a:pt x="1454" y="75"/>
                  </a:lnTo>
                  <a:lnTo>
                    <a:pt x="1504" y="97"/>
                  </a:lnTo>
                  <a:lnTo>
                    <a:pt x="1551" y="119"/>
                  </a:lnTo>
                  <a:lnTo>
                    <a:pt x="1597" y="144"/>
                  </a:lnTo>
                  <a:lnTo>
                    <a:pt x="1641" y="173"/>
                  </a:lnTo>
                  <a:lnTo>
                    <a:pt x="1684" y="202"/>
                  </a:lnTo>
                  <a:lnTo>
                    <a:pt x="1724" y="234"/>
                  </a:lnTo>
                  <a:lnTo>
                    <a:pt x="1763" y="267"/>
                  </a:lnTo>
                  <a:lnTo>
                    <a:pt x="1801" y="302"/>
                  </a:lnTo>
                  <a:lnTo>
                    <a:pt x="1836" y="340"/>
                  </a:lnTo>
                  <a:lnTo>
                    <a:pt x="1870" y="377"/>
                  </a:lnTo>
                  <a:lnTo>
                    <a:pt x="1901" y="418"/>
                  </a:lnTo>
                  <a:lnTo>
                    <a:pt x="1932" y="459"/>
                  </a:lnTo>
                  <a:lnTo>
                    <a:pt x="1959" y="503"/>
                  </a:lnTo>
                  <a:lnTo>
                    <a:pt x="1984" y="547"/>
                  </a:lnTo>
                  <a:lnTo>
                    <a:pt x="2008" y="591"/>
                  </a:lnTo>
                  <a:lnTo>
                    <a:pt x="2030" y="637"/>
                  </a:lnTo>
                  <a:lnTo>
                    <a:pt x="2049" y="684"/>
                  </a:lnTo>
                  <a:lnTo>
                    <a:pt x="2066" y="734"/>
                  </a:lnTo>
                  <a:lnTo>
                    <a:pt x="2079" y="783"/>
                  </a:lnTo>
                  <a:lnTo>
                    <a:pt x="2093" y="832"/>
                  </a:lnTo>
                  <a:lnTo>
                    <a:pt x="2102" y="883"/>
                  </a:lnTo>
                  <a:lnTo>
                    <a:pt x="2110" y="934"/>
                  </a:lnTo>
                  <a:lnTo>
                    <a:pt x="2115" y="987"/>
                  </a:lnTo>
                  <a:lnTo>
                    <a:pt x="2117" y="1038"/>
                  </a:lnTo>
                  <a:lnTo>
                    <a:pt x="2117" y="1090"/>
                  </a:lnTo>
                  <a:lnTo>
                    <a:pt x="2113" y="1143"/>
                  </a:lnTo>
                  <a:lnTo>
                    <a:pt x="2108" y="1198"/>
                  </a:lnTo>
                  <a:lnTo>
                    <a:pt x="2100" y="1250"/>
                  </a:lnTo>
                  <a:lnTo>
                    <a:pt x="2090" y="1303"/>
                  </a:lnTo>
                  <a:lnTo>
                    <a:pt x="2076" y="1357"/>
                  </a:lnTo>
                  <a:lnTo>
                    <a:pt x="2076" y="1357"/>
                  </a:lnTo>
                  <a:close/>
                </a:path>
              </a:pathLst>
            </a:custGeom>
            <a:noFill/>
            <a:ln w="76320">
              <a:solidFill>
                <a:srgbClr val="3365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Freeform 34"/>
            <p:cNvSpPr/>
            <p:nvPr/>
          </p:nvSpPr>
          <p:spPr>
            <a:xfrm>
              <a:off x="6676200" y="4259880"/>
              <a:ext cx="1842480" cy="1508400"/>
            </a:xfrm>
            <a:custGeom>
              <a:avLst/>
              <a:gdLst/>
              <a:ahLst/>
              <a:rect l="l" t="t" r="r" b="b"/>
              <a:pathLst>
                <a:path w="1609" h="1326">
                  <a:moveTo>
                    <a:pt x="0" y="1326"/>
                  </a:moveTo>
                  <a:lnTo>
                    <a:pt x="0" y="1326"/>
                  </a:lnTo>
                  <a:lnTo>
                    <a:pt x="26" y="1243"/>
                  </a:lnTo>
                  <a:lnTo>
                    <a:pt x="53" y="1162"/>
                  </a:lnTo>
                  <a:lnTo>
                    <a:pt x="83" y="1082"/>
                  </a:lnTo>
                  <a:lnTo>
                    <a:pt x="116" y="1005"/>
                  </a:lnTo>
                  <a:lnTo>
                    <a:pt x="151" y="931"/>
                  </a:lnTo>
                  <a:lnTo>
                    <a:pt x="189" y="858"/>
                  </a:lnTo>
                  <a:lnTo>
                    <a:pt x="228" y="786"/>
                  </a:lnTo>
                  <a:lnTo>
                    <a:pt x="269" y="718"/>
                  </a:lnTo>
                  <a:lnTo>
                    <a:pt x="311" y="654"/>
                  </a:lnTo>
                  <a:lnTo>
                    <a:pt x="357" y="591"/>
                  </a:lnTo>
                  <a:lnTo>
                    <a:pt x="403" y="531"/>
                  </a:lnTo>
                  <a:lnTo>
                    <a:pt x="452" y="474"/>
                  </a:lnTo>
                  <a:lnTo>
                    <a:pt x="501" y="419"/>
                  </a:lnTo>
                  <a:lnTo>
                    <a:pt x="552" y="367"/>
                  </a:lnTo>
                  <a:lnTo>
                    <a:pt x="605" y="319"/>
                  </a:lnTo>
                  <a:lnTo>
                    <a:pt x="658" y="273"/>
                  </a:lnTo>
                  <a:lnTo>
                    <a:pt x="714" y="231"/>
                  </a:lnTo>
                  <a:lnTo>
                    <a:pt x="768" y="192"/>
                  </a:lnTo>
                  <a:lnTo>
                    <a:pt x="826" y="156"/>
                  </a:lnTo>
                  <a:lnTo>
                    <a:pt x="884" y="124"/>
                  </a:lnTo>
                  <a:lnTo>
                    <a:pt x="941" y="97"/>
                  </a:lnTo>
                  <a:lnTo>
                    <a:pt x="1001" y="71"/>
                  </a:lnTo>
                  <a:lnTo>
                    <a:pt x="1060" y="49"/>
                  </a:lnTo>
                  <a:lnTo>
                    <a:pt x="1120" y="32"/>
                  </a:lnTo>
                  <a:lnTo>
                    <a:pt x="1181" y="17"/>
                  </a:lnTo>
                  <a:lnTo>
                    <a:pt x="1242" y="8"/>
                  </a:lnTo>
                  <a:lnTo>
                    <a:pt x="1303" y="1"/>
                  </a:lnTo>
                  <a:lnTo>
                    <a:pt x="1334" y="0"/>
                  </a:lnTo>
                  <a:lnTo>
                    <a:pt x="1364" y="0"/>
                  </a:lnTo>
                  <a:lnTo>
                    <a:pt x="1395" y="0"/>
                  </a:lnTo>
                  <a:lnTo>
                    <a:pt x="1425" y="1"/>
                  </a:lnTo>
                  <a:lnTo>
                    <a:pt x="1456" y="5"/>
                  </a:lnTo>
                  <a:lnTo>
                    <a:pt x="1487" y="8"/>
                  </a:lnTo>
                  <a:lnTo>
                    <a:pt x="1517" y="13"/>
                  </a:lnTo>
                  <a:lnTo>
                    <a:pt x="1548" y="18"/>
                  </a:lnTo>
                  <a:lnTo>
                    <a:pt x="1578" y="25"/>
                  </a:lnTo>
                  <a:lnTo>
                    <a:pt x="1609" y="34"/>
                  </a:lnTo>
                </a:path>
              </a:pathLst>
            </a:custGeom>
            <a:noFill/>
            <a:ln w="76320">
              <a:solidFill>
                <a:srgbClr val="3365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Freeform 35"/>
            <p:cNvSpPr/>
            <p:nvPr/>
          </p:nvSpPr>
          <p:spPr>
            <a:xfrm>
              <a:off x="7615440" y="4037040"/>
              <a:ext cx="934560" cy="2192760"/>
            </a:xfrm>
            <a:custGeom>
              <a:avLst/>
              <a:gdLst/>
              <a:ahLst/>
              <a:rect l="l" t="t" r="r" b="b"/>
              <a:pathLst>
                <a:path w="817" h="1928">
                  <a:moveTo>
                    <a:pt x="730" y="1928"/>
                  </a:moveTo>
                  <a:lnTo>
                    <a:pt x="730" y="1928"/>
                  </a:lnTo>
                  <a:lnTo>
                    <a:pt x="752" y="1845"/>
                  </a:lnTo>
                  <a:lnTo>
                    <a:pt x="771" y="1762"/>
                  </a:lnTo>
                  <a:lnTo>
                    <a:pt x="786" y="1680"/>
                  </a:lnTo>
                  <a:lnTo>
                    <a:pt x="800" y="1599"/>
                  </a:lnTo>
                  <a:lnTo>
                    <a:pt x="808" y="1517"/>
                  </a:lnTo>
                  <a:lnTo>
                    <a:pt x="813" y="1436"/>
                  </a:lnTo>
                  <a:lnTo>
                    <a:pt x="817" y="1358"/>
                  </a:lnTo>
                  <a:lnTo>
                    <a:pt x="815" y="1278"/>
                  </a:lnTo>
                  <a:lnTo>
                    <a:pt x="812" y="1201"/>
                  </a:lnTo>
                  <a:lnTo>
                    <a:pt x="805" y="1125"/>
                  </a:lnTo>
                  <a:lnTo>
                    <a:pt x="796" y="1050"/>
                  </a:lnTo>
                  <a:lnTo>
                    <a:pt x="783" y="977"/>
                  </a:lnTo>
                  <a:lnTo>
                    <a:pt x="768" y="906"/>
                  </a:lnTo>
                  <a:lnTo>
                    <a:pt x="751" y="836"/>
                  </a:lnTo>
                  <a:lnTo>
                    <a:pt x="729" y="767"/>
                  </a:lnTo>
                  <a:lnTo>
                    <a:pt x="706" y="702"/>
                  </a:lnTo>
                  <a:lnTo>
                    <a:pt x="679" y="637"/>
                  </a:lnTo>
                  <a:lnTo>
                    <a:pt x="650" y="575"/>
                  </a:lnTo>
                  <a:lnTo>
                    <a:pt x="620" y="515"/>
                  </a:lnTo>
                  <a:lnTo>
                    <a:pt x="586" y="457"/>
                  </a:lnTo>
                  <a:lnTo>
                    <a:pt x="548" y="403"/>
                  </a:lnTo>
                  <a:lnTo>
                    <a:pt x="511" y="352"/>
                  </a:lnTo>
                  <a:lnTo>
                    <a:pt x="469" y="301"/>
                  </a:lnTo>
                  <a:lnTo>
                    <a:pt x="426" y="255"/>
                  </a:lnTo>
                  <a:lnTo>
                    <a:pt x="380" y="211"/>
                  </a:lnTo>
                  <a:lnTo>
                    <a:pt x="333" y="172"/>
                  </a:lnTo>
                  <a:lnTo>
                    <a:pt x="282" y="135"/>
                  </a:lnTo>
                  <a:lnTo>
                    <a:pt x="229" y="101"/>
                  </a:lnTo>
                  <a:lnTo>
                    <a:pt x="175" y="70"/>
                  </a:lnTo>
                  <a:lnTo>
                    <a:pt x="147" y="56"/>
                  </a:lnTo>
                  <a:lnTo>
                    <a:pt x="119" y="43"/>
                  </a:lnTo>
                  <a:lnTo>
                    <a:pt x="90" y="31"/>
                  </a:lnTo>
                  <a:lnTo>
                    <a:pt x="61" y="19"/>
                  </a:lnTo>
                  <a:lnTo>
                    <a:pt x="30" y="9"/>
                  </a:lnTo>
                  <a:lnTo>
                    <a:pt x="0" y="0"/>
                  </a:lnTo>
                </a:path>
              </a:pathLst>
            </a:custGeom>
            <a:noFill/>
            <a:ln w="76320">
              <a:solidFill>
                <a:srgbClr val="3365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58" name="Group 36"/>
          <p:cNvGrpSpPr/>
          <p:nvPr/>
        </p:nvGrpSpPr>
        <p:grpSpPr>
          <a:xfrm>
            <a:off x="1071720" y="260280"/>
            <a:ext cx="1296720" cy="1081080"/>
            <a:chOff x="1071720" y="260280"/>
            <a:chExt cx="1296720" cy="1081080"/>
          </a:xfrm>
        </p:grpSpPr>
        <p:sp>
          <p:nvSpPr>
            <p:cNvPr id="159" name="AutoShape 37"/>
            <p:cNvSpPr/>
            <p:nvPr/>
          </p:nvSpPr>
          <p:spPr>
            <a:xfrm>
              <a:off x="1071720" y="26028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0" name="Group 38"/>
            <p:cNvGrpSpPr/>
            <p:nvPr/>
          </p:nvGrpSpPr>
          <p:grpSpPr>
            <a:xfrm>
              <a:off x="1322280" y="404640"/>
              <a:ext cx="801720" cy="795600"/>
              <a:chOff x="1322280" y="404640"/>
              <a:chExt cx="801720" cy="795600"/>
            </a:xfrm>
          </p:grpSpPr>
          <p:sp>
            <p:nvSpPr>
              <p:cNvPr id="161" name="Freeform 39"/>
              <p:cNvSpPr/>
              <p:nvPr/>
            </p:nvSpPr>
            <p:spPr>
              <a:xfrm>
                <a:off x="1609920" y="404640"/>
                <a:ext cx="391680" cy="227160"/>
              </a:xfrm>
              <a:custGeom>
                <a:avLst/>
                <a:gdLst/>
                <a:ahLst/>
                <a:rect l="l" t="t" r="r" b="b"/>
                <a:pathLst>
                  <a:path w="1039" h="606">
                    <a:moveTo>
                      <a:pt x="1034" y="450"/>
                    </a:moveTo>
                    <a:lnTo>
                      <a:pt x="1034" y="450"/>
                    </a:lnTo>
                    <a:lnTo>
                      <a:pt x="1029" y="464"/>
                    </a:lnTo>
                    <a:lnTo>
                      <a:pt x="1024" y="476"/>
                    </a:lnTo>
                    <a:lnTo>
                      <a:pt x="1016" y="489"/>
                    </a:lnTo>
                    <a:lnTo>
                      <a:pt x="1009" y="501"/>
                    </a:lnTo>
                    <a:lnTo>
                      <a:pt x="999" y="511"/>
                    </a:lnTo>
                    <a:lnTo>
                      <a:pt x="988" y="523"/>
                    </a:lnTo>
                    <a:lnTo>
                      <a:pt x="976" y="532"/>
                    </a:lnTo>
                    <a:lnTo>
                      <a:pt x="965" y="542"/>
                    </a:lnTo>
                    <a:lnTo>
                      <a:pt x="951" y="550"/>
                    </a:lnTo>
                    <a:lnTo>
                      <a:pt x="936" y="559"/>
                    </a:lnTo>
                    <a:lnTo>
                      <a:pt x="903" y="574"/>
                    </a:lnTo>
                    <a:lnTo>
                      <a:pt x="868" y="586"/>
                    </a:lnTo>
                    <a:lnTo>
                      <a:pt x="830" y="594"/>
                    </a:lnTo>
                    <a:lnTo>
                      <a:pt x="788" y="601"/>
                    </a:lnTo>
                    <a:lnTo>
                      <a:pt x="744" y="606"/>
                    </a:lnTo>
                    <a:lnTo>
                      <a:pt x="698" y="606"/>
                    </a:lnTo>
                    <a:lnTo>
                      <a:pt x="650" y="605"/>
                    </a:lnTo>
                    <a:lnTo>
                      <a:pt x="599" y="601"/>
                    </a:lnTo>
                    <a:lnTo>
                      <a:pt x="548" y="593"/>
                    </a:lnTo>
                    <a:lnTo>
                      <a:pt x="497" y="583"/>
                    </a:lnTo>
                    <a:lnTo>
                      <a:pt x="445" y="569"/>
                    </a:lnTo>
                    <a:lnTo>
                      <a:pt x="445" y="569"/>
                    </a:lnTo>
                    <a:lnTo>
                      <a:pt x="392" y="552"/>
                    </a:lnTo>
                    <a:lnTo>
                      <a:pt x="341" y="533"/>
                    </a:lnTo>
                    <a:lnTo>
                      <a:pt x="295" y="513"/>
                    </a:lnTo>
                    <a:lnTo>
                      <a:pt x="249" y="491"/>
                    </a:lnTo>
                    <a:lnTo>
                      <a:pt x="209" y="467"/>
                    </a:lnTo>
                    <a:lnTo>
                      <a:pt x="169" y="442"/>
                    </a:lnTo>
                    <a:lnTo>
                      <a:pt x="134" y="414"/>
                    </a:lnTo>
                    <a:lnTo>
                      <a:pt x="103" y="387"/>
                    </a:lnTo>
                    <a:lnTo>
                      <a:pt x="74" y="358"/>
                    </a:lnTo>
                    <a:lnTo>
                      <a:pt x="51" y="329"/>
                    </a:lnTo>
                    <a:lnTo>
                      <a:pt x="32" y="301"/>
                    </a:lnTo>
                    <a:lnTo>
                      <a:pt x="23" y="285"/>
                    </a:lnTo>
                    <a:lnTo>
                      <a:pt x="17" y="272"/>
                    </a:lnTo>
                    <a:lnTo>
                      <a:pt x="11" y="256"/>
                    </a:lnTo>
                    <a:lnTo>
                      <a:pt x="6" y="243"/>
                    </a:lnTo>
                    <a:lnTo>
                      <a:pt x="3" y="228"/>
                    </a:lnTo>
                    <a:lnTo>
                      <a:pt x="1" y="212"/>
                    </a:lnTo>
                    <a:lnTo>
                      <a:pt x="0" y="199"/>
                    </a:lnTo>
                    <a:lnTo>
                      <a:pt x="1" y="185"/>
                    </a:lnTo>
                    <a:lnTo>
                      <a:pt x="3" y="170"/>
                    </a:lnTo>
                    <a:lnTo>
                      <a:pt x="6" y="156"/>
                    </a:lnTo>
                    <a:lnTo>
                      <a:pt x="6" y="156"/>
                    </a:lnTo>
                    <a:lnTo>
                      <a:pt x="10" y="143"/>
                    </a:lnTo>
                    <a:lnTo>
                      <a:pt x="17" y="131"/>
                    </a:lnTo>
                    <a:lnTo>
                      <a:pt x="23" y="117"/>
                    </a:lnTo>
                    <a:lnTo>
                      <a:pt x="32" y="105"/>
                    </a:lnTo>
                    <a:lnTo>
                      <a:pt x="40" y="95"/>
                    </a:lnTo>
                    <a:lnTo>
                      <a:pt x="51" y="85"/>
                    </a:lnTo>
                    <a:lnTo>
                      <a:pt x="62" y="75"/>
                    </a:lnTo>
                    <a:lnTo>
                      <a:pt x="76" y="64"/>
                    </a:lnTo>
                    <a:lnTo>
                      <a:pt x="90" y="56"/>
                    </a:lnTo>
                    <a:lnTo>
                      <a:pt x="103" y="47"/>
                    </a:lnTo>
                    <a:lnTo>
                      <a:pt x="136" y="32"/>
                    </a:lnTo>
                    <a:lnTo>
                      <a:pt x="171" y="20"/>
                    </a:lnTo>
                    <a:lnTo>
                      <a:pt x="210" y="12"/>
                    </a:lnTo>
                    <a:lnTo>
                      <a:pt x="251" y="5"/>
                    </a:lnTo>
                    <a:lnTo>
                      <a:pt x="295" y="2"/>
                    </a:lnTo>
                    <a:lnTo>
                      <a:pt x="341" y="0"/>
                    </a:lnTo>
                    <a:lnTo>
                      <a:pt x="390" y="2"/>
                    </a:lnTo>
                    <a:lnTo>
                      <a:pt x="440" y="5"/>
                    </a:lnTo>
                    <a:lnTo>
                      <a:pt x="491" y="13"/>
                    </a:lnTo>
                    <a:lnTo>
                      <a:pt x="543" y="24"/>
                    </a:lnTo>
                    <a:lnTo>
                      <a:pt x="596" y="37"/>
                    </a:lnTo>
                    <a:lnTo>
                      <a:pt x="596" y="37"/>
                    </a:lnTo>
                    <a:lnTo>
                      <a:pt x="649" y="54"/>
                    </a:lnTo>
                    <a:lnTo>
                      <a:pt x="698" y="73"/>
                    </a:lnTo>
                    <a:lnTo>
                      <a:pt x="745" y="93"/>
                    </a:lnTo>
                    <a:lnTo>
                      <a:pt x="790" y="115"/>
                    </a:lnTo>
                    <a:lnTo>
                      <a:pt x="832" y="139"/>
                    </a:lnTo>
                    <a:lnTo>
                      <a:pt x="869" y="165"/>
                    </a:lnTo>
                    <a:lnTo>
                      <a:pt x="905" y="192"/>
                    </a:lnTo>
                    <a:lnTo>
                      <a:pt x="937" y="219"/>
                    </a:lnTo>
                    <a:lnTo>
                      <a:pt x="965" y="248"/>
                    </a:lnTo>
                    <a:lnTo>
                      <a:pt x="988" y="277"/>
                    </a:lnTo>
                    <a:lnTo>
                      <a:pt x="1009" y="306"/>
                    </a:lnTo>
                    <a:lnTo>
                      <a:pt x="1016" y="321"/>
                    </a:lnTo>
                    <a:lnTo>
                      <a:pt x="1022" y="335"/>
                    </a:lnTo>
                    <a:lnTo>
                      <a:pt x="1029" y="350"/>
                    </a:lnTo>
                    <a:lnTo>
                      <a:pt x="1033" y="365"/>
                    </a:lnTo>
                    <a:lnTo>
                      <a:pt x="1036" y="379"/>
                    </a:lnTo>
                    <a:lnTo>
                      <a:pt x="1039" y="394"/>
                    </a:lnTo>
                    <a:lnTo>
                      <a:pt x="1039" y="408"/>
                    </a:lnTo>
                    <a:lnTo>
                      <a:pt x="1039" y="423"/>
                    </a:lnTo>
                    <a:lnTo>
                      <a:pt x="1038" y="436"/>
                    </a:lnTo>
                    <a:lnTo>
                      <a:pt x="1034" y="450"/>
                    </a:lnTo>
                    <a:lnTo>
                      <a:pt x="1034" y="450"/>
                    </a:lnTo>
                    <a:close/>
                  </a:path>
                </a:pathLst>
              </a:custGeom>
              <a:noFill/>
              <a:ln w="38160">
                <a:solidFill>
                  <a:srgbClr val="b3cce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Freeform 40"/>
              <p:cNvSpPr/>
              <p:nvPr/>
            </p:nvSpPr>
            <p:spPr>
              <a:xfrm>
                <a:off x="1433160" y="523080"/>
                <a:ext cx="282240" cy="279720"/>
              </a:xfrm>
              <a:custGeom>
                <a:avLst/>
                <a:gdLst/>
                <a:ahLst/>
                <a:rect l="l" t="t" r="r" b="b"/>
                <a:pathLst>
                  <a:path w="749" h="747">
                    <a:moveTo>
                      <a:pt x="12" y="0"/>
                    </a:moveTo>
                    <a:lnTo>
                      <a:pt x="12" y="0"/>
                    </a:lnTo>
                    <a:lnTo>
                      <a:pt x="5" y="25"/>
                    </a:lnTo>
                    <a:lnTo>
                      <a:pt x="2" y="51"/>
                    </a:lnTo>
                    <a:lnTo>
                      <a:pt x="0" y="78"/>
                    </a:lnTo>
                    <a:lnTo>
                      <a:pt x="0" y="105"/>
                    </a:lnTo>
                    <a:lnTo>
                      <a:pt x="3" y="130"/>
                    </a:lnTo>
                    <a:lnTo>
                      <a:pt x="9" y="158"/>
                    </a:lnTo>
                    <a:lnTo>
                      <a:pt x="15" y="185"/>
                    </a:lnTo>
                    <a:lnTo>
                      <a:pt x="26" y="212"/>
                    </a:lnTo>
                    <a:lnTo>
                      <a:pt x="36" y="239"/>
                    </a:lnTo>
                    <a:lnTo>
                      <a:pt x="49" y="266"/>
                    </a:lnTo>
                    <a:lnTo>
                      <a:pt x="65" y="293"/>
                    </a:lnTo>
                    <a:lnTo>
                      <a:pt x="82" y="319"/>
                    </a:lnTo>
                    <a:lnTo>
                      <a:pt x="100" y="346"/>
                    </a:lnTo>
                    <a:lnTo>
                      <a:pt x="122" y="372"/>
                    </a:lnTo>
                    <a:lnTo>
                      <a:pt x="145" y="399"/>
                    </a:lnTo>
                    <a:lnTo>
                      <a:pt x="168" y="424"/>
                    </a:lnTo>
                    <a:lnTo>
                      <a:pt x="194" y="450"/>
                    </a:lnTo>
                    <a:lnTo>
                      <a:pt x="223" y="474"/>
                    </a:lnTo>
                    <a:lnTo>
                      <a:pt x="252" y="497"/>
                    </a:lnTo>
                    <a:lnTo>
                      <a:pt x="282" y="521"/>
                    </a:lnTo>
                    <a:lnTo>
                      <a:pt x="313" y="545"/>
                    </a:lnTo>
                    <a:lnTo>
                      <a:pt x="347" y="567"/>
                    </a:lnTo>
                    <a:lnTo>
                      <a:pt x="382" y="589"/>
                    </a:lnTo>
                    <a:lnTo>
                      <a:pt x="418" y="609"/>
                    </a:lnTo>
                    <a:lnTo>
                      <a:pt x="455" y="630"/>
                    </a:lnTo>
                    <a:lnTo>
                      <a:pt x="494" y="650"/>
                    </a:lnTo>
                    <a:lnTo>
                      <a:pt x="534" y="669"/>
                    </a:lnTo>
                    <a:lnTo>
                      <a:pt x="574" y="686"/>
                    </a:lnTo>
                    <a:lnTo>
                      <a:pt x="617" y="703"/>
                    </a:lnTo>
                    <a:lnTo>
                      <a:pt x="659" y="718"/>
                    </a:lnTo>
                    <a:lnTo>
                      <a:pt x="703" y="733"/>
                    </a:lnTo>
                    <a:lnTo>
                      <a:pt x="749" y="747"/>
                    </a:lnTo>
                  </a:path>
                </a:pathLst>
              </a:custGeom>
              <a:noFill/>
              <a:ln w="38160">
                <a:solidFill>
                  <a:srgbClr val="b3cce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41"/>
              <p:cNvSpPr/>
              <p:nvPr/>
            </p:nvSpPr>
            <p:spPr>
              <a:xfrm>
                <a:off x="1716120" y="698400"/>
                <a:ext cx="391680" cy="125640"/>
              </a:xfrm>
              <a:custGeom>
                <a:avLst/>
                <a:gdLst/>
                <a:ahLst/>
                <a:rect l="l" t="t" r="r" b="b"/>
                <a:pathLst>
                  <a:path w="1037" h="337">
                    <a:moveTo>
                      <a:pt x="1037" y="0"/>
                    </a:moveTo>
                    <a:lnTo>
                      <a:pt x="1037" y="0"/>
                    </a:lnTo>
                    <a:lnTo>
                      <a:pt x="1028" y="28"/>
                    </a:lnTo>
                    <a:lnTo>
                      <a:pt x="1016" y="53"/>
                    </a:lnTo>
                    <a:lnTo>
                      <a:pt x="1003" y="79"/>
                    </a:lnTo>
                    <a:lnTo>
                      <a:pt x="987" y="102"/>
                    </a:lnTo>
                    <a:lnTo>
                      <a:pt x="970" y="124"/>
                    </a:lnTo>
                    <a:lnTo>
                      <a:pt x="952" y="146"/>
                    </a:lnTo>
                    <a:lnTo>
                      <a:pt x="931" y="167"/>
                    </a:lnTo>
                    <a:lnTo>
                      <a:pt x="908" y="187"/>
                    </a:lnTo>
                    <a:lnTo>
                      <a:pt x="884" y="206"/>
                    </a:lnTo>
                    <a:lnTo>
                      <a:pt x="858" y="223"/>
                    </a:lnTo>
                    <a:lnTo>
                      <a:pt x="829" y="238"/>
                    </a:lnTo>
                    <a:lnTo>
                      <a:pt x="800" y="254"/>
                    </a:lnTo>
                    <a:lnTo>
                      <a:pt x="770" y="267"/>
                    </a:lnTo>
                    <a:lnTo>
                      <a:pt x="738" y="281"/>
                    </a:lnTo>
                    <a:lnTo>
                      <a:pt x="705" y="293"/>
                    </a:lnTo>
                    <a:lnTo>
                      <a:pt x="670" y="301"/>
                    </a:lnTo>
                    <a:lnTo>
                      <a:pt x="634" y="311"/>
                    </a:lnTo>
                    <a:lnTo>
                      <a:pt x="598" y="318"/>
                    </a:lnTo>
                    <a:lnTo>
                      <a:pt x="559" y="325"/>
                    </a:lnTo>
                    <a:lnTo>
                      <a:pt x="520" y="330"/>
                    </a:lnTo>
                    <a:lnTo>
                      <a:pt x="481" y="333"/>
                    </a:lnTo>
                    <a:lnTo>
                      <a:pt x="440" y="335"/>
                    </a:lnTo>
                    <a:lnTo>
                      <a:pt x="400" y="337"/>
                    </a:lnTo>
                    <a:lnTo>
                      <a:pt x="357" y="335"/>
                    </a:lnTo>
                    <a:lnTo>
                      <a:pt x="315" y="333"/>
                    </a:lnTo>
                    <a:lnTo>
                      <a:pt x="270" y="330"/>
                    </a:lnTo>
                    <a:lnTo>
                      <a:pt x="226" y="325"/>
                    </a:lnTo>
                    <a:lnTo>
                      <a:pt x="182" y="320"/>
                    </a:lnTo>
                    <a:lnTo>
                      <a:pt x="136" y="311"/>
                    </a:lnTo>
                    <a:lnTo>
                      <a:pt x="92" y="303"/>
                    </a:lnTo>
                    <a:lnTo>
                      <a:pt x="46" y="291"/>
                    </a:lnTo>
                    <a:lnTo>
                      <a:pt x="0" y="279"/>
                    </a:lnTo>
                  </a:path>
                </a:pathLst>
              </a:custGeom>
              <a:noFill/>
              <a:ln w="38160">
                <a:solidFill>
                  <a:srgbClr val="b3cce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42"/>
              <p:cNvSpPr/>
              <p:nvPr/>
            </p:nvSpPr>
            <p:spPr>
              <a:xfrm>
                <a:off x="1326600" y="729720"/>
                <a:ext cx="338040" cy="263520"/>
              </a:xfrm>
              <a:custGeom>
                <a:avLst/>
                <a:gdLst/>
                <a:ahLst/>
                <a:rect l="l" t="t" r="r" b="b"/>
                <a:pathLst>
                  <a:path w="897" h="710">
                    <a:moveTo>
                      <a:pt x="7" y="0"/>
                    </a:moveTo>
                    <a:lnTo>
                      <a:pt x="7" y="0"/>
                    </a:lnTo>
                    <a:lnTo>
                      <a:pt x="1" y="22"/>
                    </a:lnTo>
                    <a:lnTo>
                      <a:pt x="0" y="44"/>
                    </a:lnTo>
                    <a:lnTo>
                      <a:pt x="0" y="68"/>
                    </a:lnTo>
                    <a:lnTo>
                      <a:pt x="3" y="90"/>
                    </a:lnTo>
                    <a:lnTo>
                      <a:pt x="8" y="113"/>
                    </a:lnTo>
                    <a:lnTo>
                      <a:pt x="15" y="137"/>
                    </a:lnTo>
                    <a:lnTo>
                      <a:pt x="25" y="163"/>
                    </a:lnTo>
                    <a:lnTo>
                      <a:pt x="39" y="187"/>
                    </a:lnTo>
                    <a:lnTo>
                      <a:pt x="54" y="210"/>
                    </a:lnTo>
                    <a:lnTo>
                      <a:pt x="71" y="236"/>
                    </a:lnTo>
                    <a:lnTo>
                      <a:pt x="90" y="260"/>
                    </a:lnTo>
                    <a:lnTo>
                      <a:pt x="112" y="285"/>
                    </a:lnTo>
                    <a:lnTo>
                      <a:pt x="134" y="309"/>
                    </a:lnTo>
                    <a:lnTo>
                      <a:pt x="159" y="334"/>
                    </a:lnTo>
                    <a:lnTo>
                      <a:pt x="188" y="358"/>
                    </a:lnTo>
                    <a:lnTo>
                      <a:pt x="217" y="382"/>
                    </a:lnTo>
                    <a:lnTo>
                      <a:pt x="248" y="407"/>
                    </a:lnTo>
                    <a:lnTo>
                      <a:pt x="280" y="431"/>
                    </a:lnTo>
                    <a:lnTo>
                      <a:pt x="316" y="453"/>
                    </a:lnTo>
                    <a:lnTo>
                      <a:pt x="351" y="477"/>
                    </a:lnTo>
                    <a:lnTo>
                      <a:pt x="389" y="499"/>
                    </a:lnTo>
                    <a:lnTo>
                      <a:pt x="430" y="521"/>
                    </a:lnTo>
                    <a:lnTo>
                      <a:pt x="470" y="543"/>
                    </a:lnTo>
                    <a:lnTo>
                      <a:pt x="513" y="565"/>
                    </a:lnTo>
                    <a:lnTo>
                      <a:pt x="555" y="586"/>
                    </a:lnTo>
                    <a:lnTo>
                      <a:pt x="601" y="606"/>
                    </a:lnTo>
                    <a:lnTo>
                      <a:pt x="647" y="625"/>
                    </a:lnTo>
                    <a:lnTo>
                      <a:pt x="695" y="643"/>
                    </a:lnTo>
                    <a:lnTo>
                      <a:pt x="744" y="662"/>
                    </a:lnTo>
                    <a:lnTo>
                      <a:pt x="793" y="679"/>
                    </a:lnTo>
                    <a:lnTo>
                      <a:pt x="844" y="694"/>
                    </a:lnTo>
                    <a:lnTo>
                      <a:pt x="897" y="710"/>
                    </a:lnTo>
                  </a:path>
                </a:pathLst>
              </a:custGeom>
              <a:noFill/>
              <a:ln w="38160">
                <a:solidFill>
                  <a:srgbClr val="b3cce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Freeform 43"/>
              <p:cNvSpPr/>
              <p:nvPr/>
            </p:nvSpPr>
            <p:spPr>
              <a:xfrm>
                <a:off x="1666440" y="944280"/>
                <a:ext cx="427320" cy="83880"/>
              </a:xfrm>
              <a:custGeom>
                <a:avLst/>
                <a:gdLst/>
                <a:ahLst/>
                <a:rect l="l" t="t" r="r" b="b"/>
                <a:pathLst>
                  <a:path w="1132" h="224">
                    <a:moveTo>
                      <a:pt x="1132" y="0"/>
                    </a:moveTo>
                    <a:lnTo>
                      <a:pt x="1132" y="0"/>
                    </a:lnTo>
                    <a:lnTo>
                      <a:pt x="1125" y="22"/>
                    </a:lnTo>
                    <a:lnTo>
                      <a:pt x="1115" y="43"/>
                    </a:lnTo>
                    <a:lnTo>
                      <a:pt x="1103" y="61"/>
                    </a:lnTo>
                    <a:lnTo>
                      <a:pt x="1087" y="80"/>
                    </a:lnTo>
                    <a:lnTo>
                      <a:pt x="1070" y="97"/>
                    </a:lnTo>
                    <a:lnTo>
                      <a:pt x="1050" y="114"/>
                    </a:lnTo>
                    <a:lnTo>
                      <a:pt x="1030" y="129"/>
                    </a:lnTo>
                    <a:lnTo>
                      <a:pt x="1006" y="143"/>
                    </a:lnTo>
                    <a:lnTo>
                      <a:pt x="980" y="155"/>
                    </a:lnTo>
                    <a:lnTo>
                      <a:pt x="953" y="167"/>
                    </a:lnTo>
                    <a:lnTo>
                      <a:pt x="923" y="179"/>
                    </a:lnTo>
                    <a:lnTo>
                      <a:pt x="892" y="187"/>
                    </a:lnTo>
                    <a:lnTo>
                      <a:pt x="860" y="196"/>
                    </a:lnTo>
                    <a:lnTo>
                      <a:pt x="824" y="204"/>
                    </a:lnTo>
                    <a:lnTo>
                      <a:pt x="788" y="209"/>
                    </a:lnTo>
                    <a:lnTo>
                      <a:pt x="751" y="214"/>
                    </a:lnTo>
                    <a:lnTo>
                      <a:pt x="712" y="219"/>
                    </a:lnTo>
                    <a:lnTo>
                      <a:pt x="671" y="221"/>
                    </a:lnTo>
                    <a:lnTo>
                      <a:pt x="629" y="223"/>
                    </a:lnTo>
                    <a:lnTo>
                      <a:pt x="586" y="224"/>
                    </a:lnTo>
                    <a:lnTo>
                      <a:pt x="542" y="223"/>
                    </a:lnTo>
                    <a:lnTo>
                      <a:pt x="498" y="221"/>
                    </a:lnTo>
                    <a:lnTo>
                      <a:pt x="450" y="218"/>
                    </a:lnTo>
                    <a:lnTo>
                      <a:pt x="405" y="214"/>
                    </a:lnTo>
                    <a:lnTo>
                      <a:pt x="355" y="207"/>
                    </a:lnTo>
                    <a:lnTo>
                      <a:pt x="306" y="202"/>
                    </a:lnTo>
                    <a:lnTo>
                      <a:pt x="257" y="194"/>
                    </a:lnTo>
                    <a:lnTo>
                      <a:pt x="207" y="184"/>
                    </a:lnTo>
                    <a:lnTo>
                      <a:pt x="156" y="173"/>
                    </a:lnTo>
                    <a:lnTo>
                      <a:pt x="106" y="162"/>
                    </a:lnTo>
                    <a:lnTo>
                      <a:pt x="53" y="150"/>
                    </a:lnTo>
                    <a:lnTo>
                      <a:pt x="0" y="134"/>
                    </a:lnTo>
                  </a:path>
                </a:pathLst>
              </a:custGeom>
              <a:noFill/>
              <a:ln w="38160">
                <a:solidFill>
                  <a:srgbClr val="b3cce6"/>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66" name="Freeform 44"/>
              <p:cNvSpPr/>
              <p:nvPr/>
            </p:nvSpPr>
            <p:spPr>
              <a:xfrm>
                <a:off x="1368000" y="965160"/>
                <a:ext cx="258840" cy="167760"/>
              </a:xfrm>
              <a:custGeom>
                <a:avLst/>
                <a:gdLst/>
                <a:ahLst/>
                <a:rect l="l" t="t" r="r" b="b"/>
                <a:pathLst>
                  <a:path w="688" h="450">
                    <a:moveTo>
                      <a:pt x="4" y="0"/>
                    </a:moveTo>
                    <a:lnTo>
                      <a:pt x="4" y="0"/>
                    </a:lnTo>
                    <a:lnTo>
                      <a:pt x="2" y="11"/>
                    </a:lnTo>
                    <a:lnTo>
                      <a:pt x="0" y="25"/>
                    </a:lnTo>
                    <a:lnTo>
                      <a:pt x="2" y="39"/>
                    </a:lnTo>
                    <a:lnTo>
                      <a:pt x="5" y="51"/>
                    </a:lnTo>
                    <a:lnTo>
                      <a:pt x="10" y="66"/>
                    </a:lnTo>
                    <a:lnTo>
                      <a:pt x="17" y="79"/>
                    </a:lnTo>
                    <a:lnTo>
                      <a:pt x="26" y="93"/>
                    </a:lnTo>
                    <a:lnTo>
                      <a:pt x="36" y="108"/>
                    </a:lnTo>
                    <a:lnTo>
                      <a:pt x="48" y="122"/>
                    </a:lnTo>
                    <a:lnTo>
                      <a:pt x="61" y="137"/>
                    </a:lnTo>
                    <a:lnTo>
                      <a:pt x="94" y="168"/>
                    </a:lnTo>
                    <a:lnTo>
                      <a:pt x="133" y="198"/>
                    </a:lnTo>
                    <a:lnTo>
                      <a:pt x="175" y="229"/>
                    </a:lnTo>
                    <a:lnTo>
                      <a:pt x="224" y="259"/>
                    </a:lnTo>
                    <a:lnTo>
                      <a:pt x="279" y="288"/>
                    </a:lnTo>
                    <a:lnTo>
                      <a:pt x="338" y="319"/>
                    </a:lnTo>
                    <a:lnTo>
                      <a:pt x="401" y="348"/>
                    </a:lnTo>
                    <a:lnTo>
                      <a:pt x="467" y="375"/>
                    </a:lnTo>
                    <a:lnTo>
                      <a:pt x="537" y="400"/>
                    </a:lnTo>
                    <a:lnTo>
                      <a:pt x="612" y="426"/>
                    </a:lnTo>
                    <a:lnTo>
                      <a:pt x="688" y="450"/>
                    </a:lnTo>
                  </a:path>
                </a:pathLst>
              </a:custGeom>
              <a:noFill/>
              <a:ln w="38160">
                <a:solidFill>
                  <a:srgbClr val="b3cce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Freeform 45"/>
              <p:cNvSpPr/>
              <p:nvPr/>
            </p:nvSpPr>
            <p:spPr>
              <a:xfrm>
                <a:off x="1625760" y="1131480"/>
                <a:ext cx="266400" cy="41400"/>
              </a:xfrm>
              <a:custGeom>
                <a:avLst/>
                <a:gdLst/>
                <a:ahLst/>
                <a:rect l="l" t="t" r="r" b="b"/>
                <a:pathLst>
                  <a:path w="707" h="107">
                    <a:moveTo>
                      <a:pt x="707" y="73"/>
                    </a:moveTo>
                    <a:lnTo>
                      <a:pt x="707" y="73"/>
                    </a:lnTo>
                    <a:lnTo>
                      <a:pt x="705" y="78"/>
                    </a:lnTo>
                    <a:lnTo>
                      <a:pt x="700" y="83"/>
                    </a:lnTo>
                    <a:lnTo>
                      <a:pt x="695" y="88"/>
                    </a:lnTo>
                    <a:lnTo>
                      <a:pt x="686" y="93"/>
                    </a:lnTo>
                    <a:lnTo>
                      <a:pt x="678" y="97"/>
                    </a:lnTo>
                    <a:lnTo>
                      <a:pt x="668" y="100"/>
                    </a:lnTo>
                    <a:lnTo>
                      <a:pt x="642" y="104"/>
                    </a:lnTo>
                    <a:lnTo>
                      <a:pt x="610" y="107"/>
                    </a:lnTo>
                    <a:lnTo>
                      <a:pt x="574" y="107"/>
                    </a:lnTo>
                    <a:lnTo>
                      <a:pt x="532" y="105"/>
                    </a:lnTo>
                    <a:lnTo>
                      <a:pt x="486" y="100"/>
                    </a:lnTo>
                    <a:lnTo>
                      <a:pt x="437" y="95"/>
                    </a:lnTo>
                    <a:lnTo>
                      <a:pt x="382" y="87"/>
                    </a:lnTo>
                    <a:lnTo>
                      <a:pt x="326" y="76"/>
                    </a:lnTo>
                    <a:lnTo>
                      <a:pt x="265" y="66"/>
                    </a:lnTo>
                    <a:lnTo>
                      <a:pt x="202" y="51"/>
                    </a:lnTo>
                    <a:lnTo>
                      <a:pt x="136" y="36"/>
                    </a:lnTo>
                    <a:lnTo>
                      <a:pt x="70" y="19"/>
                    </a:lnTo>
                    <a:lnTo>
                      <a:pt x="0" y="0"/>
                    </a:lnTo>
                  </a:path>
                </a:pathLst>
              </a:custGeom>
              <a:noFill/>
              <a:ln w="38160">
                <a:solidFill>
                  <a:srgbClr val="b3cce6"/>
                </a:solidFill>
                <a:round/>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68" name="Line 46"/>
              <p:cNvSpPr/>
              <p:nvPr/>
            </p:nvSpPr>
            <p:spPr>
              <a:xfrm flipH="1">
                <a:off x="1615680" y="420840"/>
                <a:ext cx="220320" cy="768600"/>
              </a:xfrm>
              <a:prstGeom prst="line">
                <a:avLst/>
              </a:prstGeom>
              <a:ln w="38160">
                <a:solidFill>
                  <a:srgbClr val="b3cce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Freeform 47"/>
              <p:cNvSpPr/>
              <p:nvPr/>
            </p:nvSpPr>
            <p:spPr>
              <a:xfrm>
                <a:off x="1322280" y="404640"/>
                <a:ext cx="800280" cy="795600"/>
              </a:xfrm>
              <a:custGeom>
                <a:avLst/>
                <a:gdLst/>
                <a:ahLst/>
                <a:rect l="l" t="t" r="r" b="b"/>
                <a:pathLst>
                  <a:path w="2117" h="2132">
                    <a:moveTo>
                      <a:pt x="2076" y="1357"/>
                    </a:moveTo>
                    <a:lnTo>
                      <a:pt x="2076" y="1357"/>
                    </a:lnTo>
                    <a:lnTo>
                      <a:pt x="2059" y="1410"/>
                    </a:lnTo>
                    <a:lnTo>
                      <a:pt x="2041" y="1461"/>
                    </a:lnTo>
                    <a:lnTo>
                      <a:pt x="2020" y="1510"/>
                    </a:lnTo>
                    <a:lnTo>
                      <a:pt x="1996" y="1558"/>
                    </a:lnTo>
                    <a:lnTo>
                      <a:pt x="1971" y="1604"/>
                    </a:lnTo>
                    <a:lnTo>
                      <a:pt x="1944" y="1650"/>
                    </a:lnTo>
                    <a:lnTo>
                      <a:pt x="1913" y="1692"/>
                    </a:lnTo>
                    <a:lnTo>
                      <a:pt x="1883" y="1733"/>
                    </a:lnTo>
                    <a:lnTo>
                      <a:pt x="1849" y="1774"/>
                    </a:lnTo>
                    <a:lnTo>
                      <a:pt x="1813" y="1811"/>
                    </a:lnTo>
                    <a:lnTo>
                      <a:pt x="1777" y="1847"/>
                    </a:lnTo>
                    <a:lnTo>
                      <a:pt x="1738" y="1881"/>
                    </a:lnTo>
                    <a:lnTo>
                      <a:pt x="1699" y="1913"/>
                    </a:lnTo>
                    <a:lnTo>
                      <a:pt x="1657" y="1944"/>
                    </a:lnTo>
                    <a:lnTo>
                      <a:pt x="1614" y="1971"/>
                    </a:lnTo>
                    <a:lnTo>
                      <a:pt x="1572" y="1998"/>
                    </a:lnTo>
                    <a:lnTo>
                      <a:pt x="1526" y="2022"/>
                    </a:lnTo>
                    <a:lnTo>
                      <a:pt x="1480" y="2042"/>
                    </a:lnTo>
                    <a:lnTo>
                      <a:pt x="1432" y="2062"/>
                    </a:lnTo>
                    <a:lnTo>
                      <a:pt x="1385" y="2079"/>
                    </a:lnTo>
                    <a:lnTo>
                      <a:pt x="1336" y="2095"/>
                    </a:lnTo>
                    <a:lnTo>
                      <a:pt x="1286" y="2107"/>
                    </a:lnTo>
                    <a:lnTo>
                      <a:pt x="1235" y="2117"/>
                    </a:lnTo>
                    <a:lnTo>
                      <a:pt x="1184" y="2125"/>
                    </a:lnTo>
                    <a:lnTo>
                      <a:pt x="1133" y="2130"/>
                    </a:lnTo>
                    <a:lnTo>
                      <a:pt x="1081" y="2132"/>
                    </a:lnTo>
                    <a:lnTo>
                      <a:pt x="1030" y="2132"/>
                    </a:lnTo>
                    <a:lnTo>
                      <a:pt x="977" y="2130"/>
                    </a:lnTo>
                    <a:lnTo>
                      <a:pt x="924" y="2125"/>
                    </a:lnTo>
                    <a:lnTo>
                      <a:pt x="872" y="2117"/>
                    </a:lnTo>
                    <a:lnTo>
                      <a:pt x="819" y="2107"/>
                    </a:lnTo>
                    <a:lnTo>
                      <a:pt x="766" y="2093"/>
                    </a:lnTo>
                    <a:lnTo>
                      <a:pt x="766" y="2093"/>
                    </a:lnTo>
                    <a:lnTo>
                      <a:pt x="714" y="2076"/>
                    </a:lnTo>
                    <a:lnTo>
                      <a:pt x="663" y="2057"/>
                    </a:lnTo>
                    <a:lnTo>
                      <a:pt x="613" y="2037"/>
                    </a:lnTo>
                    <a:lnTo>
                      <a:pt x="568" y="2013"/>
                    </a:lnTo>
                    <a:lnTo>
                      <a:pt x="520" y="1988"/>
                    </a:lnTo>
                    <a:lnTo>
                      <a:pt x="476" y="1961"/>
                    </a:lnTo>
                    <a:lnTo>
                      <a:pt x="433" y="1930"/>
                    </a:lnTo>
                    <a:lnTo>
                      <a:pt x="393" y="1899"/>
                    </a:lnTo>
                    <a:lnTo>
                      <a:pt x="354" y="1865"/>
                    </a:lnTo>
                    <a:lnTo>
                      <a:pt x="316" y="1830"/>
                    </a:lnTo>
                    <a:lnTo>
                      <a:pt x="281" y="1794"/>
                    </a:lnTo>
                    <a:lnTo>
                      <a:pt x="247" y="1755"/>
                    </a:lnTo>
                    <a:lnTo>
                      <a:pt x="216" y="1714"/>
                    </a:lnTo>
                    <a:lnTo>
                      <a:pt x="185" y="1673"/>
                    </a:lnTo>
                    <a:lnTo>
                      <a:pt x="158" y="1631"/>
                    </a:lnTo>
                    <a:lnTo>
                      <a:pt x="133" y="1587"/>
                    </a:lnTo>
                    <a:lnTo>
                      <a:pt x="109" y="1541"/>
                    </a:lnTo>
                    <a:lnTo>
                      <a:pt x="87" y="1495"/>
                    </a:lnTo>
                    <a:lnTo>
                      <a:pt x="68" y="1448"/>
                    </a:lnTo>
                    <a:lnTo>
                      <a:pt x="51" y="1400"/>
                    </a:lnTo>
                    <a:lnTo>
                      <a:pt x="38" y="1351"/>
                    </a:lnTo>
                    <a:lnTo>
                      <a:pt x="24" y="1300"/>
                    </a:lnTo>
                    <a:lnTo>
                      <a:pt x="15" y="1249"/>
                    </a:lnTo>
                    <a:lnTo>
                      <a:pt x="7" y="1198"/>
                    </a:lnTo>
                    <a:lnTo>
                      <a:pt x="2" y="1147"/>
                    </a:lnTo>
                    <a:lnTo>
                      <a:pt x="0" y="1094"/>
                    </a:lnTo>
                    <a:lnTo>
                      <a:pt x="0" y="1042"/>
                    </a:lnTo>
                    <a:lnTo>
                      <a:pt x="4" y="989"/>
                    </a:lnTo>
                    <a:lnTo>
                      <a:pt x="9" y="936"/>
                    </a:lnTo>
                    <a:lnTo>
                      <a:pt x="17" y="882"/>
                    </a:lnTo>
                    <a:lnTo>
                      <a:pt x="27" y="829"/>
                    </a:lnTo>
                    <a:lnTo>
                      <a:pt x="41" y="777"/>
                    </a:lnTo>
                    <a:lnTo>
                      <a:pt x="41" y="777"/>
                    </a:lnTo>
                    <a:lnTo>
                      <a:pt x="58" y="724"/>
                    </a:lnTo>
                    <a:lnTo>
                      <a:pt x="77" y="673"/>
                    </a:lnTo>
                    <a:lnTo>
                      <a:pt x="99" y="624"/>
                    </a:lnTo>
                    <a:lnTo>
                      <a:pt x="121" y="576"/>
                    </a:lnTo>
                    <a:lnTo>
                      <a:pt x="146" y="529"/>
                    </a:lnTo>
                    <a:lnTo>
                      <a:pt x="175" y="484"/>
                    </a:lnTo>
                    <a:lnTo>
                      <a:pt x="204" y="442"/>
                    </a:lnTo>
                    <a:lnTo>
                      <a:pt x="236" y="399"/>
                    </a:lnTo>
                    <a:lnTo>
                      <a:pt x="269" y="360"/>
                    </a:lnTo>
                    <a:lnTo>
                      <a:pt x="304" y="323"/>
                    </a:lnTo>
                    <a:lnTo>
                      <a:pt x="340" y="286"/>
                    </a:lnTo>
                    <a:lnTo>
                      <a:pt x="379" y="252"/>
                    </a:lnTo>
                    <a:lnTo>
                      <a:pt x="418" y="219"/>
                    </a:lnTo>
                    <a:lnTo>
                      <a:pt x="461" y="190"/>
                    </a:lnTo>
                    <a:lnTo>
                      <a:pt x="503" y="162"/>
                    </a:lnTo>
                    <a:lnTo>
                      <a:pt x="547" y="136"/>
                    </a:lnTo>
                    <a:lnTo>
                      <a:pt x="591" y="112"/>
                    </a:lnTo>
                    <a:lnTo>
                      <a:pt x="637" y="90"/>
                    </a:lnTo>
                    <a:lnTo>
                      <a:pt x="685" y="72"/>
                    </a:lnTo>
                    <a:lnTo>
                      <a:pt x="732" y="53"/>
                    </a:lnTo>
                    <a:lnTo>
                      <a:pt x="782" y="39"/>
                    </a:lnTo>
                    <a:lnTo>
                      <a:pt x="831" y="26"/>
                    </a:lnTo>
                    <a:lnTo>
                      <a:pt x="882" y="15"/>
                    </a:lnTo>
                    <a:lnTo>
                      <a:pt x="933" y="9"/>
                    </a:lnTo>
                    <a:lnTo>
                      <a:pt x="984" y="4"/>
                    </a:lnTo>
                    <a:lnTo>
                      <a:pt x="1037" y="0"/>
                    </a:lnTo>
                    <a:lnTo>
                      <a:pt x="1087" y="0"/>
                    </a:lnTo>
                    <a:lnTo>
                      <a:pt x="1140" y="4"/>
                    </a:lnTo>
                    <a:lnTo>
                      <a:pt x="1193" y="9"/>
                    </a:lnTo>
                    <a:lnTo>
                      <a:pt x="1245" y="17"/>
                    </a:lnTo>
                    <a:lnTo>
                      <a:pt x="1300" y="27"/>
                    </a:lnTo>
                    <a:lnTo>
                      <a:pt x="1353" y="41"/>
                    </a:lnTo>
                    <a:lnTo>
                      <a:pt x="1353" y="41"/>
                    </a:lnTo>
                    <a:lnTo>
                      <a:pt x="1403" y="56"/>
                    </a:lnTo>
                    <a:lnTo>
                      <a:pt x="1454" y="75"/>
                    </a:lnTo>
                    <a:lnTo>
                      <a:pt x="1504" y="97"/>
                    </a:lnTo>
                    <a:lnTo>
                      <a:pt x="1551" y="121"/>
                    </a:lnTo>
                    <a:lnTo>
                      <a:pt x="1597" y="146"/>
                    </a:lnTo>
                    <a:lnTo>
                      <a:pt x="1641" y="173"/>
                    </a:lnTo>
                    <a:lnTo>
                      <a:pt x="1684" y="202"/>
                    </a:lnTo>
                    <a:lnTo>
                      <a:pt x="1725" y="235"/>
                    </a:lnTo>
                    <a:lnTo>
                      <a:pt x="1764" y="269"/>
                    </a:lnTo>
                    <a:lnTo>
                      <a:pt x="1801" y="303"/>
                    </a:lnTo>
                    <a:lnTo>
                      <a:pt x="1837" y="340"/>
                    </a:lnTo>
                    <a:lnTo>
                      <a:pt x="1871" y="379"/>
                    </a:lnTo>
                    <a:lnTo>
                      <a:pt x="1903" y="418"/>
                    </a:lnTo>
                    <a:lnTo>
                      <a:pt x="1932" y="461"/>
                    </a:lnTo>
                    <a:lnTo>
                      <a:pt x="1959" y="503"/>
                    </a:lnTo>
                    <a:lnTo>
                      <a:pt x="1984" y="547"/>
                    </a:lnTo>
                    <a:lnTo>
                      <a:pt x="2008" y="591"/>
                    </a:lnTo>
                    <a:lnTo>
                      <a:pt x="2030" y="639"/>
                    </a:lnTo>
                    <a:lnTo>
                      <a:pt x="2049" y="685"/>
                    </a:lnTo>
                    <a:lnTo>
                      <a:pt x="2066" y="734"/>
                    </a:lnTo>
                    <a:lnTo>
                      <a:pt x="2081" y="783"/>
                    </a:lnTo>
                    <a:lnTo>
                      <a:pt x="2093" y="833"/>
                    </a:lnTo>
                    <a:lnTo>
                      <a:pt x="2103" y="884"/>
                    </a:lnTo>
                    <a:lnTo>
                      <a:pt x="2110" y="934"/>
                    </a:lnTo>
                    <a:lnTo>
                      <a:pt x="2115" y="987"/>
                    </a:lnTo>
                    <a:lnTo>
                      <a:pt x="2117" y="1038"/>
                    </a:lnTo>
                    <a:lnTo>
                      <a:pt x="2117" y="1091"/>
                    </a:lnTo>
                    <a:lnTo>
                      <a:pt x="2114" y="1145"/>
                    </a:lnTo>
                    <a:lnTo>
                      <a:pt x="2109" y="1198"/>
                    </a:lnTo>
                    <a:lnTo>
                      <a:pt x="2100" y="1250"/>
                    </a:lnTo>
                    <a:lnTo>
                      <a:pt x="2090" y="1303"/>
                    </a:lnTo>
                    <a:lnTo>
                      <a:pt x="2076" y="1357"/>
                    </a:lnTo>
                    <a:lnTo>
                      <a:pt x="2076" y="1357"/>
                    </a:lnTo>
                    <a:close/>
                  </a:path>
                </a:pathLst>
              </a:custGeom>
              <a:noFill/>
              <a:ln w="38160">
                <a:solidFill>
                  <a:srgbClr val="b3cce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Freeform 48"/>
              <p:cNvSpPr/>
              <p:nvPr/>
            </p:nvSpPr>
            <p:spPr>
              <a:xfrm>
                <a:off x="1323720" y="404640"/>
                <a:ext cx="800280" cy="795600"/>
              </a:xfrm>
              <a:custGeom>
                <a:avLst/>
                <a:gdLst/>
                <a:ahLst/>
                <a:rect l="l" t="t" r="r" b="b"/>
                <a:pathLst>
                  <a:path w="2117" h="2132">
                    <a:moveTo>
                      <a:pt x="2076" y="1357"/>
                    </a:moveTo>
                    <a:lnTo>
                      <a:pt x="2076" y="1357"/>
                    </a:lnTo>
                    <a:lnTo>
                      <a:pt x="2059" y="1408"/>
                    </a:lnTo>
                    <a:lnTo>
                      <a:pt x="2040" y="1459"/>
                    </a:lnTo>
                    <a:lnTo>
                      <a:pt x="2020" y="1510"/>
                    </a:lnTo>
                    <a:lnTo>
                      <a:pt x="1996" y="1558"/>
                    </a:lnTo>
                    <a:lnTo>
                      <a:pt x="1971" y="1604"/>
                    </a:lnTo>
                    <a:lnTo>
                      <a:pt x="1944" y="1648"/>
                    </a:lnTo>
                    <a:lnTo>
                      <a:pt x="1913" y="1692"/>
                    </a:lnTo>
                    <a:lnTo>
                      <a:pt x="1882" y="1733"/>
                    </a:lnTo>
                    <a:lnTo>
                      <a:pt x="1848" y="1773"/>
                    </a:lnTo>
                    <a:lnTo>
                      <a:pt x="1813" y="1811"/>
                    </a:lnTo>
                    <a:lnTo>
                      <a:pt x="1777" y="1846"/>
                    </a:lnTo>
                    <a:lnTo>
                      <a:pt x="1738" y="1880"/>
                    </a:lnTo>
                    <a:lnTo>
                      <a:pt x="1699" y="1913"/>
                    </a:lnTo>
                    <a:lnTo>
                      <a:pt x="1656" y="1943"/>
                    </a:lnTo>
                    <a:lnTo>
                      <a:pt x="1614" y="1970"/>
                    </a:lnTo>
                    <a:lnTo>
                      <a:pt x="1570" y="1998"/>
                    </a:lnTo>
                    <a:lnTo>
                      <a:pt x="1526" y="2021"/>
                    </a:lnTo>
                    <a:lnTo>
                      <a:pt x="1480" y="2042"/>
                    </a:lnTo>
                    <a:lnTo>
                      <a:pt x="1432" y="2062"/>
                    </a:lnTo>
                    <a:lnTo>
                      <a:pt x="1385" y="2079"/>
                    </a:lnTo>
                    <a:lnTo>
                      <a:pt x="1335" y="2094"/>
                    </a:lnTo>
                    <a:lnTo>
                      <a:pt x="1286" y="2106"/>
                    </a:lnTo>
                    <a:lnTo>
                      <a:pt x="1235" y="2117"/>
                    </a:lnTo>
                    <a:lnTo>
                      <a:pt x="1184" y="2125"/>
                    </a:lnTo>
                    <a:lnTo>
                      <a:pt x="1133" y="2130"/>
                    </a:lnTo>
                    <a:lnTo>
                      <a:pt x="1080" y="2132"/>
                    </a:lnTo>
                    <a:lnTo>
                      <a:pt x="1030" y="2132"/>
                    </a:lnTo>
                    <a:lnTo>
                      <a:pt x="977" y="2130"/>
                    </a:lnTo>
                    <a:lnTo>
                      <a:pt x="924" y="2125"/>
                    </a:lnTo>
                    <a:lnTo>
                      <a:pt x="872" y="2117"/>
                    </a:lnTo>
                    <a:lnTo>
                      <a:pt x="819" y="2105"/>
                    </a:lnTo>
                    <a:lnTo>
                      <a:pt x="766" y="2091"/>
                    </a:lnTo>
                    <a:lnTo>
                      <a:pt x="766" y="2091"/>
                    </a:lnTo>
                    <a:lnTo>
                      <a:pt x="714" y="2076"/>
                    </a:lnTo>
                    <a:lnTo>
                      <a:pt x="663" y="2057"/>
                    </a:lnTo>
                    <a:lnTo>
                      <a:pt x="613" y="2035"/>
                    </a:lnTo>
                    <a:lnTo>
                      <a:pt x="566" y="2013"/>
                    </a:lnTo>
                    <a:lnTo>
                      <a:pt x="520" y="1987"/>
                    </a:lnTo>
                    <a:lnTo>
                      <a:pt x="476" y="1959"/>
                    </a:lnTo>
                    <a:lnTo>
                      <a:pt x="433" y="1930"/>
                    </a:lnTo>
                    <a:lnTo>
                      <a:pt x="392" y="1897"/>
                    </a:lnTo>
                    <a:lnTo>
                      <a:pt x="353" y="1865"/>
                    </a:lnTo>
                    <a:lnTo>
                      <a:pt x="316" y="1829"/>
                    </a:lnTo>
                    <a:lnTo>
                      <a:pt x="280" y="1792"/>
                    </a:lnTo>
                    <a:lnTo>
                      <a:pt x="246" y="1755"/>
                    </a:lnTo>
                    <a:lnTo>
                      <a:pt x="216" y="1714"/>
                    </a:lnTo>
                    <a:lnTo>
                      <a:pt x="185" y="1673"/>
                    </a:lnTo>
                    <a:lnTo>
                      <a:pt x="158" y="1631"/>
                    </a:lnTo>
                    <a:lnTo>
                      <a:pt x="133" y="1587"/>
                    </a:lnTo>
                    <a:lnTo>
                      <a:pt x="109" y="1541"/>
                    </a:lnTo>
                    <a:lnTo>
                      <a:pt x="87" y="1495"/>
                    </a:lnTo>
                    <a:lnTo>
                      <a:pt x="68" y="1447"/>
                    </a:lnTo>
                    <a:lnTo>
                      <a:pt x="51" y="1398"/>
                    </a:lnTo>
                    <a:lnTo>
                      <a:pt x="37" y="1350"/>
                    </a:lnTo>
                    <a:lnTo>
                      <a:pt x="24" y="1299"/>
                    </a:lnTo>
                    <a:lnTo>
                      <a:pt x="15" y="1248"/>
                    </a:lnTo>
                    <a:lnTo>
                      <a:pt x="7" y="1198"/>
                    </a:lnTo>
                    <a:lnTo>
                      <a:pt x="2" y="1147"/>
                    </a:lnTo>
                    <a:lnTo>
                      <a:pt x="0" y="1094"/>
                    </a:lnTo>
                    <a:lnTo>
                      <a:pt x="0" y="1041"/>
                    </a:lnTo>
                    <a:lnTo>
                      <a:pt x="3" y="989"/>
                    </a:lnTo>
                    <a:lnTo>
                      <a:pt x="8" y="936"/>
                    </a:lnTo>
                    <a:lnTo>
                      <a:pt x="17" y="882"/>
                    </a:lnTo>
                    <a:lnTo>
                      <a:pt x="27" y="829"/>
                    </a:lnTo>
                    <a:lnTo>
                      <a:pt x="41" y="776"/>
                    </a:lnTo>
                    <a:lnTo>
                      <a:pt x="41" y="776"/>
                    </a:lnTo>
                    <a:lnTo>
                      <a:pt x="58" y="724"/>
                    </a:lnTo>
                    <a:lnTo>
                      <a:pt x="76" y="673"/>
                    </a:lnTo>
                    <a:lnTo>
                      <a:pt x="97" y="623"/>
                    </a:lnTo>
                    <a:lnTo>
                      <a:pt x="121" y="574"/>
                    </a:lnTo>
                    <a:lnTo>
                      <a:pt x="146" y="528"/>
                    </a:lnTo>
                    <a:lnTo>
                      <a:pt x="173" y="484"/>
                    </a:lnTo>
                    <a:lnTo>
                      <a:pt x="204" y="440"/>
                    </a:lnTo>
                    <a:lnTo>
                      <a:pt x="234" y="399"/>
                    </a:lnTo>
                    <a:lnTo>
                      <a:pt x="268" y="360"/>
                    </a:lnTo>
                    <a:lnTo>
                      <a:pt x="304" y="321"/>
                    </a:lnTo>
                    <a:lnTo>
                      <a:pt x="340" y="285"/>
                    </a:lnTo>
                    <a:lnTo>
                      <a:pt x="379" y="251"/>
                    </a:lnTo>
                    <a:lnTo>
                      <a:pt x="418" y="219"/>
                    </a:lnTo>
                    <a:lnTo>
                      <a:pt x="460" y="190"/>
                    </a:lnTo>
                    <a:lnTo>
                      <a:pt x="503" y="161"/>
                    </a:lnTo>
                    <a:lnTo>
                      <a:pt x="547" y="136"/>
                    </a:lnTo>
                    <a:lnTo>
                      <a:pt x="591" y="112"/>
                    </a:lnTo>
                    <a:lnTo>
                      <a:pt x="637" y="90"/>
                    </a:lnTo>
                    <a:lnTo>
                      <a:pt x="685" y="70"/>
                    </a:lnTo>
                    <a:lnTo>
                      <a:pt x="732" y="53"/>
                    </a:lnTo>
                    <a:lnTo>
                      <a:pt x="781" y="39"/>
                    </a:lnTo>
                    <a:lnTo>
                      <a:pt x="831" y="25"/>
                    </a:lnTo>
                    <a:lnTo>
                      <a:pt x="882" y="15"/>
                    </a:lnTo>
                    <a:lnTo>
                      <a:pt x="933" y="8"/>
                    </a:lnTo>
                    <a:lnTo>
                      <a:pt x="984" y="3"/>
                    </a:lnTo>
                    <a:lnTo>
                      <a:pt x="1036" y="0"/>
                    </a:lnTo>
                    <a:lnTo>
                      <a:pt x="1087" y="0"/>
                    </a:lnTo>
                    <a:lnTo>
                      <a:pt x="1140" y="3"/>
                    </a:lnTo>
                    <a:lnTo>
                      <a:pt x="1193" y="8"/>
                    </a:lnTo>
                    <a:lnTo>
                      <a:pt x="1245" y="15"/>
                    </a:lnTo>
                    <a:lnTo>
                      <a:pt x="1298" y="27"/>
                    </a:lnTo>
                    <a:lnTo>
                      <a:pt x="1351" y="41"/>
                    </a:lnTo>
                    <a:lnTo>
                      <a:pt x="1351" y="41"/>
                    </a:lnTo>
                    <a:lnTo>
                      <a:pt x="1403" y="56"/>
                    </a:lnTo>
                    <a:lnTo>
                      <a:pt x="1454" y="75"/>
                    </a:lnTo>
                    <a:lnTo>
                      <a:pt x="1504" y="97"/>
                    </a:lnTo>
                    <a:lnTo>
                      <a:pt x="1551" y="119"/>
                    </a:lnTo>
                    <a:lnTo>
                      <a:pt x="1597" y="144"/>
                    </a:lnTo>
                    <a:lnTo>
                      <a:pt x="1641" y="173"/>
                    </a:lnTo>
                    <a:lnTo>
                      <a:pt x="1684" y="202"/>
                    </a:lnTo>
                    <a:lnTo>
                      <a:pt x="1724" y="234"/>
                    </a:lnTo>
                    <a:lnTo>
                      <a:pt x="1763" y="267"/>
                    </a:lnTo>
                    <a:lnTo>
                      <a:pt x="1801" y="302"/>
                    </a:lnTo>
                    <a:lnTo>
                      <a:pt x="1836" y="340"/>
                    </a:lnTo>
                    <a:lnTo>
                      <a:pt x="1870" y="377"/>
                    </a:lnTo>
                    <a:lnTo>
                      <a:pt x="1901" y="418"/>
                    </a:lnTo>
                    <a:lnTo>
                      <a:pt x="1932" y="459"/>
                    </a:lnTo>
                    <a:lnTo>
                      <a:pt x="1959" y="503"/>
                    </a:lnTo>
                    <a:lnTo>
                      <a:pt x="1984" y="547"/>
                    </a:lnTo>
                    <a:lnTo>
                      <a:pt x="2008" y="591"/>
                    </a:lnTo>
                    <a:lnTo>
                      <a:pt x="2030" y="637"/>
                    </a:lnTo>
                    <a:lnTo>
                      <a:pt x="2049" y="684"/>
                    </a:lnTo>
                    <a:lnTo>
                      <a:pt x="2066" y="734"/>
                    </a:lnTo>
                    <a:lnTo>
                      <a:pt x="2079" y="783"/>
                    </a:lnTo>
                    <a:lnTo>
                      <a:pt x="2093" y="832"/>
                    </a:lnTo>
                    <a:lnTo>
                      <a:pt x="2102" y="883"/>
                    </a:lnTo>
                    <a:lnTo>
                      <a:pt x="2110" y="934"/>
                    </a:lnTo>
                    <a:lnTo>
                      <a:pt x="2115" y="987"/>
                    </a:lnTo>
                    <a:lnTo>
                      <a:pt x="2117" y="1038"/>
                    </a:lnTo>
                    <a:lnTo>
                      <a:pt x="2117" y="1090"/>
                    </a:lnTo>
                    <a:lnTo>
                      <a:pt x="2113" y="1143"/>
                    </a:lnTo>
                    <a:lnTo>
                      <a:pt x="2108" y="1198"/>
                    </a:lnTo>
                    <a:lnTo>
                      <a:pt x="2100" y="1250"/>
                    </a:lnTo>
                    <a:lnTo>
                      <a:pt x="2090" y="1303"/>
                    </a:lnTo>
                    <a:lnTo>
                      <a:pt x="2076" y="1357"/>
                    </a:lnTo>
                    <a:lnTo>
                      <a:pt x="2076" y="1357"/>
                    </a:lnTo>
                    <a:close/>
                  </a:path>
                </a:pathLst>
              </a:custGeom>
              <a:noFill/>
              <a:ln w="38160">
                <a:solidFill>
                  <a:srgbClr val="b3cce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Freeform 49"/>
              <p:cNvSpPr/>
              <p:nvPr/>
            </p:nvSpPr>
            <p:spPr>
              <a:xfrm>
                <a:off x="1368000" y="482400"/>
                <a:ext cx="606240" cy="494280"/>
              </a:xfrm>
              <a:custGeom>
                <a:avLst/>
                <a:gdLst/>
                <a:ahLst/>
                <a:rect l="l" t="t" r="r" b="b"/>
                <a:pathLst>
                  <a:path w="1609" h="1326">
                    <a:moveTo>
                      <a:pt x="0" y="1326"/>
                    </a:moveTo>
                    <a:lnTo>
                      <a:pt x="0" y="1326"/>
                    </a:lnTo>
                    <a:lnTo>
                      <a:pt x="26" y="1243"/>
                    </a:lnTo>
                    <a:lnTo>
                      <a:pt x="53" y="1162"/>
                    </a:lnTo>
                    <a:lnTo>
                      <a:pt x="83" y="1082"/>
                    </a:lnTo>
                    <a:lnTo>
                      <a:pt x="116" y="1005"/>
                    </a:lnTo>
                    <a:lnTo>
                      <a:pt x="151" y="931"/>
                    </a:lnTo>
                    <a:lnTo>
                      <a:pt x="189" y="858"/>
                    </a:lnTo>
                    <a:lnTo>
                      <a:pt x="228" y="786"/>
                    </a:lnTo>
                    <a:lnTo>
                      <a:pt x="269" y="718"/>
                    </a:lnTo>
                    <a:lnTo>
                      <a:pt x="311" y="654"/>
                    </a:lnTo>
                    <a:lnTo>
                      <a:pt x="357" y="591"/>
                    </a:lnTo>
                    <a:lnTo>
                      <a:pt x="403" y="531"/>
                    </a:lnTo>
                    <a:lnTo>
                      <a:pt x="452" y="474"/>
                    </a:lnTo>
                    <a:lnTo>
                      <a:pt x="501" y="419"/>
                    </a:lnTo>
                    <a:lnTo>
                      <a:pt x="552" y="367"/>
                    </a:lnTo>
                    <a:lnTo>
                      <a:pt x="605" y="319"/>
                    </a:lnTo>
                    <a:lnTo>
                      <a:pt x="658" y="273"/>
                    </a:lnTo>
                    <a:lnTo>
                      <a:pt x="714" y="231"/>
                    </a:lnTo>
                    <a:lnTo>
                      <a:pt x="768" y="192"/>
                    </a:lnTo>
                    <a:lnTo>
                      <a:pt x="826" y="156"/>
                    </a:lnTo>
                    <a:lnTo>
                      <a:pt x="884" y="124"/>
                    </a:lnTo>
                    <a:lnTo>
                      <a:pt x="941" y="97"/>
                    </a:lnTo>
                    <a:lnTo>
                      <a:pt x="1001" y="71"/>
                    </a:lnTo>
                    <a:lnTo>
                      <a:pt x="1060" y="49"/>
                    </a:lnTo>
                    <a:lnTo>
                      <a:pt x="1120" y="32"/>
                    </a:lnTo>
                    <a:lnTo>
                      <a:pt x="1181" y="17"/>
                    </a:lnTo>
                    <a:lnTo>
                      <a:pt x="1242" y="8"/>
                    </a:lnTo>
                    <a:lnTo>
                      <a:pt x="1303" y="1"/>
                    </a:lnTo>
                    <a:lnTo>
                      <a:pt x="1334" y="0"/>
                    </a:lnTo>
                    <a:lnTo>
                      <a:pt x="1364" y="0"/>
                    </a:lnTo>
                    <a:lnTo>
                      <a:pt x="1395" y="0"/>
                    </a:lnTo>
                    <a:lnTo>
                      <a:pt x="1425" y="1"/>
                    </a:lnTo>
                    <a:lnTo>
                      <a:pt x="1456" y="5"/>
                    </a:lnTo>
                    <a:lnTo>
                      <a:pt x="1487" y="8"/>
                    </a:lnTo>
                    <a:lnTo>
                      <a:pt x="1517" y="13"/>
                    </a:lnTo>
                    <a:lnTo>
                      <a:pt x="1548" y="18"/>
                    </a:lnTo>
                    <a:lnTo>
                      <a:pt x="1578" y="25"/>
                    </a:lnTo>
                    <a:lnTo>
                      <a:pt x="1609" y="34"/>
                    </a:lnTo>
                  </a:path>
                </a:pathLst>
              </a:custGeom>
              <a:noFill/>
              <a:ln w="38160">
                <a:solidFill>
                  <a:srgbClr val="b3cce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Freeform 50"/>
              <p:cNvSpPr/>
              <p:nvPr/>
            </p:nvSpPr>
            <p:spPr>
              <a:xfrm>
                <a:off x="1676160" y="407520"/>
                <a:ext cx="309240" cy="719280"/>
              </a:xfrm>
              <a:custGeom>
                <a:avLst/>
                <a:gdLst/>
                <a:ahLst/>
                <a:rect l="l" t="t" r="r" b="b"/>
                <a:pathLst>
                  <a:path w="817" h="1928">
                    <a:moveTo>
                      <a:pt x="730" y="1928"/>
                    </a:moveTo>
                    <a:lnTo>
                      <a:pt x="730" y="1928"/>
                    </a:lnTo>
                    <a:lnTo>
                      <a:pt x="752" y="1845"/>
                    </a:lnTo>
                    <a:lnTo>
                      <a:pt x="771" y="1762"/>
                    </a:lnTo>
                    <a:lnTo>
                      <a:pt x="786" y="1680"/>
                    </a:lnTo>
                    <a:lnTo>
                      <a:pt x="800" y="1599"/>
                    </a:lnTo>
                    <a:lnTo>
                      <a:pt x="808" y="1517"/>
                    </a:lnTo>
                    <a:lnTo>
                      <a:pt x="813" y="1436"/>
                    </a:lnTo>
                    <a:lnTo>
                      <a:pt x="817" y="1358"/>
                    </a:lnTo>
                    <a:lnTo>
                      <a:pt x="815" y="1278"/>
                    </a:lnTo>
                    <a:lnTo>
                      <a:pt x="812" y="1201"/>
                    </a:lnTo>
                    <a:lnTo>
                      <a:pt x="805" y="1125"/>
                    </a:lnTo>
                    <a:lnTo>
                      <a:pt x="796" y="1050"/>
                    </a:lnTo>
                    <a:lnTo>
                      <a:pt x="783" y="977"/>
                    </a:lnTo>
                    <a:lnTo>
                      <a:pt x="768" y="906"/>
                    </a:lnTo>
                    <a:lnTo>
                      <a:pt x="751" y="836"/>
                    </a:lnTo>
                    <a:lnTo>
                      <a:pt x="729" y="767"/>
                    </a:lnTo>
                    <a:lnTo>
                      <a:pt x="706" y="702"/>
                    </a:lnTo>
                    <a:lnTo>
                      <a:pt x="679" y="637"/>
                    </a:lnTo>
                    <a:lnTo>
                      <a:pt x="650" y="575"/>
                    </a:lnTo>
                    <a:lnTo>
                      <a:pt x="620" y="515"/>
                    </a:lnTo>
                    <a:lnTo>
                      <a:pt x="586" y="457"/>
                    </a:lnTo>
                    <a:lnTo>
                      <a:pt x="548" y="403"/>
                    </a:lnTo>
                    <a:lnTo>
                      <a:pt x="511" y="352"/>
                    </a:lnTo>
                    <a:lnTo>
                      <a:pt x="469" y="301"/>
                    </a:lnTo>
                    <a:lnTo>
                      <a:pt x="426" y="255"/>
                    </a:lnTo>
                    <a:lnTo>
                      <a:pt x="380" y="211"/>
                    </a:lnTo>
                    <a:lnTo>
                      <a:pt x="333" y="172"/>
                    </a:lnTo>
                    <a:lnTo>
                      <a:pt x="282" y="135"/>
                    </a:lnTo>
                    <a:lnTo>
                      <a:pt x="229" y="101"/>
                    </a:lnTo>
                    <a:lnTo>
                      <a:pt x="175" y="70"/>
                    </a:lnTo>
                    <a:lnTo>
                      <a:pt x="147" y="56"/>
                    </a:lnTo>
                    <a:lnTo>
                      <a:pt x="119" y="43"/>
                    </a:lnTo>
                    <a:lnTo>
                      <a:pt x="90" y="31"/>
                    </a:lnTo>
                    <a:lnTo>
                      <a:pt x="61" y="19"/>
                    </a:lnTo>
                    <a:lnTo>
                      <a:pt x="30" y="9"/>
                    </a:lnTo>
                    <a:lnTo>
                      <a:pt x="0" y="0"/>
                    </a:lnTo>
                  </a:path>
                </a:pathLst>
              </a:custGeom>
              <a:noFill/>
              <a:ln w="38160">
                <a:solidFill>
                  <a:srgbClr val="b3cce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73"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74" name="PlaceHolder 2"/>
          <p:cNvSpPr>
            <a:spLocks noGrp="1"/>
          </p:cNvSpPr>
          <p:nvPr>
            <p:ph type="body"/>
          </p:nvPr>
        </p:nvSpPr>
        <p:spPr>
          <a:xfrm>
            <a:off x="2160720" y="1483920"/>
            <a:ext cx="6588000" cy="4940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1" name="Group 2"/>
          <p:cNvGrpSpPr/>
          <p:nvPr/>
        </p:nvGrpSpPr>
        <p:grpSpPr>
          <a:xfrm>
            <a:off x="0" y="0"/>
            <a:ext cx="9144000" cy="6858000"/>
            <a:chOff x="0" y="0"/>
            <a:chExt cx="9144000" cy="6858000"/>
          </a:xfrm>
        </p:grpSpPr>
        <p:sp>
          <p:nvSpPr>
            <p:cNvPr id="21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14" name="Group 5"/>
            <p:cNvGrpSpPr/>
            <p:nvPr/>
          </p:nvGrpSpPr>
          <p:grpSpPr>
            <a:xfrm>
              <a:off x="0" y="1066680"/>
              <a:ext cx="2867040" cy="3157560"/>
              <a:chOff x="0" y="1066680"/>
              <a:chExt cx="2867040" cy="3157560"/>
            </a:xfrm>
          </p:grpSpPr>
          <p:sp>
            <p:nvSpPr>
              <p:cNvPr id="21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225" name="Group 21"/>
          <p:cNvGrpSpPr/>
          <p:nvPr/>
        </p:nvGrpSpPr>
        <p:grpSpPr>
          <a:xfrm>
            <a:off x="6539040" y="4025880"/>
            <a:ext cx="2432880" cy="2426760"/>
            <a:chOff x="6539040" y="4025880"/>
            <a:chExt cx="2432880" cy="2426760"/>
          </a:xfrm>
        </p:grpSpPr>
        <p:sp>
          <p:nvSpPr>
            <p:cNvPr id="226" name="Freeform 22"/>
            <p:cNvSpPr/>
            <p:nvPr/>
          </p:nvSpPr>
          <p:spPr>
            <a:xfrm>
              <a:off x="7409160" y="4027680"/>
              <a:ext cx="1191240" cy="691560"/>
            </a:xfrm>
            <a:custGeom>
              <a:avLst/>
              <a:gdLst/>
              <a:ahLst/>
              <a:rect l="l" t="t" r="r" b="b"/>
              <a:pathLst>
                <a:path w="1039" h="606">
                  <a:moveTo>
                    <a:pt x="1034" y="450"/>
                  </a:moveTo>
                  <a:lnTo>
                    <a:pt x="1034" y="450"/>
                  </a:lnTo>
                  <a:lnTo>
                    <a:pt x="1029" y="464"/>
                  </a:lnTo>
                  <a:lnTo>
                    <a:pt x="1024" y="476"/>
                  </a:lnTo>
                  <a:lnTo>
                    <a:pt x="1016" y="489"/>
                  </a:lnTo>
                  <a:lnTo>
                    <a:pt x="1009" y="501"/>
                  </a:lnTo>
                  <a:lnTo>
                    <a:pt x="999" y="511"/>
                  </a:lnTo>
                  <a:lnTo>
                    <a:pt x="988" y="523"/>
                  </a:lnTo>
                  <a:lnTo>
                    <a:pt x="976" y="532"/>
                  </a:lnTo>
                  <a:lnTo>
                    <a:pt x="965" y="542"/>
                  </a:lnTo>
                  <a:lnTo>
                    <a:pt x="951" y="550"/>
                  </a:lnTo>
                  <a:lnTo>
                    <a:pt x="936" y="559"/>
                  </a:lnTo>
                  <a:lnTo>
                    <a:pt x="903" y="574"/>
                  </a:lnTo>
                  <a:lnTo>
                    <a:pt x="868" y="586"/>
                  </a:lnTo>
                  <a:lnTo>
                    <a:pt x="830" y="594"/>
                  </a:lnTo>
                  <a:lnTo>
                    <a:pt x="788" y="601"/>
                  </a:lnTo>
                  <a:lnTo>
                    <a:pt x="744" y="606"/>
                  </a:lnTo>
                  <a:lnTo>
                    <a:pt x="698" y="606"/>
                  </a:lnTo>
                  <a:lnTo>
                    <a:pt x="650" y="605"/>
                  </a:lnTo>
                  <a:lnTo>
                    <a:pt x="599" y="601"/>
                  </a:lnTo>
                  <a:lnTo>
                    <a:pt x="548" y="593"/>
                  </a:lnTo>
                  <a:lnTo>
                    <a:pt x="497" y="583"/>
                  </a:lnTo>
                  <a:lnTo>
                    <a:pt x="445" y="569"/>
                  </a:lnTo>
                  <a:lnTo>
                    <a:pt x="445" y="569"/>
                  </a:lnTo>
                  <a:lnTo>
                    <a:pt x="392" y="552"/>
                  </a:lnTo>
                  <a:lnTo>
                    <a:pt x="341" y="533"/>
                  </a:lnTo>
                  <a:lnTo>
                    <a:pt x="295" y="513"/>
                  </a:lnTo>
                  <a:lnTo>
                    <a:pt x="249" y="491"/>
                  </a:lnTo>
                  <a:lnTo>
                    <a:pt x="209" y="467"/>
                  </a:lnTo>
                  <a:lnTo>
                    <a:pt x="169" y="442"/>
                  </a:lnTo>
                  <a:lnTo>
                    <a:pt x="134" y="414"/>
                  </a:lnTo>
                  <a:lnTo>
                    <a:pt x="103" y="387"/>
                  </a:lnTo>
                  <a:lnTo>
                    <a:pt x="74" y="358"/>
                  </a:lnTo>
                  <a:lnTo>
                    <a:pt x="51" y="329"/>
                  </a:lnTo>
                  <a:lnTo>
                    <a:pt x="32" y="301"/>
                  </a:lnTo>
                  <a:lnTo>
                    <a:pt x="23" y="285"/>
                  </a:lnTo>
                  <a:lnTo>
                    <a:pt x="17" y="272"/>
                  </a:lnTo>
                  <a:lnTo>
                    <a:pt x="11" y="256"/>
                  </a:lnTo>
                  <a:lnTo>
                    <a:pt x="6" y="243"/>
                  </a:lnTo>
                  <a:lnTo>
                    <a:pt x="3" y="228"/>
                  </a:lnTo>
                  <a:lnTo>
                    <a:pt x="1" y="212"/>
                  </a:lnTo>
                  <a:lnTo>
                    <a:pt x="0" y="199"/>
                  </a:lnTo>
                  <a:lnTo>
                    <a:pt x="1" y="185"/>
                  </a:lnTo>
                  <a:lnTo>
                    <a:pt x="3" y="170"/>
                  </a:lnTo>
                  <a:lnTo>
                    <a:pt x="6" y="156"/>
                  </a:lnTo>
                  <a:lnTo>
                    <a:pt x="6" y="156"/>
                  </a:lnTo>
                  <a:lnTo>
                    <a:pt x="10" y="143"/>
                  </a:lnTo>
                  <a:lnTo>
                    <a:pt x="17" y="131"/>
                  </a:lnTo>
                  <a:lnTo>
                    <a:pt x="23" y="117"/>
                  </a:lnTo>
                  <a:lnTo>
                    <a:pt x="32" y="105"/>
                  </a:lnTo>
                  <a:lnTo>
                    <a:pt x="40" y="95"/>
                  </a:lnTo>
                  <a:lnTo>
                    <a:pt x="51" y="85"/>
                  </a:lnTo>
                  <a:lnTo>
                    <a:pt x="62" y="75"/>
                  </a:lnTo>
                  <a:lnTo>
                    <a:pt x="76" y="64"/>
                  </a:lnTo>
                  <a:lnTo>
                    <a:pt x="90" y="56"/>
                  </a:lnTo>
                  <a:lnTo>
                    <a:pt x="103" y="47"/>
                  </a:lnTo>
                  <a:lnTo>
                    <a:pt x="136" y="32"/>
                  </a:lnTo>
                  <a:lnTo>
                    <a:pt x="171" y="20"/>
                  </a:lnTo>
                  <a:lnTo>
                    <a:pt x="210" y="12"/>
                  </a:lnTo>
                  <a:lnTo>
                    <a:pt x="251" y="5"/>
                  </a:lnTo>
                  <a:lnTo>
                    <a:pt x="295" y="2"/>
                  </a:lnTo>
                  <a:lnTo>
                    <a:pt x="341" y="0"/>
                  </a:lnTo>
                  <a:lnTo>
                    <a:pt x="390" y="2"/>
                  </a:lnTo>
                  <a:lnTo>
                    <a:pt x="440" y="5"/>
                  </a:lnTo>
                  <a:lnTo>
                    <a:pt x="491" y="13"/>
                  </a:lnTo>
                  <a:lnTo>
                    <a:pt x="543" y="24"/>
                  </a:lnTo>
                  <a:lnTo>
                    <a:pt x="596" y="37"/>
                  </a:lnTo>
                  <a:lnTo>
                    <a:pt x="596" y="37"/>
                  </a:lnTo>
                  <a:lnTo>
                    <a:pt x="649" y="54"/>
                  </a:lnTo>
                  <a:lnTo>
                    <a:pt x="698" y="73"/>
                  </a:lnTo>
                  <a:lnTo>
                    <a:pt x="745" y="93"/>
                  </a:lnTo>
                  <a:lnTo>
                    <a:pt x="790" y="115"/>
                  </a:lnTo>
                  <a:lnTo>
                    <a:pt x="832" y="139"/>
                  </a:lnTo>
                  <a:lnTo>
                    <a:pt x="869" y="165"/>
                  </a:lnTo>
                  <a:lnTo>
                    <a:pt x="905" y="192"/>
                  </a:lnTo>
                  <a:lnTo>
                    <a:pt x="937" y="219"/>
                  </a:lnTo>
                  <a:lnTo>
                    <a:pt x="965" y="248"/>
                  </a:lnTo>
                  <a:lnTo>
                    <a:pt x="988" y="277"/>
                  </a:lnTo>
                  <a:lnTo>
                    <a:pt x="1009" y="306"/>
                  </a:lnTo>
                  <a:lnTo>
                    <a:pt x="1016" y="321"/>
                  </a:lnTo>
                  <a:lnTo>
                    <a:pt x="1022" y="335"/>
                  </a:lnTo>
                  <a:lnTo>
                    <a:pt x="1029" y="350"/>
                  </a:lnTo>
                  <a:lnTo>
                    <a:pt x="1033" y="365"/>
                  </a:lnTo>
                  <a:lnTo>
                    <a:pt x="1036" y="379"/>
                  </a:lnTo>
                  <a:lnTo>
                    <a:pt x="1039" y="394"/>
                  </a:lnTo>
                  <a:lnTo>
                    <a:pt x="1039" y="408"/>
                  </a:lnTo>
                  <a:lnTo>
                    <a:pt x="1039" y="423"/>
                  </a:lnTo>
                  <a:lnTo>
                    <a:pt x="1038" y="436"/>
                  </a:lnTo>
                  <a:lnTo>
                    <a:pt x="1034" y="450"/>
                  </a:lnTo>
                  <a:lnTo>
                    <a:pt x="1034" y="450"/>
                  </a:lnTo>
                  <a:close/>
                </a:path>
              </a:pathLst>
            </a:custGeom>
            <a:noFill/>
            <a:ln w="76320">
              <a:solidFill>
                <a:srgbClr val="9999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Freeform 23"/>
            <p:cNvSpPr/>
            <p:nvPr/>
          </p:nvSpPr>
          <p:spPr>
            <a:xfrm>
              <a:off x="6875640" y="4389840"/>
              <a:ext cx="858600" cy="850680"/>
            </a:xfrm>
            <a:custGeom>
              <a:avLst/>
              <a:gdLst/>
              <a:ahLst/>
              <a:rect l="l" t="t" r="r" b="b"/>
              <a:pathLst>
                <a:path w="749" h="747">
                  <a:moveTo>
                    <a:pt x="12" y="0"/>
                  </a:moveTo>
                  <a:lnTo>
                    <a:pt x="12" y="0"/>
                  </a:lnTo>
                  <a:lnTo>
                    <a:pt x="5" y="25"/>
                  </a:lnTo>
                  <a:lnTo>
                    <a:pt x="2" y="51"/>
                  </a:lnTo>
                  <a:lnTo>
                    <a:pt x="0" y="78"/>
                  </a:lnTo>
                  <a:lnTo>
                    <a:pt x="0" y="105"/>
                  </a:lnTo>
                  <a:lnTo>
                    <a:pt x="3" y="130"/>
                  </a:lnTo>
                  <a:lnTo>
                    <a:pt x="9" y="158"/>
                  </a:lnTo>
                  <a:lnTo>
                    <a:pt x="15" y="185"/>
                  </a:lnTo>
                  <a:lnTo>
                    <a:pt x="26" y="212"/>
                  </a:lnTo>
                  <a:lnTo>
                    <a:pt x="36" y="239"/>
                  </a:lnTo>
                  <a:lnTo>
                    <a:pt x="49" y="266"/>
                  </a:lnTo>
                  <a:lnTo>
                    <a:pt x="65" y="293"/>
                  </a:lnTo>
                  <a:lnTo>
                    <a:pt x="82" y="319"/>
                  </a:lnTo>
                  <a:lnTo>
                    <a:pt x="100" y="346"/>
                  </a:lnTo>
                  <a:lnTo>
                    <a:pt x="122" y="372"/>
                  </a:lnTo>
                  <a:lnTo>
                    <a:pt x="145" y="399"/>
                  </a:lnTo>
                  <a:lnTo>
                    <a:pt x="168" y="424"/>
                  </a:lnTo>
                  <a:lnTo>
                    <a:pt x="194" y="450"/>
                  </a:lnTo>
                  <a:lnTo>
                    <a:pt x="223" y="474"/>
                  </a:lnTo>
                  <a:lnTo>
                    <a:pt x="252" y="497"/>
                  </a:lnTo>
                  <a:lnTo>
                    <a:pt x="282" y="521"/>
                  </a:lnTo>
                  <a:lnTo>
                    <a:pt x="313" y="545"/>
                  </a:lnTo>
                  <a:lnTo>
                    <a:pt x="347" y="567"/>
                  </a:lnTo>
                  <a:lnTo>
                    <a:pt x="382" y="589"/>
                  </a:lnTo>
                  <a:lnTo>
                    <a:pt x="418" y="609"/>
                  </a:lnTo>
                  <a:lnTo>
                    <a:pt x="455" y="630"/>
                  </a:lnTo>
                  <a:lnTo>
                    <a:pt x="494" y="650"/>
                  </a:lnTo>
                  <a:lnTo>
                    <a:pt x="534" y="669"/>
                  </a:lnTo>
                  <a:lnTo>
                    <a:pt x="574" y="686"/>
                  </a:lnTo>
                  <a:lnTo>
                    <a:pt x="617" y="703"/>
                  </a:lnTo>
                  <a:lnTo>
                    <a:pt x="659" y="718"/>
                  </a:lnTo>
                  <a:lnTo>
                    <a:pt x="703" y="733"/>
                  </a:lnTo>
                  <a:lnTo>
                    <a:pt x="749" y="747"/>
                  </a:lnTo>
                </a:path>
              </a:pathLst>
            </a:custGeom>
            <a:noFill/>
            <a:ln w="76320">
              <a:solidFill>
                <a:srgbClr val="9999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Freeform 24"/>
            <p:cNvSpPr/>
            <p:nvPr/>
          </p:nvSpPr>
          <p:spPr>
            <a:xfrm>
              <a:off x="7734600" y="4922280"/>
              <a:ext cx="1184760" cy="379440"/>
            </a:xfrm>
            <a:custGeom>
              <a:avLst/>
              <a:gdLst/>
              <a:ahLst/>
              <a:rect l="l" t="t" r="r" b="b"/>
              <a:pathLst>
                <a:path w="1037" h="337">
                  <a:moveTo>
                    <a:pt x="1037" y="0"/>
                  </a:moveTo>
                  <a:lnTo>
                    <a:pt x="1037" y="0"/>
                  </a:lnTo>
                  <a:lnTo>
                    <a:pt x="1028" y="28"/>
                  </a:lnTo>
                  <a:lnTo>
                    <a:pt x="1016" y="53"/>
                  </a:lnTo>
                  <a:lnTo>
                    <a:pt x="1003" y="79"/>
                  </a:lnTo>
                  <a:lnTo>
                    <a:pt x="987" y="102"/>
                  </a:lnTo>
                  <a:lnTo>
                    <a:pt x="970" y="124"/>
                  </a:lnTo>
                  <a:lnTo>
                    <a:pt x="952" y="146"/>
                  </a:lnTo>
                  <a:lnTo>
                    <a:pt x="931" y="167"/>
                  </a:lnTo>
                  <a:lnTo>
                    <a:pt x="908" y="187"/>
                  </a:lnTo>
                  <a:lnTo>
                    <a:pt x="884" y="206"/>
                  </a:lnTo>
                  <a:lnTo>
                    <a:pt x="858" y="223"/>
                  </a:lnTo>
                  <a:lnTo>
                    <a:pt x="829" y="238"/>
                  </a:lnTo>
                  <a:lnTo>
                    <a:pt x="800" y="254"/>
                  </a:lnTo>
                  <a:lnTo>
                    <a:pt x="770" y="267"/>
                  </a:lnTo>
                  <a:lnTo>
                    <a:pt x="738" y="281"/>
                  </a:lnTo>
                  <a:lnTo>
                    <a:pt x="705" y="293"/>
                  </a:lnTo>
                  <a:lnTo>
                    <a:pt x="670" y="301"/>
                  </a:lnTo>
                  <a:lnTo>
                    <a:pt x="634" y="311"/>
                  </a:lnTo>
                  <a:lnTo>
                    <a:pt x="598" y="318"/>
                  </a:lnTo>
                  <a:lnTo>
                    <a:pt x="559" y="325"/>
                  </a:lnTo>
                  <a:lnTo>
                    <a:pt x="520" y="330"/>
                  </a:lnTo>
                  <a:lnTo>
                    <a:pt x="481" y="333"/>
                  </a:lnTo>
                  <a:lnTo>
                    <a:pt x="440" y="335"/>
                  </a:lnTo>
                  <a:lnTo>
                    <a:pt x="400" y="337"/>
                  </a:lnTo>
                  <a:lnTo>
                    <a:pt x="357" y="335"/>
                  </a:lnTo>
                  <a:lnTo>
                    <a:pt x="315" y="333"/>
                  </a:lnTo>
                  <a:lnTo>
                    <a:pt x="270" y="330"/>
                  </a:lnTo>
                  <a:lnTo>
                    <a:pt x="226" y="325"/>
                  </a:lnTo>
                  <a:lnTo>
                    <a:pt x="182" y="320"/>
                  </a:lnTo>
                  <a:lnTo>
                    <a:pt x="136" y="311"/>
                  </a:lnTo>
                  <a:lnTo>
                    <a:pt x="92" y="303"/>
                  </a:lnTo>
                  <a:lnTo>
                    <a:pt x="46" y="291"/>
                  </a:lnTo>
                  <a:lnTo>
                    <a:pt x="0" y="279"/>
                  </a:lnTo>
                </a:path>
              </a:pathLst>
            </a:custGeom>
            <a:noFill/>
            <a:ln w="76320">
              <a:solidFill>
                <a:srgbClr val="9999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Freeform 25"/>
            <p:cNvSpPr/>
            <p:nvPr/>
          </p:nvSpPr>
          <p:spPr>
            <a:xfrm>
              <a:off x="6554520" y="5017680"/>
              <a:ext cx="1026720" cy="807120"/>
            </a:xfrm>
            <a:custGeom>
              <a:avLst/>
              <a:gdLst/>
              <a:ahLst/>
              <a:rect l="l" t="t" r="r" b="b"/>
              <a:pathLst>
                <a:path w="897" h="710">
                  <a:moveTo>
                    <a:pt x="7" y="0"/>
                  </a:moveTo>
                  <a:lnTo>
                    <a:pt x="7" y="0"/>
                  </a:lnTo>
                  <a:lnTo>
                    <a:pt x="1" y="22"/>
                  </a:lnTo>
                  <a:lnTo>
                    <a:pt x="0" y="44"/>
                  </a:lnTo>
                  <a:lnTo>
                    <a:pt x="0" y="68"/>
                  </a:lnTo>
                  <a:lnTo>
                    <a:pt x="3" y="90"/>
                  </a:lnTo>
                  <a:lnTo>
                    <a:pt x="8" y="113"/>
                  </a:lnTo>
                  <a:lnTo>
                    <a:pt x="15" y="137"/>
                  </a:lnTo>
                  <a:lnTo>
                    <a:pt x="25" y="163"/>
                  </a:lnTo>
                  <a:lnTo>
                    <a:pt x="39" y="187"/>
                  </a:lnTo>
                  <a:lnTo>
                    <a:pt x="54" y="210"/>
                  </a:lnTo>
                  <a:lnTo>
                    <a:pt x="71" y="236"/>
                  </a:lnTo>
                  <a:lnTo>
                    <a:pt x="90" y="260"/>
                  </a:lnTo>
                  <a:lnTo>
                    <a:pt x="112" y="285"/>
                  </a:lnTo>
                  <a:lnTo>
                    <a:pt x="134" y="309"/>
                  </a:lnTo>
                  <a:lnTo>
                    <a:pt x="159" y="334"/>
                  </a:lnTo>
                  <a:lnTo>
                    <a:pt x="188" y="358"/>
                  </a:lnTo>
                  <a:lnTo>
                    <a:pt x="217" y="382"/>
                  </a:lnTo>
                  <a:lnTo>
                    <a:pt x="248" y="407"/>
                  </a:lnTo>
                  <a:lnTo>
                    <a:pt x="280" y="431"/>
                  </a:lnTo>
                  <a:lnTo>
                    <a:pt x="316" y="453"/>
                  </a:lnTo>
                  <a:lnTo>
                    <a:pt x="351" y="477"/>
                  </a:lnTo>
                  <a:lnTo>
                    <a:pt x="389" y="499"/>
                  </a:lnTo>
                  <a:lnTo>
                    <a:pt x="430" y="521"/>
                  </a:lnTo>
                  <a:lnTo>
                    <a:pt x="470" y="543"/>
                  </a:lnTo>
                  <a:lnTo>
                    <a:pt x="513" y="565"/>
                  </a:lnTo>
                  <a:lnTo>
                    <a:pt x="555" y="586"/>
                  </a:lnTo>
                  <a:lnTo>
                    <a:pt x="601" y="606"/>
                  </a:lnTo>
                  <a:lnTo>
                    <a:pt x="647" y="625"/>
                  </a:lnTo>
                  <a:lnTo>
                    <a:pt x="695" y="643"/>
                  </a:lnTo>
                  <a:lnTo>
                    <a:pt x="744" y="662"/>
                  </a:lnTo>
                  <a:lnTo>
                    <a:pt x="793" y="679"/>
                  </a:lnTo>
                  <a:lnTo>
                    <a:pt x="844" y="694"/>
                  </a:lnTo>
                  <a:lnTo>
                    <a:pt x="897" y="710"/>
                  </a:lnTo>
                </a:path>
              </a:pathLst>
            </a:custGeom>
            <a:noFill/>
            <a:ln w="76320">
              <a:solidFill>
                <a:srgbClr val="9999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Freeform 26"/>
            <p:cNvSpPr/>
            <p:nvPr/>
          </p:nvSpPr>
          <p:spPr>
            <a:xfrm>
              <a:off x="7585920" y="5675040"/>
              <a:ext cx="1296720" cy="254520"/>
            </a:xfrm>
            <a:custGeom>
              <a:avLst/>
              <a:gdLst/>
              <a:ahLst/>
              <a:rect l="l" t="t" r="r" b="b"/>
              <a:pathLst>
                <a:path w="1132" h="224">
                  <a:moveTo>
                    <a:pt x="1132" y="0"/>
                  </a:moveTo>
                  <a:lnTo>
                    <a:pt x="1132" y="0"/>
                  </a:lnTo>
                  <a:lnTo>
                    <a:pt x="1125" y="22"/>
                  </a:lnTo>
                  <a:lnTo>
                    <a:pt x="1115" y="43"/>
                  </a:lnTo>
                  <a:lnTo>
                    <a:pt x="1103" y="61"/>
                  </a:lnTo>
                  <a:lnTo>
                    <a:pt x="1087" y="80"/>
                  </a:lnTo>
                  <a:lnTo>
                    <a:pt x="1070" y="97"/>
                  </a:lnTo>
                  <a:lnTo>
                    <a:pt x="1050" y="114"/>
                  </a:lnTo>
                  <a:lnTo>
                    <a:pt x="1030" y="129"/>
                  </a:lnTo>
                  <a:lnTo>
                    <a:pt x="1006" y="143"/>
                  </a:lnTo>
                  <a:lnTo>
                    <a:pt x="980" y="155"/>
                  </a:lnTo>
                  <a:lnTo>
                    <a:pt x="953" y="167"/>
                  </a:lnTo>
                  <a:lnTo>
                    <a:pt x="923" y="179"/>
                  </a:lnTo>
                  <a:lnTo>
                    <a:pt x="892" y="187"/>
                  </a:lnTo>
                  <a:lnTo>
                    <a:pt x="860" y="196"/>
                  </a:lnTo>
                  <a:lnTo>
                    <a:pt x="824" y="204"/>
                  </a:lnTo>
                  <a:lnTo>
                    <a:pt x="788" y="209"/>
                  </a:lnTo>
                  <a:lnTo>
                    <a:pt x="751" y="214"/>
                  </a:lnTo>
                  <a:lnTo>
                    <a:pt x="712" y="219"/>
                  </a:lnTo>
                  <a:lnTo>
                    <a:pt x="671" y="221"/>
                  </a:lnTo>
                  <a:lnTo>
                    <a:pt x="629" y="223"/>
                  </a:lnTo>
                  <a:lnTo>
                    <a:pt x="586" y="224"/>
                  </a:lnTo>
                  <a:lnTo>
                    <a:pt x="542" y="223"/>
                  </a:lnTo>
                  <a:lnTo>
                    <a:pt x="498" y="221"/>
                  </a:lnTo>
                  <a:lnTo>
                    <a:pt x="450" y="218"/>
                  </a:lnTo>
                  <a:lnTo>
                    <a:pt x="405" y="214"/>
                  </a:lnTo>
                  <a:lnTo>
                    <a:pt x="355" y="207"/>
                  </a:lnTo>
                  <a:lnTo>
                    <a:pt x="306" y="202"/>
                  </a:lnTo>
                  <a:lnTo>
                    <a:pt x="257" y="194"/>
                  </a:lnTo>
                  <a:lnTo>
                    <a:pt x="207" y="184"/>
                  </a:lnTo>
                  <a:lnTo>
                    <a:pt x="156" y="173"/>
                  </a:lnTo>
                  <a:lnTo>
                    <a:pt x="106" y="162"/>
                  </a:lnTo>
                  <a:lnTo>
                    <a:pt x="53" y="150"/>
                  </a:lnTo>
                  <a:lnTo>
                    <a:pt x="0" y="134"/>
                  </a:lnTo>
                </a:path>
              </a:pathLst>
            </a:custGeom>
            <a:noFill/>
            <a:ln w="76320">
              <a:solidFill>
                <a:srgbClr val="9999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Freeform 27"/>
            <p:cNvSpPr/>
            <p:nvPr/>
          </p:nvSpPr>
          <p:spPr>
            <a:xfrm>
              <a:off x="6676200" y="5736600"/>
              <a:ext cx="788040" cy="511560"/>
            </a:xfrm>
            <a:custGeom>
              <a:avLst/>
              <a:gdLst/>
              <a:ahLst/>
              <a:rect l="l" t="t" r="r" b="b"/>
              <a:pathLst>
                <a:path w="688" h="450">
                  <a:moveTo>
                    <a:pt x="4" y="0"/>
                  </a:moveTo>
                  <a:lnTo>
                    <a:pt x="4" y="0"/>
                  </a:lnTo>
                  <a:lnTo>
                    <a:pt x="2" y="11"/>
                  </a:lnTo>
                  <a:lnTo>
                    <a:pt x="0" y="25"/>
                  </a:lnTo>
                  <a:lnTo>
                    <a:pt x="2" y="39"/>
                  </a:lnTo>
                  <a:lnTo>
                    <a:pt x="5" y="51"/>
                  </a:lnTo>
                  <a:lnTo>
                    <a:pt x="10" y="66"/>
                  </a:lnTo>
                  <a:lnTo>
                    <a:pt x="17" y="79"/>
                  </a:lnTo>
                  <a:lnTo>
                    <a:pt x="26" y="93"/>
                  </a:lnTo>
                  <a:lnTo>
                    <a:pt x="36" y="108"/>
                  </a:lnTo>
                  <a:lnTo>
                    <a:pt x="48" y="122"/>
                  </a:lnTo>
                  <a:lnTo>
                    <a:pt x="61" y="137"/>
                  </a:lnTo>
                  <a:lnTo>
                    <a:pt x="94" y="168"/>
                  </a:lnTo>
                  <a:lnTo>
                    <a:pt x="133" y="198"/>
                  </a:lnTo>
                  <a:lnTo>
                    <a:pt x="175" y="229"/>
                  </a:lnTo>
                  <a:lnTo>
                    <a:pt x="224" y="259"/>
                  </a:lnTo>
                  <a:lnTo>
                    <a:pt x="279" y="288"/>
                  </a:lnTo>
                  <a:lnTo>
                    <a:pt x="338" y="319"/>
                  </a:lnTo>
                  <a:lnTo>
                    <a:pt x="401" y="348"/>
                  </a:lnTo>
                  <a:lnTo>
                    <a:pt x="467" y="375"/>
                  </a:lnTo>
                  <a:lnTo>
                    <a:pt x="537" y="400"/>
                  </a:lnTo>
                  <a:lnTo>
                    <a:pt x="612" y="426"/>
                  </a:lnTo>
                  <a:lnTo>
                    <a:pt x="688" y="450"/>
                  </a:lnTo>
                </a:path>
              </a:pathLst>
            </a:custGeom>
            <a:noFill/>
            <a:ln w="76320">
              <a:solidFill>
                <a:srgbClr val="9999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Freeform 28"/>
            <p:cNvSpPr/>
            <p:nvPr/>
          </p:nvSpPr>
          <p:spPr>
            <a:xfrm>
              <a:off x="7457400" y="6246000"/>
              <a:ext cx="808200" cy="122760"/>
            </a:xfrm>
            <a:custGeom>
              <a:avLst/>
              <a:gdLst/>
              <a:ahLst/>
              <a:rect l="l" t="t" r="r" b="b"/>
              <a:pathLst>
                <a:path w="707" h="107">
                  <a:moveTo>
                    <a:pt x="707" y="73"/>
                  </a:moveTo>
                  <a:lnTo>
                    <a:pt x="707" y="73"/>
                  </a:lnTo>
                  <a:lnTo>
                    <a:pt x="705" y="78"/>
                  </a:lnTo>
                  <a:lnTo>
                    <a:pt x="700" y="83"/>
                  </a:lnTo>
                  <a:lnTo>
                    <a:pt x="695" y="88"/>
                  </a:lnTo>
                  <a:lnTo>
                    <a:pt x="686" y="93"/>
                  </a:lnTo>
                  <a:lnTo>
                    <a:pt x="678" y="97"/>
                  </a:lnTo>
                  <a:lnTo>
                    <a:pt x="668" y="100"/>
                  </a:lnTo>
                  <a:lnTo>
                    <a:pt x="642" y="104"/>
                  </a:lnTo>
                  <a:lnTo>
                    <a:pt x="610" y="107"/>
                  </a:lnTo>
                  <a:lnTo>
                    <a:pt x="574" y="107"/>
                  </a:lnTo>
                  <a:lnTo>
                    <a:pt x="532" y="105"/>
                  </a:lnTo>
                  <a:lnTo>
                    <a:pt x="486" y="100"/>
                  </a:lnTo>
                  <a:lnTo>
                    <a:pt x="437" y="95"/>
                  </a:lnTo>
                  <a:lnTo>
                    <a:pt x="382" y="87"/>
                  </a:lnTo>
                  <a:lnTo>
                    <a:pt x="326" y="76"/>
                  </a:lnTo>
                  <a:lnTo>
                    <a:pt x="265" y="66"/>
                  </a:lnTo>
                  <a:lnTo>
                    <a:pt x="202" y="51"/>
                  </a:lnTo>
                  <a:lnTo>
                    <a:pt x="136" y="36"/>
                  </a:lnTo>
                  <a:lnTo>
                    <a:pt x="70" y="19"/>
                  </a:lnTo>
                  <a:lnTo>
                    <a:pt x="0" y="0"/>
                  </a:lnTo>
                </a:path>
              </a:pathLst>
            </a:custGeom>
            <a:noFill/>
            <a:ln w="76320">
              <a:solidFill>
                <a:srgbClr val="9999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Line 29"/>
            <p:cNvSpPr/>
            <p:nvPr/>
          </p:nvSpPr>
          <p:spPr>
            <a:xfrm flipH="1">
              <a:off x="7427880" y="4075920"/>
              <a:ext cx="673200" cy="2342880"/>
            </a:xfrm>
            <a:prstGeom prst="line">
              <a:avLst/>
            </a:prstGeom>
            <a:ln w="76320">
              <a:solidFill>
                <a:srgbClr val="9999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Freeform 30"/>
            <p:cNvSpPr/>
            <p:nvPr/>
          </p:nvSpPr>
          <p:spPr>
            <a:xfrm>
              <a:off x="6539040" y="4025880"/>
              <a:ext cx="2426040" cy="2424960"/>
            </a:xfrm>
            <a:custGeom>
              <a:avLst/>
              <a:gdLst/>
              <a:ahLst/>
              <a:rect l="l" t="t" r="r" b="b"/>
              <a:pathLst>
                <a:path w="2117" h="2132">
                  <a:moveTo>
                    <a:pt x="2076" y="1357"/>
                  </a:moveTo>
                  <a:lnTo>
                    <a:pt x="2076" y="1357"/>
                  </a:lnTo>
                  <a:lnTo>
                    <a:pt x="2059" y="1410"/>
                  </a:lnTo>
                  <a:lnTo>
                    <a:pt x="2041" y="1461"/>
                  </a:lnTo>
                  <a:lnTo>
                    <a:pt x="2020" y="1510"/>
                  </a:lnTo>
                  <a:lnTo>
                    <a:pt x="1996" y="1558"/>
                  </a:lnTo>
                  <a:lnTo>
                    <a:pt x="1971" y="1604"/>
                  </a:lnTo>
                  <a:lnTo>
                    <a:pt x="1944" y="1650"/>
                  </a:lnTo>
                  <a:lnTo>
                    <a:pt x="1913" y="1692"/>
                  </a:lnTo>
                  <a:lnTo>
                    <a:pt x="1883" y="1733"/>
                  </a:lnTo>
                  <a:lnTo>
                    <a:pt x="1849" y="1774"/>
                  </a:lnTo>
                  <a:lnTo>
                    <a:pt x="1813" y="1811"/>
                  </a:lnTo>
                  <a:lnTo>
                    <a:pt x="1777" y="1847"/>
                  </a:lnTo>
                  <a:lnTo>
                    <a:pt x="1738" y="1881"/>
                  </a:lnTo>
                  <a:lnTo>
                    <a:pt x="1699" y="1913"/>
                  </a:lnTo>
                  <a:lnTo>
                    <a:pt x="1657" y="1944"/>
                  </a:lnTo>
                  <a:lnTo>
                    <a:pt x="1614" y="1971"/>
                  </a:lnTo>
                  <a:lnTo>
                    <a:pt x="1572" y="1998"/>
                  </a:lnTo>
                  <a:lnTo>
                    <a:pt x="1526" y="2022"/>
                  </a:lnTo>
                  <a:lnTo>
                    <a:pt x="1480" y="2042"/>
                  </a:lnTo>
                  <a:lnTo>
                    <a:pt x="1432" y="2062"/>
                  </a:lnTo>
                  <a:lnTo>
                    <a:pt x="1385" y="2079"/>
                  </a:lnTo>
                  <a:lnTo>
                    <a:pt x="1336" y="2095"/>
                  </a:lnTo>
                  <a:lnTo>
                    <a:pt x="1286" y="2107"/>
                  </a:lnTo>
                  <a:lnTo>
                    <a:pt x="1235" y="2117"/>
                  </a:lnTo>
                  <a:lnTo>
                    <a:pt x="1184" y="2125"/>
                  </a:lnTo>
                  <a:lnTo>
                    <a:pt x="1133" y="2130"/>
                  </a:lnTo>
                  <a:lnTo>
                    <a:pt x="1081" y="2132"/>
                  </a:lnTo>
                  <a:lnTo>
                    <a:pt x="1030" y="2132"/>
                  </a:lnTo>
                  <a:lnTo>
                    <a:pt x="977" y="2130"/>
                  </a:lnTo>
                  <a:lnTo>
                    <a:pt x="924" y="2125"/>
                  </a:lnTo>
                  <a:lnTo>
                    <a:pt x="872" y="2117"/>
                  </a:lnTo>
                  <a:lnTo>
                    <a:pt x="819" y="2107"/>
                  </a:lnTo>
                  <a:lnTo>
                    <a:pt x="766" y="2093"/>
                  </a:lnTo>
                  <a:lnTo>
                    <a:pt x="766" y="2093"/>
                  </a:lnTo>
                  <a:lnTo>
                    <a:pt x="714" y="2076"/>
                  </a:lnTo>
                  <a:lnTo>
                    <a:pt x="663" y="2057"/>
                  </a:lnTo>
                  <a:lnTo>
                    <a:pt x="613" y="2037"/>
                  </a:lnTo>
                  <a:lnTo>
                    <a:pt x="568" y="2013"/>
                  </a:lnTo>
                  <a:lnTo>
                    <a:pt x="520" y="1988"/>
                  </a:lnTo>
                  <a:lnTo>
                    <a:pt x="476" y="1961"/>
                  </a:lnTo>
                  <a:lnTo>
                    <a:pt x="433" y="1930"/>
                  </a:lnTo>
                  <a:lnTo>
                    <a:pt x="393" y="1899"/>
                  </a:lnTo>
                  <a:lnTo>
                    <a:pt x="354" y="1865"/>
                  </a:lnTo>
                  <a:lnTo>
                    <a:pt x="316" y="1830"/>
                  </a:lnTo>
                  <a:lnTo>
                    <a:pt x="281" y="1794"/>
                  </a:lnTo>
                  <a:lnTo>
                    <a:pt x="247" y="1755"/>
                  </a:lnTo>
                  <a:lnTo>
                    <a:pt x="216" y="1714"/>
                  </a:lnTo>
                  <a:lnTo>
                    <a:pt x="185" y="1673"/>
                  </a:lnTo>
                  <a:lnTo>
                    <a:pt x="158" y="1631"/>
                  </a:lnTo>
                  <a:lnTo>
                    <a:pt x="133" y="1587"/>
                  </a:lnTo>
                  <a:lnTo>
                    <a:pt x="109" y="1541"/>
                  </a:lnTo>
                  <a:lnTo>
                    <a:pt x="87" y="1495"/>
                  </a:lnTo>
                  <a:lnTo>
                    <a:pt x="68" y="1448"/>
                  </a:lnTo>
                  <a:lnTo>
                    <a:pt x="51" y="1400"/>
                  </a:lnTo>
                  <a:lnTo>
                    <a:pt x="38" y="1351"/>
                  </a:lnTo>
                  <a:lnTo>
                    <a:pt x="24" y="1300"/>
                  </a:lnTo>
                  <a:lnTo>
                    <a:pt x="15" y="1249"/>
                  </a:lnTo>
                  <a:lnTo>
                    <a:pt x="7" y="1198"/>
                  </a:lnTo>
                  <a:lnTo>
                    <a:pt x="2" y="1147"/>
                  </a:lnTo>
                  <a:lnTo>
                    <a:pt x="0" y="1094"/>
                  </a:lnTo>
                  <a:lnTo>
                    <a:pt x="0" y="1042"/>
                  </a:lnTo>
                  <a:lnTo>
                    <a:pt x="4" y="989"/>
                  </a:lnTo>
                  <a:lnTo>
                    <a:pt x="9" y="936"/>
                  </a:lnTo>
                  <a:lnTo>
                    <a:pt x="17" y="882"/>
                  </a:lnTo>
                  <a:lnTo>
                    <a:pt x="27" y="829"/>
                  </a:lnTo>
                  <a:lnTo>
                    <a:pt x="41" y="777"/>
                  </a:lnTo>
                  <a:lnTo>
                    <a:pt x="41" y="777"/>
                  </a:lnTo>
                  <a:lnTo>
                    <a:pt x="58" y="724"/>
                  </a:lnTo>
                  <a:lnTo>
                    <a:pt x="77" y="673"/>
                  </a:lnTo>
                  <a:lnTo>
                    <a:pt x="99" y="624"/>
                  </a:lnTo>
                  <a:lnTo>
                    <a:pt x="121" y="576"/>
                  </a:lnTo>
                  <a:lnTo>
                    <a:pt x="146" y="529"/>
                  </a:lnTo>
                  <a:lnTo>
                    <a:pt x="175" y="484"/>
                  </a:lnTo>
                  <a:lnTo>
                    <a:pt x="204" y="442"/>
                  </a:lnTo>
                  <a:lnTo>
                    <a:pt x="236" y="399"/>
                  </a:lnTo>
                  <a:lnTo>
                    <a:pt x="269" y="360"/>
                  </a:lnTo>
                  <a:lnTo>
                    <a:pt x="304" y="323"/>
                  </a:lnTo>
                  <a:lnTo>
                    <a:pt x="340" y="286"/>
                  </a:lnTo>
                  <a:lnTo>
                    <a:pt x="379" y="252"/>
                  </a:lnTo>
                  <a:lnTo>
                    <a:pt x="418" y="219"/>
                  </a:lnTo>
                  <a:lnTo>
                    <a:pt x="461" y="190"/>
                  </a:lnTo>
                  <a:lnTo>
                    <a:pt x="503" y="162"/>
                  </a:lnTo>
                  <a:lnTo>
                    <a:pt x="547" y="136"/>
                  </a:lnTo>
                  <a:lnTo>
                    <a:pt x="591" y="112"/>
                  </a:lnTo>
                  <a:lnTo>
                    <a:pt x="637" y="90"/>
                  </a:lnTo>
                  <a:lnTo>
                    <a:pt x="685" y="72"/>
                  </a:lnTo>
                  <a:lnTo>
                    <a:pt x="732" y="53"/>
                  </a:lnTo>
                  <a:lnTo>
                    <a:pt x="782" y="39"/>
                  </a:lnTo>
                  <a:lnTo>
                    <a:pt x="831" y="26"/>
                  </a:lnTo>
                  <a:lnTo>
                    <a:pt x="882" y="15"/>
                  </a:lnTo>
                  <a:lnTo>
                    <a:pt x="933" y="9"/>
                  </a:lnTo>
                  <a:lnTo>
                    <a:pt x="984" y="4"/>
                  </a:lnTo>
                  <a:lnTo>
                    <a:pt x="1037" y="0"/>
                  </a:lnTo>
                  <a:lnTo>
                    <a:pt x="1087" y="0"/>
                  </a:lnTo>
                  <a:lnTo>
                    <a:pt x="1140" y="4"/>
                  </a:lnTo>
                  <a:lnTo>
                    <a:pt x="1193" y="9"/>
                  </a:lnTo>
                  <a:lnTo>
                    <a:pt x="1245" y="17"/>
                  </a:lnTo>
                  <a:lnTo>
                    <a:pt x="1300" y="27"/>
                  </a:lnTo>
                  <a:lnTo>
                    <a:pt x="1353" y="41"/>
                  </a:lnTo>
                  <a:lnTo>
                    <a:pt x="1353" y="41"/>
                  </a:lnTo>
                  <a:lnTo>
                    <a:pt x="1403" y="56"/>
                  </a:lnTo>
                  <a:lnTo>
                    <a:pt x="1454" y="75"/>
                  </a:lnTo>
                  <a:lnTo>
                    <a:pt x="1504" y="97"/>
                  </a:lnTo>
                  <a:lnTo>
                    <a:pt x="1551" y="121"/>
                  </a:lnTo>
                  <a:lnTo>
                    <a:pt x="1597" y="146"/>
                  </a:lnTo>
                  <a:lnTo>
                    <a:pt x="1641" y="173"/>
                  </a:lnTo>
                  <a:lnTo>
                    <a:pt x="1684" y="202"/>
                  </a:lnTo>
                  <a:lnTo>
                    <a:pt x="1725" y="235"/>
                  </a:lnTo>
                  <a:lnTo>
                    <a:pt x="1764" y="269"/>
                  </a:lnTo>
                  <a:lnTo>
                    <a:pt x="1801" y="303"/>
                  </a:lnTo>
                  <a:lnTo>
                    <a:pt x="1837" y="340"/>
                  </a:lnTo>
                  <a:lnTo>
                    <a:pt x="1871" y="379"/>
                  </a:lnTo>
                  <a:lnTo>
                    <a:pt x="1903" y="418"/>
                  </a:lnTo>
                  <a:lnTo>
                    <a:pt x="1932" y="461"/>
                  </a:lnTo>
                  <a:lnTo>
                    <a:pt x="1959" y="503"/>
                  </a:lnTo>
                  <a:lnTo>
                    <a:pt x="1984" y="547"/>
                  </a:lnTo>
                  <a:lnTo>
                    <a:pt x="2008" y="591"/>
                  </a:lnTo>
                  <a:lnTo>
                    <a:pt x="2030" y="639"/>
                  </a:lnTo>
                  <a:lnTo>
                    <a:pt x="2049" y="685"/>
                  </a:lnTo>
                  <a:lnTo>
                    <a:pt x="2066" y="734"/>
                  </a:lnTo>
                  <a:lnTo>
                    <a:pt x="2081" y="783"/>
                  </a:lnTo>
                  <a:lnTo>
                    <a:pt x="2093" y="833"/>
                  </a:lnTo>
                  <a:lnTo>
                    <a:pt x="2103" y="884"/>
                  </a:lnTo>
                  <a:lnTo>
                    <a:pt x="2110" y="934"/>
                  </a:lnTo>
                  <a:lnTo>
                    <a:pt x="2115" y="987"/>
                  </a:lnTo>
                  <a:lnTo>
                    <a:pt x="2117" y="1038"/>
                  </a:lnTo>
                  <a:lnTo>
                    <a:pt x="2117" y="1091"/>
                  </a:lnTo>
                  <a:lnTo>
                    <a:pt x="2114" y="1145"/>
                  </a:lnTo>
                  <a:lnTo>
                    <a:pt x="2109" y="1198"/>
                  </a:lnTo>
                  <a:lnTo>
                    <a:pt x="2100" y="1250"/>
                  </a:lnTo>
                  <a:lnTo>
                    <a:pt x="2090" y="1303"/>
                  </a:lnTo>
                  <a:lnTo>
                    <a:pt x="2076" y="1357"/>
                  </a:lnTo>
                  <a:lnTo>
                    <a:pt x="2076" y="1357"/>
                  </a:lnTo>
                  <a:close/>
                </a:path>
              </a:pathLst>
            </a:custGeom>
            <a:noFill/>
            <a:ln w="76320">
              <a:solidFill>
                <a:srgbClr val="9999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Freeform 31"/>
            <p:cNvSpPr/>
            <p:nvPr/>
          </p:nvSpPr>
          <p:spPr>
            <a:xfrm>
              <a:off x="6545520" y="4027680"/>
              <a:ext cx="2426400" cy="2424960"/>
            </a:xfrm>
            <a:custGeom>
              <a:avLst/>
              <a:gdLst/>
              <a:ahLst/>
              <a:rect l="l" t="t" r="r" b="b"/>
              <a:pathLst>
                <a:path w="2117" h="2132">
                  <a:moveTo>
                    <a:pt x="2076" y="1357"/>
                  </a:moveTo>
                  <a:lnTo>
                    <a:pt x="2076" y="1357"/>
                  </a:lnTo>
                  <a:lnTo>
                    <a:pt x="2059" y="1408"/>
                  </a:lnTo>
                  <a:lnTo>
                    <a:pt x="2040" y="1459"/>
                  </a:lnTo>
                  <a:lnTo>
                    <a:pt x="2020" y="1510"/>
                  </a:lnTo>
                  <a:lnTo>
                    <a:pt x="1996" y="1558"/>
                  </a:lnTo>
                  <a:lnTo>
                    <a:pt x="1971" y="1604"/>
                  </a:lnTo>
                  <a:lnTo>
                    <a:pt x="1944" y="1648"/>
                  </a:lnTo>
                  <a:lnTo>
                    <a:pt x="1913" y="1692"/>
                  </a:lnTo>
                  <a:lnTo>
                    <a:pt x="1882" y="1733"/>
                  </a:lnTo>
                  <a:lnTo>
                    <a:pt x="1848" y="1773"/>
                  </a:lnTo>
                  <a:lnTo>
                    <a:pt x="1813" y="1811"/>
                  </a:lnTo>
                  <a:lnTo>
                    <a:pt x="1777" y="1846"/>
                  </a:lnTo>
                  <a:lnTo>
                    <a:pt x="1738" y="1880"/>
                  </a:lnTo>
                  <a:lnTo>
                    <a:pt x="1699" y="1913"/>
                  </a:lnTo>
                  <a:lnTo>
                    <a:pt x="1656" y="1943"/>
                  </a:lnTo>
                  <a:lnTo>
                    <a:pt x="1614" y="1970"/>
                  </a:lnTo>
                  <a:lnTo>
                    <a:pt x="1570" y="1998"/>
                  </a:lnTo>
                  <a:lnTo>
                    <a:pt x="1526" y="2021"/>
                  </a:lnTo>
                  <a:lnTo>
                    <a:pt x="1480" y="2042"/>
                  </a:lnTo>
                  <a:lnTo>
                    <a:pt x="1432" y="2062"/>
                  </a:lnTo>
                  <a:lnTo>
                    <a:pt x="1385" y="2079"/>
                  </a:lnTo>
                  <a:lnTo>
                    <a:pt x="1335" y="2094"/>
                  </a:lnTo>
                  <a:lnTo>
                    <a:pt x="1286" y="2106"/>
                  </a:lnTo>
                  <a:lnTo>
                    <a:pt x="1235" y="2117"/>
                  </a:lnTo>
                  <a:lnTo>
                    <a:pt x="1184" y="2125"/>
                  </a:lnTo>
                  <a:lnTo>
                    <a:pt x="1133" y="2130"/>
                  </a:lnTo>
                  <a:lnTo>
                    <a:pt x="1080" y="2132"/>
                  </a:lnTo>
                  <a:lnTo>
                    <a:pt x="1030" y="2132"/>
                  </a:lnTo>
                  <a:lnTo>
                    <a:pt x="977" y="2130"/>
                  </a:lnTo>
                  <a:lnTo>
                    <a:pt x="924" y="2125"/>
                  </a:lnTo>
                  <a:lnTo>
                    <a:pt x="872" y="2117"/>
                  </a:lnTo>
                  <a:lnTo>
                    <a:pt x="819" y="2105"/>
                  </a:lnTo>
                  <a:lnTo>
                    <a:pt x="766" y="2091"/>
                  </a:lnTo>
                  <a:lnTo>
                    <a:pt x="766" y="2091"/>
                  </a:lnTo>
                  <a:lnTo>
                    <a:pt x="714" y="2076"/>
                  </a:lnTo>
                  <a:lnTo>
                    <a:pt x="663" y="2057"/>
                  </a:lnTo>
                  <a:lnTo>
                    <a:pt x="613" y="2035"/>
                  </a:lnTo>
                  <a:lnTo>
                    <a:pt x="566" y="2013"/>
                  </a:lnTo>
                  <a:lnTo>
                    <a:pt x="520" y="1987"/>
                  </a:lnTo>
                  <a:lnTo>
                    <a:pt x="476" y="1959"/>
                  </a:lnTo>
                  <a:lnTo>
                    <a:pt x="433" y="1930"/>
                  </a:lnTo>
                  <a:lnTo>
                    <a:pt x="392" y="1897"/>
                  </a:lnTo>
                  <a:lnTo>
                    <a:pt x="353" y="1865"/>
                  </a:lnTo>
                  <a:lnTo>
                    <a:pt x="316" y="1829"/>
                  </a:lnTo>
                  <a:lnTo>
                    <a:pt x="280" y="1792"/>
                  </a:lnTo>
                  <a:lnTo>
                    <a:pt x="246" y="1755"/>
                  </a:lnTo>
                  <a:lnTo>
                    <a:pt x="216" y="1714"/>
                  </a:lnTo>
                  <a:lnTo>
                    <a:pt x="185" y="1673"/>
                  </a:lnTo>
                  <a:lnTo>
                    <a:pt x="158" y="1631"/>
                  </a:lnTo>
                  <a:lnTo>
                    <a:pt x="133" y="1587"/>
                  </a:lnTo>
                  <a:lnTo>
                    <a:pt x="109" y="1541"/>
                  </a:lnTo>
                  <a:lnTo>
                    <a:pt x="87" y="1495"/>
                  </a:lnTo>
                  <a:lnTo>
                    <a:pt x="68" y="1447"/>
                  </a:lnTo>
                  <a:lnTo>
                    <a:pt x="51" y="1398"/>
                  </a:lnTo>
                  <a:lnTo>
                    <a:pt x="37" y="1350"/>
                  </a:lnTo>
                  <a:lnTo>
                    <a:pt x="24" y="1299"/>
                  </a:lnTo>
                  <a:lnTo>
                    <a:pt x="15" y="1248"/>
                  </a:lnTo>
                  <a:lnTo>
                    <a:pt x="7" y="1198"/>
                  </a:lnTo>
                  <a:lnTo>
                    <a:pt x="2" y="1147"/>
                  </a:lnTo>
                  <a:lnTo>
                    <a:pt x="0" y="1094"/>
                  </a:lnTo>
                  <a:lnTo>
                    <a:pt x="0" y="1041"/>
                  </a:lnTo>
                  <a:lnTo>
                    <a:pt x="3" y="989"/>
                  </a:lnTo>
                  <a:lnTo>
                    <a:pt x="8" y="936"/>
                  </a:lnTo>
                  <a:lnTo>
                    <a:pt x="17" y="882"/>
                  </a:lnTo>
                  <a:lnTo>
                    <a:pt x="27" y="829"/>
                  </a:lnTo>
                  <a:lnTo>
                    <a:pt x="41" y="776"/>
                  </a:lnTo>
                  <a:lnTo>
                    <a:pt x="41" y="776"/>
                  </a:lnTo>
                  <a:lnTo>
                    <a:pt x="58" y="724"/>
                  </a:lnTo>
                  <a:lnTo>
                    <a:pt x="76" y="673"/>
                  </a:lnTo>
                  <a:lnTo>
                    <a:pt x="97" y="623"/>
                  </a:lnTo>
                  <a:lnTo>
                    <a:pt x="121" y="574"/>
                  </a:lnTo>
                  <a:lnTo>
                    <a:pt x="146" y="528"/>
                  </a:lnTo>
                  <a:lnTo>
                    <a:pt x="173" y="484"/>
                  </a:lnTo>
                  <a:lnTo>
                    <a:pt x="204" y="440"/>
                  </a:lnTo>
                  <a:lnTo>
                    <a:pt x="234" y="399"/>
                  </a:lnTo>
                  <a:lnTo>
                    <a:pt x="268" y="360"/>
                  </a:lnTo>
                  <a:lnTo>
                    <a:pt x="304" y="321"/>
                  </a:lnTo>
                  <a:lnTo>
                    <a:pt x="340" y="285"/>
                  </a:lnTo>
                  <a:lnTo>
                    <a:pt x="379" y="251"/>
                  </a:lnTo>
                  <a:lnTo>
                    <a:pt x="418" y="219"/>
                  </a:lnTo>
                  <a:lnTo>
                    <a:pt x="460" y="190"/>
                  </a:lnTo>
                  <a:lnTo>
                    <a:pt x="503" y="161"/>
                  </a:lnTo>
                  <a:lnTo>
                    <a:pt x="547" y="136"/>
                  </a:lnTo>
                  <a:lnTo>
                    <a:pt x="591" y="112"/>
                  </a:lnTo>
                  <a:lnTo>
                    <a:pt x="637" y="90"/>
                  </a:lnTo>
                  <a:lnTo>
                    <a:pt x="685" y="70"/>
                  </a:lnTo>
                  <a:lnTo>
                    <a:pt x="732" y="53"/>
                  </a:lnTo>
                  <a:lnTo>
                    <a:pt x="781" y="39"/>
                  </a:lnTo>
                  <a:lnTo>
                    <a:pt x="831" y="25"/>
                  </a:lnTo>
                  <a:lnTo>
                    <a:pt x="882" y="15"/>
                  </a:lnTo>
                  <a:lnTo>
                    <a:pt x="933" y="8"/>
                  </a:lnTo>
                  <a:lnTo>
                    <a:pt x="984" y="3"/>
                  </a:lnTo>
                  <a:lnTo>
                    <a:pt x="1036" y="0"/>
                  </a:lnTo>
                  <a:lnTo>
                    <a:pt x="1087" y="0"/>
                  </a:lnTo>
                  <a:lnTo>
                    <a:pt x="1140" y="3"/>
                  </a:lnTo>
                  <a:lnTo>
                    <a:pt x="1193" y="8"/>
                  </a:lnTo>
                  <a:lnTo>
                    <a:pt x="1245" y="15"/>
                  </a:lnTo>
                  <a:lnTo>
                    <a:pt x="1298" y="27"/>
                  </a:lnTo>
                  <a:lnTo>
                    <a:pt x="1351" y="41"/>
                  </a:lnTo>
                  <a:lnTo>
                    <a:pt x="1351" y="41"/>
                  </a:lnTo>
                  <a:lnTo>
                    <a:pt x="1403" y="56"/>
                  </a:lnTo>
                  <a:lnTo>
                    <a:pt x="1454" y="75"/>
                  </a:lnTo>
                  <a:lnTo>
                    <a:pt x="1504" y="97"/>
                  </a:lnTo>
                  <a:lnTo>
                    <a:pt x="1551" y="119"/>
                  </a:lnTo>
                  <a:lnTo>
                    <a:pt x="1597" y="144"/>
                  </a:lnTo>
                  <a:lnTo>
                    <a:pt x="1641" y="173"/>
                  </a:lnTo>
                  <a:lnTo>
                    <a:pt x="1684" y="202"/>
                  </a:lnTo>
                  <a:lnTo>
                    <a:pt x="1724" y="234"/>
                  </a:lnTo>
                  <a:lnTo>
                    <a:pt x="1763" y="267"/>
                  </a:lnTo>
                  <a:lnTo>
                    <a:pt x="1801" y="302"/>
                  </a:lnTo>
                  <a:lnTo>
                    <a:pt x="1836" y="340"/>
                  </a:lnTo>
                  <a:lnTo>
                    <a:pt x="1870" y="377"/>
                  </a:lnTo>
                  <a:lnTo>
                    <a:pt x="1901" y="418"/>
                  </a:lnTo>
                  <a:lnTo>
                    <a:pt x="1932" y="459"/>
                  </a:lnTo>
                  <a:lnTo>
                    <a:pt x="1959" y="503"/>
                  </a:lnTo>
                  <a:lnTo>
                    <a:pt x="1984" y="547"/>
                  </a:lnTo>
                  <a:lnTo>
                    <a:pt x="2008" y="591"/>
                  </a:lnTo>
                  <a:lnTo>
                    <a:pt x="2030" y="637"/>
                  </a:lnTo>
                  <a:lnTo>
                    <a:pt x="2049" y="684"/>
                  </a:lnTo>
                  <a:lnTo>
                    <a:pt x="2066" y="734"/>
                  </a:lnTo>
                  <a:lnTo>
                    <a:pt x="2079" y="783"/>
                  </a:lnTo>
                  <a:lnTo>
                    <a:pt x="2093" y="832"/>
                  </a:lnTo>
                  <a:lnTo>
                    <a:pt x="2102" y="883"/>
                  </a:lnTo>
                  <a:lnTo>
                    <a:pt x="2110" y="934"/>
                  </a:lnTo>
                  <a:lnTo>
                    <a:pt x="2115" y="987"/>
                  </a:lnTo>
                  <a:lnTo>
                    <a:pt x="2117" y="1038"/>
                  </a:lnTo>
                  <a:lnTo>
                    <a:pt x="2117" y="1090"/>
                  </a:lnTo>
                  <a:lnTo>
                    <a:pt x="2113" y="1143"/>
                  </a:lnTo>
                  <a:lnTo>
                    <a:pt x="2108" y="1198"/>
                  </a:lnTo>
                  <a:lnTo>
                    <a:pt x="2100" y="1250"/>
                  </a:lnTo>
                  <a:lnTo>
                    <a:pt x="2090" y="1303"/>
                  </a:lnTo>
                  <a:lnTo>
                    <a:pt x="2076" y="1357"/>
                  </a:lnTo>
                  <a:lnTo>
                    <a:pt x="2076" y="1357"/>
                  </a:lnTo>
                  <a:close/>
                </a:path>
              </a:pathLst>
            </a:custGeom>
            <a:noFill/>
            <a:ln w="76320">
              <a:solidFill>
                <a:srgbClr val="9999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Freeform 32"/>
            <p:cNvSpPr/>
            <p:nvPr/>
          </p:nvSpPr>
          <p:spPr>
            <a:xfrm>
              <a:off x="6676200" y="4259880"/>
              <a:ext cx="1842480" cy="1508400"/>
            </a:xfrm>
            <a:custGeom>
              <a:avLst/>
              <a:gdLst/>
              <a:ahLst/>
              <a:rect l="l" t="t" r="r" b="b"/>
              <a:pathLst>
                <a:path w="1609" h="1326">
                  <a:moveTo>
                    <a:pt x="0" y="1326"/>
                  </a:moveTo>
                  <a:lnTo>
                    <a:pt x="0" y="1326"/>
                  </a:lnTo>
                  <a:lnTo>
                    <a:pt x="26" y="1243"/>
                  </a:lnTo>
                  <a:lnTo>
                    <a:pt x="53" y="1162"/>
                  </a:lnTo>
                  <a:lnTo>
                    <a:pt x="83" y="1082"/>
                  </a:lnTo>
                  <a:lnTo>
                    <a:pt x="116" y="1005"/>
                  </a:lnTo>
                  <a:lnTo>
                    <a:pt x="151" y="931"/>
                  </a:lnTo>
                  <a:lnTo>
                    <a:pt x="189" y="858"/>
                  </a:lnTo>
                  <a:lnTo>
                    <a:pt x="228" y="786"/>
                  </a:lnTo>
                  <a:lnTo>
                    <a:pt x="269" y="718"/>
                  </a:lnTo>
                  <a:lnTo>
                    <a:pt x="311" y="654"/>
                  </a:lnTo>
                  <a:lnTo>
                    <a:pt x="357" y="591"/>
                  </a:lnTo>
                  <a:lnTo>
                    <a:pt x="403" y="531"/>
                  </a:lnTo>
                  <a:lnTo>
                    <a:pt x="452" y="474"/>
                  </a:lnTo>
                  <a:lnTo>
                    <a:pt x="501" y="419"/>
                  </a:lnTo>
                  <a:lnTo>
                    <a:pt x="552" y="367"/>
                  </a:lnTo>
                  <a:lnTo>
                    <a:pt x="605" y="319"/>
                  </a:lnTo>
                  <a:lnTo>
                    <a:pt x="658" y="273"/>
                  </a:lnTo>
                  <a:lnTo>
                    <a:pt x="714" y="231"/>
                  </a:lnTo>
                  <a:lnTo>
                    <a:pt x="768" y="192"/>
                  </a:lnTo>
                  <a:lnTo>
                    <a:pt x="826" y="156"/>
                  </a:lnTo>
                  <a:lnTo>
                    <a:pt x="884" y="124"/>
                  </a:lnTo>
                  <a:lnTo>
                    <a:pt x="941" y="97"/>
                  </a:lnTo>
                  <a:lnTo>
                    <a:pt x="1001" y="71"/>
                  </a:lnTo>
                  <a:lnTo>
                    <a:pt x="1060" y="49"/>
                  </a:lnTo>
                  <a:lnTo>
                    <a:pt x="1120" y="32"/>
                  </a:lnTo>
                  <a:lnTo>
                    <a:pt x="1181" y="17"/>
                  </a:lnTo>
                  <a:lnTo>
                    <a:pt x="1242" y="8"/>
                  </a:lnTo>
                  <a:lnTo>
                    <a:pt x="1303" y="1"/>
                  </a:lnTo>
                  <a:lnTo>
                    <a:pt x="1334" y="0"/>
                  </a:lnTo>
                  <a:lnTo>
                    <a:pt x="1364" y="0"/>
                  </a:lnTo>
                  <a:lnTo>
                    <a:pt x="1395" y="0"/>
                  </a:lnTo>
                  <a:lnTo>
                    <a:pt x="1425" y="1"/>
                  </a:lnTo>
                  <a:lnTo>
                    <a:pt x="1456" y="5"/>
                  </a:lnTo>
                  <a:lnTo>
                    <a:pt x="1487" y="8"/>
                  </a:lnTo>
                  <a:lnTo>
                    <a:pt x="1517" y="13"/>
                  </a:lnTo>
                  <a:lnTo>
                    <a:pt x="1548" y="18"/>
                  </a:lnTo>
                  <a:lnTo>
                    <a:pt x="1578" y="25"/>
                  </a:lnTo>
                  <a:lnTo>
                    <a:pt x="1609" y="34"/>
                  </a:lnTo>
                </a:path>
              </a:pathLst>
            </a:custGeom>
            <a:noFill/>
            <a:ln w="76320">
              <a:solidFill>
                <a:srgbClr val="9999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Freeform 33"/>
            <p:cNvSpPr/>
            <p:nvPr/>
          </p:nvSpPr>
          <p:spPr>
            <a:xfrm>
              <a:off x="7615440" y="4037040"/>
              <a:ext cx="934560" cy="2192760"/>
            </a:xfrm>
            <a:custGeom>
              <a:avLst/>
              <a:gdLst/>
              <a:ahLst/>
              <a:rect l="l" t="t" r="r" b="b"/>
              <a:pathLst>
                <a:path w="817" h="1928">
                  <a:moveTo>
                    <a:pt x="730" y="1928"/>
                  </a:moveTo>
                  <a:lnTo>
                    <a:pt x="730" y="1928"/>
                  </a:lnTo>
                  <a:lnTo>
                    <a:pt x="752" y="1845"/>
                  </a:lnTo>
                  <a:lnTo>
                    <a:pt x="771" y="1762"/>
                  </a:lnTo>
                  <a:lnTo>
                    <a:pt x="786" y="1680"/>
                  </a:lnTo>
                  <a:lnTo>
                    <a:pt x="800" y="1599"/>
                  </a:lnTo>
                  <a:lnTo>
                    <a:pt x="808" y="1517"/>
                  </a:lnTo>
                  <a:lnTo>
                    <a:pt x="813" y="1436"/>
                  </a:lnTo>
                  <a:lnTo>
                    <a:pt x="817" y="1358"/>
                  </a:lnTo>
                  <a:lnTo>
                    <a:pt x="815" y="1278"/>
                  </a:lnTo>
                  <a:lnTo>
                    <a:pt x="812" y="1201"/>
                  </a:lnTo>
                  <a:lnTo>
                    <a:pt x="805" y="1125"/>
                  </a:lnTo>
                  <a:lnTo>
                    <a:pt x="796" y="1050"/>
                  </a:lnTo>
                  <a:lnTo>
                    <a:pt x="783" y="977"/>
                  </a:lnTo>
                  <a:lnTo>
                    <a:pt x="768" y="906"/>
                  </a:lnTo>
                  <a:lnTo>
                    <a:pt x="751" y="836"/>
                  </a:lnTo>
                  <a:lnTo>
                    <a:pt x="729" y="767"/>
                  </a:lnTo>
                  <a:lnTo>
                    <a:pt x="706" y="702"/>
                  </a:lnTo>
                  <a:lnTo>
                    <a:pt x="679" y="637"/>
                  </a:lnTo>
                  <a:lnTo>
                    <a:pt x="650" y="575"/>
                  </a:lnTo>
                  <a:lnTo>
                    <a:pt x="620" y="515"/>
                  </a:lnTo>
                  <a:lnTo>
                    <a:pt x="586" y="457"/>
                  </a:lnTo>
                  <a:lnTo>
                    <a:pt x="548" y="403"/>
                  </a:lnTo>
                  <a:lnTo>
                    <a:pt x="511" y="352"/>
                  </a:lnTo>
                  <a:lnTo>
                    <a:pt x="469" y="301"/>
                  </a:lnTo>
                  <a:lnTo>
                    <a:pt x="426" y="255"/>
                  </a:lnTo>
                  <a:lnTo>
                    <a:pt x="380" y="211"/>
                  </a:lnTo>
                  <a:lnTo>
                    <a:pt x="333" y="172"/>
                  </a:lnTo>
                  <a:lnTo>
                    <a:pt x="282" y="135"/>
                  </a:lnTo>
                  <a:lnTo>
                    <a:pt x="229" y="101"/>
                  </a:lnTo>
                  <a:lnTo>
                    <a:pt x="175" y="70"/>
                  </a:lnTo>
                  <a:lnTo>
                    <a:pt x="147" y="56"/>
                  </a:lnTo>
                  <a:lnTo>
                    <a:pt x="119" y="43"/>
                  </a:lnTo>
                  <a:lnTo>
                    <a:pt x="90" y="31"/>
                  </a:lnTo>
                  <a:lnTo>
                    <a:pt x="61" y="19"/>
                  </a:lnTo>
                  <a:lnTo>
                    <a:pt x="30" y="9"/>
                  </a:lnTo>
                  <a:lnTo>
                    <a:pt x="0" y="0"/>
                  </a:lnTo>
                </a:path>
              </a:pathLst>
            </a:custGeom>
            <a:noFill/>
            <a:ln w="76320">
              <a:solidFill>
                <a:srgbClr val="9999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38" name="Group 34"/>
          <p:cNvGrpSpPr/>
          <p:nvPr/>
        </p:nvGrpSpPr>
        <p:grpSpPr>
          <a:xfrm>
            <a:off x="1071720" y="260280"/>
            <a:ext cx="1296720" cy="1081080"/>
            <a:chOff x="1071720" y="260280"/>
            <a:chExt cx="1296720" cy="1081080"/>
          </a:xfrm>
        </p:grpSpPr>
        <p:sp>
          <p:nvSpPr>
            <p:cNvPr id="239" name="AutoShape 35"/>
            <p:cNvSpPr/>
            <p:nvPr/>
          </p:nvSpPr>
          <p:spPr>
            <a:xfrm>
              <a:off x="1071720" y="260280"/>
              <a:ext cx="1296720" cy="1081080"/>
            </a:xfrm>
            <a:prstGeom prst="roundRect">
              <a:avLst>
                <a:gd name="adj" fmla="val 16667"/>
              </a:avLst>
            </a:prstGeom>
            <a:solidFill>
              <a:srgbClr val="9999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40" name="Group 36"/>
            <p:cNvGrpSpPr/>
            <p:nvPr/>
          </p:nvGrpSpPr>
          <p:grpSpPr>
            <a:xfrm>
              <a:off x="1322280" y="404640"/>
              <a:ext cx="801720" cy="795600"/>
              <a:chOff x="1322280" y="404640"/>
              <a:chExt cx="801720" cy="795600"/>
            </a:xfrm>
          </p:grpSpPr>
          <p:sp>
            <p:nvSpPr>
              <p:cNvPr id="241" name="Freeform 37"/>
              <p:cNvSpPr/>
              <p:nvPr/>
            </p:nvSpPr>
            <p:spPr>
              <a:xfrm>
                <a:off x="1609920" y="404640"/>
                <a:ext cx="391680" cy="227160"/>
              </a:xfrm>
              <a:custGeom>
                <a:avLst/>
                <a:gdLst/>
                <a:ahLst/>
                <a:rect l="l" t="t" r="r" b="b"/>
                <a:pathLst>
                  <a:path w="1039" h="606">
                    <a:moveTo>
                      <a:pt x="1034" y="450"/>
                    </a:moveTo>
                    <a:lnTo>
                      <a:pt x="1034" y="450"/>
                    </a:lnTo>
                    <a:lnTo>
                      <a:pt x="1029" y="464"/>
                    </a:lnTo>
                    <a:lnTo>
                      <a:pt x="1024" y="476"/>
                    </a:lnTo>
                    <a:lnTo>
                      <a:pt x="1016" y="489"/>
                    </a:lnTo>
                    <a:lnTo>
                      <a:pt x="1009" y="501"/>
                    </a:lnTo>
                    <a:lnTo>
                      <a:pt x="999" y="511"/>
                    </a:lnTo>
                    <a:lnTo>
                      <a:pt x="988" y="523"/>
                    </a:lnTo>
                    <a:lnTo>
                      <a:pt x="976" y="532"/>
                    </a:lnTo>
                    <a:lnTo>
                      <a:pt x="965" y="542"/>
                    </a:lnTo>
                    <a:lnTo>
                      <a:pt x="951" y="550"/>
                    </a:lnTo>
                    <a:lnTo>
                      <a:pt x="936" y="559"/>
                    </a:lnTo>
                    <a:lnTo>
                      <a:pt x="903" y="574"/>
                    </a:lnTo>
                    <a:lnTo>
                      <a:pt x="868" y="586"/>
                    </a:lnTo>
                    <a:lnTo>
                      <a:pt x="830" y="594"/>
                    </a:lnTo>
                    <a:lnTo>
                      <a:pt x="788" y="601"/>
                    </a:lnTo>
                    <a:lnTo>
                      <a:pt x="744" y="606"/>
                    </a:lnTo>
                    <a:lnTo>
                      <a:pt x="698" y="606"/>
                    </a:lnTo>
                    <a:lnTo>
                      <a:pt x="650" y="605"/>
                    </a:lnTo>
                    <a:lnTo>
                      <a:pt x="599" y="601"/>
                    </a:lnTo>
                    <a:lnTo>
                      <a:pt x="548" y="593"/>
                    </a:lnTo>
                    <a:lnTo>
                      <a:pt x="497" y="583"/>
                    </a:lnTo>
                    <a:lnTo>
                      <a:pt x="445" y="569"/>
                    </a:lnTo>
                    <a:lnTo>
                      <a:pt x="445" y="569"/>
                    </a:lnTo>
                    <a:lnTo>
                      <a:pt x="392" y="552"/>
                    </a:lnTo>
                    <a:lnTo>
                      <a:pt x="341" y="533"/>
                    </a:lnTo>
                    <a:lnTo>
                      <a:pt x="295" y="513"/>
                    </a:lnTo>
                    <a:lnTo>
                      <a:pt x="249" y="491"/>
                    </a:lnTo>
                    <a:lnTo>
                      <a:pt x="209" y="467"/>
                    </a:lnTo>
                    <a:lnTo>
                      <a:pt x="169" y="442"/>
                    </a:lnTo>
                    <a:lnTo>
                      <a:pt x="134" y="414"/>
                    </a:lnTo>
                    <a:lnTo>
                      <a:pt x="103" y="387"/>
                    </a:lnTo>
                    <a:lnTo>
                      <a:pt x="74" y="358"/>
                    </a:lnTo>
                    <a:lnTo>
                      <a:pt x="51" y="329"/>
                    </a:lnTo>
                    <a:lnTo>
                      <a:pt x="32" y="301"/>
                    </a:lnTo>
                    <a:lnTo>
                      <a:pt x="23" y="285"/>
                    </a:lnTo>
                    <a:lnTo>
                      <a:pt x="17" y="272"/>
                    </a:lnTo>
                    <a:lnTo>
                      <a:pt x="11" y="256"/>
                    </a:lnTo>
                    <a:lnTo>
                      <a:pt x="6" y="243"/>
                    </a:lnTo>
                    <a:lnTo>
                      <a:pt x="3" y="228"/>
                    </a:lnTo>
                    <a:lnTo>
                      <a:pt x="1" y="212"/>
                    </a:lnTo>
                    <a:lnTo>
                      <a:pt x="0" y="199"/>
                    </a:lnTo>
                    <a:lnTo>
                      <a:pt x="1" y="185"/>
                    </a:lnTo>
                    <a:lnTo>
                      <a:pt x="3" y="170"/>
                    </a:lnTo>
                    <a:lnTo>
                      <a:pt x="6" y="156"/>
                    </a:lnTo>
                    <a:lnTo>
                      <a:pt x="6" y="156"/>
                    </a:lnTo>
                    <a:lnTo>
                      <a:pt x="10" y="143"/>
                    </a:lnTo>
                    <a:lnTo>
                      <a:pt x="17" y="131"/>
                    </a:lnTo>
                    <a:lnTo>
                      <a:pt x="23" y="117"/>
                    </a:lnTo>
                    <a:lnTo>
                      <a:pt x="32" y="105"/>
                    </a:lnTo>
                    <a:lnTo>
                      <a:pt x="40" y="95"/>
                    </a:lnTo>
                    <a:lnTo>
                      <a:pt x="51" y="85"/>
                    </a:lnTo>
                    <a:lnTo>
                      <a:pt x="62" y="75"/>
                    </a:lnTo>
                    <a:lnTo>
                      <a:pt x="76" y="64"/>
                    </a:lnTo>
                    <a:lnTo>
                      <a:pt x="90" y="56"/>
                    </a:lnTo>
                    <a:lnTo>
                      <a:pt x="103" y="47"/>
                    </a:lnTo>
                    <a:lnTo>
                      <a:pt x="136" y="32"/>
                    </a:lnTo>
                    <a:lnTo>
                      <a:pt x="171" y="20"/>
                    </a:lnTo>
                    <a:lnTo>
                      <a:pt x="210" y="12"/>
                    </a:lnTo>
                    <a:lnTo>
                      <a:pt x="251" y="5"/>
                    </a:lnTo>
                    <a:lnTo>
                      <a:pt x="295" y="2"/>
                    </a:lnTo>
                    <a:lnTo>
                      <a:pt x="341" y="0"/>
                    </a:lnTo>
                    <a:lnTo>
                      <a:pt x="390" y="2"/>
                    </a:lnTo>
                    <a:lnTo>
                      <a:pt x="440" y="5"/>
                    </a:lnTo>
                    <a:lnTo>
                      <a:pt x="491" y="13"/>
                    </a:lnTo>
                    <a:lnTo>
                      <a:pt x="543" y="24"/>
                    </a:lnTo>
                    <a:lnTo>
                      <a:pt x="596" y="37"/>
                    </a:lnTo>
                    <a:lnTo>
                      <a:pt x="596" y="37"/>
                    </a:lnTo>
                    <a:lnTo>
                      <a:pt x="649" y="54"/>
                    </a:lnTo>
                    <a:lnTo>
                      <a:pt x="698" y="73"/>
                    </a:lnTo>
                    <a:lnTo>
                      <a:pt x="745" y="93"/>
                    </a:lnTo>
                    <a:lnTo>
                      <a:pt x="790" y="115"/>
                    </a:lnTo>
                    <a:lnTo>
                      <a:pt x="832" y="139"/>
                    </a:lnTo>
                    <a:lnTo>
                      <a:pt x="869" y="165"/>
                    </a:lnTo>
                    <a:lnTo>
                      <a:pt x="905" y="192"/>
                    </a:lnTo>
                    <a:lnTo>
                      <a:pt x="937" y="219"/>
                    </a:lnTo>
                    <a:lnTo>
                      <a:pt x="965" y="248"/>
                    </a:lnTo>
                    <a:lnTo>
                      <a:pt x="988" y="277"/>
                    </a:lnTo>
                    <a:lnTo>
                      <a:pt x="1009" y="306"/>
                    </a:lnTo>
                    <a:lnTo>
                      <a:pt x="1016" y="321"/>
                    </a:lnTo>
                    <a:lnTo>
                      <a:pt x="1022" y="335"/>
                    </a:lnTo>
                    <a:lnTo>
                      <a:pt x="1029" y="350"/>
                    </a:lnTo>
                    <a:lnTo>
                      <a:pt x="1033" y="365"/>
                    </a:lnTo>
                    <a:lnTo>
                      <a:pt x="1036" y="379"/>
                    </a:lnTo>
                    <a:lnTo>
                      <a:pt x="1039" y="394"/>
                    </a:lnTo>
                    <a:lnTo>
                      <a:pt x="1039" y="408"/>
                    </a:lnTo>
                    <a:lnTo>
                      <a:pt x="1039" y="423"/>
                    </a:lnTo>
                    <a:lnTo>
                      <a:pt x="1038" y="436"/>
                    </a:lnTo>
                    <a:lnTo>
                      <a:pt x="1034" y="450"/>
                    </a:lnTo>
                    <a:lnTo>
                      <a:pt x="1034" y="450"/>
                    </a:lnTo>
                    <a:close/>
                  </a:path>
                </a:pathLst>
              </a:custGeom>
              <a:noFill/>
              <a:ln w="38160">
                <a:solidFill>
                  <a:srgbClr val="00007d"/>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Freeform 38"/>
              <p:cNvSpPr/>
              <p:nvPr/>
            </p:nvSpPr>
            <p:spPr>
              <a:xfrm>
                <a:off x="1433160" y="523080"/>
                <a:ext cx="282240" cy="279720"/>
              </a:xfrm>
              <a:custGeom>
                <a:avLst/>
                <a:gdLst/>
                <a:ahLst/>
                <a:rect l="l" t="t" r="r" b="b"/>
                <a:pathLst>
                  <a:path w="749" h="747">
                    <a:moveTo>
                      <a:pt x="12" y="0"/>
                    </a:moveTo>
                    <a:lnTo>
                      <a:pt x="12" y="0"/>
                    </a:lnTo>
                    <a:lnTo>
                      <a:pt x="5" y="25"/>
                    </a:lnTo>
                    <a:lnTo>
                      <a:pt x="2" y="51"/>
                    </a:lnTo>
                    <a:lnTo>
                      <a:pt x="0" y="78"/>
                    </a:lnTo>
                    <a:lnTo>
                      <a:pt x="0" y="105"/>
                    </a:lnTo>
                    <a:lnTo>
                      <a:pt x="3" y="130"/>
                    </a:lnTo>
                    <a:lnTo>
                      <a:pt x="9" y="158"/>
                    </a:lnTo>
                    <a:lnTo>
                      <a:pt x="15" y="185"/>
                    </a:lnTo>
                    <a:lnTo>
                      <a:pt x="26" y="212"/>
                    </a:lnTo>
                    <a:lnTo>
                      <a:pt x="36" y="239"/>
                    </a:lnTo>
                    <a:lnTo>
                      <a:pt x="49" y="266"/>
                    </a:lnTo>
                    <a:lnTo>
                      <a:pt x="65" y="293"/>
                    </a:lnTo>
                    <a:lnTo>
                      <a:pt x="82" y="319"/>
                    </a:lnTo>
                    <a:lnTo>
                      <a:pt x="100" y="346"/>
                    </a:lnTo>
                    <a:lnTo>
                      <a:pt x="122" y="372"/>
                    </a:lnTo>
                    <a:lnTo>
                      <a:pt x="145" y="399"/>
                    </a:lnTo>
                    <a:lnTo>
                      <a:pt x="168" y="424"/>
                    </a:lnTo>
                    <a:lnTo>
                      <a:pt x="194" y="450"/>
                    </a:lnTo>
                    <a:lnTo>
                      <a:pt x="223" y="474"/>
                    </a:lnTo>
                    <a:lnTo>
                      <a:pt x="252" y="497"/>
                    </a:lnTo>
                    <a:lnTo>
                      <a:pt x="282" y="521"/>
                    </a:lnTo>
                    <a:lnTo>
                      <a:pt x="313" y="545"/>
                    </a:lnTo>
                    <a:lnTo>
                      <a:pt x="347" y="567"/>
                    </a:lnTo>
                    <a:lnTo>
                      <a:pt x="382" y="589"/>
                    </a:lnTo>
                    <a:lnTo>
                      <a:pt x="418" y="609"/>
                    </a:lnTo>
                    <a:lnTo>
                      <a:pt x="455" y="630"/>
                    </a:lnTo>
                    <a:lnTo>
                      <a:pt x="494" y="650"/>
                    </a:lnTo>
                    <a:lnTo>
                      <a:pt x="534" y="669"/>
                    </a:lnTo>
                    <a:lnTo>
                      <a:pt x="574" y="686"/>
                    </a:lnTo>
                    <a:lnTo>
                      <a:pt x="617" y="703"/>
                    </a:lnTo>
                    <a:lnTo>
                      <a:pt x="659" y="718"/>
                    </a:lnTo>
                    <a:lnTo>
                      <a:pt x="703" y="733"/>
                    </a:lnTo>
                    <a:lnTo>
                      <a:pt x="749" y="747"/>
                    </a:lnTo>
                  </a:path>
                </a:pathLst>
              </a:custGeom>
              <a:noFill/>
              <a:ln w="38160">
                <a:solidFill>
                  <a:srgbClr val="00007d"/>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Freeform 39"/>
              <p:cNvSpPr/>
              <p:nvPr/>
            </p:nvSpPr>
            <p:spPr>
              <a:xfrm>
                <a:off x="1716120" y="698400"/>
                <a:ext cx="391680" cy="125640"/>
              </a:xfrm>
              <a:custGeom>
                <a:avLst/>
                <a:gdLst/>
                <a:ahLst/>
                <a:rect l="l" t="t" r="r" b="b"/>
                <a:pathLst>
                  <a:path w="1037" h="337">
                    <a:moveTo>
                      <a:pt x="1037" y="0"/>
                    </a:moveTo>
                    <a:lnTo>
                      <a:pt x="1037" y="0"/>
                    </a:lnTo>
                    <a:lnTo>
                      <a:pt x="1028" y="28"/>
                    </a:lnTo>
                    <a:lnTo>
                      <a:pt x="1016" y="53"/>
                    </a:lnTo>
                    <a:lnTo>
                      <a:pt x="1003" y="79"/>
                    </a:lnTo>
                    <a:lnTo>
                      <a:pt x="987" y="102"/>
                    </a:lnTo>
                    <a:lnTo>
                      <a:pt x="970" y="124"/>
                    </a:lnTo>
                    <a:lnTo>
                      <a:pt x="952" y="146"/>
                    </a:lnTo>
                    <a:lnTo>
                      <a:pt x="931" y="167"/>
                    </a:lnTo>
                    <a:lnTo>
                      <a:pt x="908" y="187"/>
                    </a:lnTo>
                    <a:lnTo>
                      <a:pt x="884" y="206"/>
                    </a:lnTo>
                    <a:lnTo>
                      <a:pt x="858" y="223"/>
                    </a:lnTo>
                    <a:lnTo>
                      <a:pt x="829" y="238"/>
                    </a:lnTo>
                    <a:lnTo>
                      <a:pt x="800" y="254"/>
                    </a:lnTo>
                    <a:lnTo>
                      <a:pt x="770" y="267"/>
                    </a:lnTo>
                    <a:lnTo>
                      <a:pt x="738" y="281"/>
                    </a:lnTo>
                    <a:lnTo>
                      <a:pt x="705" y="293"/>
                    </a:lnTo>
                    <a:lnTo>
                      <a:pt x="670" y="301"/>
                    </a:lnTo>
                    <a:lnTo>
                      <a:pt x="634" y="311"/>
                    </a:lnTo>
                    <a:lnTo>
                      <a:pt x="598" y="318"/>
                    </a:lnTo>
                    <a:lnTo>
                      <a:pt x="559" y="325"/>
                    </a:lnTo>
                    <a:lnTo>
                      <a:pt x="520" y="330"/>
                    </a:lnTo>
                    <a:lnTo>
                      <a:pt x="481" y="333"/>
                    </a:lnTo>
                    <a:lnTo>
                      <a:pt x="440" y="335"/>
                    </a:lnTo>
                    <a:lnTo>
                      <a:pt x="400" y="337"/>
                    </a:lnTo>
                    <a:lnTo>
                      <a:pt x="357" y="335"/>
                    </a:lnTo>
                    <a:lnTo>
                      <a:pt x="315" y="333"/>
                    </a:lnTo>
                    <a:lnTo>
                      <a:pt x="270" y="330"/>
                    </a:lnTo>
                    <a:lnTo>
                      <a:pt x="226" y="325"/>
                    </a:lnTo>
                    <a:lnTo>
                      <a:pt x="182" y="320"/>
                    </a:lnTo>
                    <a:lnTo>
                      <a:pt x="136" y="311"/>
                    </a:lnTo>
                    <a:lnTo>
                      <a:pt x="92" y="303"/>
                    </a:lnTo>
                    <a:lnTo>
                      <a:pt x="46" y="291"/>
                    </a:lnTo>
                    <a:lnTo>
                      <a:pt x="0" y="279"/>
                    </a:lnTo>
                  </a:path>
                </a:pathLst>
              </a:custGeom>
              <a:noFill/>
              <a:ln w="38160">
                <a:solidFill>
                  <a:srgbClr val="00007d"/>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Freeform 40"/>
              <p:cNvSpPr/>
              <p:nvPr/>
            </p:nvSpPr>
            <p:spPr>
              <a:xfrm>
                <a:off x="1326600" y="729720"/>
                <a:ext cx="338040" cy="263520"/>
              </a:xfrm>
              <a:custGeom>
                <a:avLst/>
                <a:gdLst/>
                <a:ahLst/>
                <a:rect l="l" t="t" r="r" b="b"/>
                <a:pathLst>
                  <a:path w="897" h="710">
                    <a:moveTo>
                      <a:pt x="7" y="0"/>
                    </a:moveTo>
                    <a:lnTo>
                      <a:pt x="7" y="0"/>
                    </a:lnTo>
                    <a:lnTo>
                      <a:pt x="1" y="22"/>
                    </a:lnTo>
                    <a:lnTo>
                      <a:pt x="0" y="44"/>
                    </a:lnTo>
                    <a:lnTo>
                      <a:pt x="0" y="68"/>
                    </a:lnTo>
                    <a:lnTo>
                      <a:pt x="3" y="90"/>
                    </a:lnTo>
                    <a:lnTo>
                      <a:pt x="8" y="113"/>
                    </a:lnTo>
                    <a:lnTo>
                      <a:pt x="15" y="137"/>
                    </a:lnTo>
                    <a:lnTo>
                      <a:pt x="25" y="163"/>
                    </a:lnTo>
                    <a:lnTo>
                      <a:pt x="39" y="187"/>
                    </a:lnTo>
                    <a:lnTo>
                      <a:pt x="54" y="210"/>
                    </a:lnTo>
                    <a:lnTo>
                      <a:pt x="71" y="236"/>
                    </a:lnTo>
                    <a:lnTo>
                      <a:pt x="90" y="260"/>
                    </a:lnTo>
                    <a:lnTo>
                      <a:pt x="112" y="285"/>
                    </a:lnTo>
                    <a:lnTo>
                      <a:pt x="134" y="309"/>
                    </a:lnTo>
                    <a:lnTo>
                      <a:pt x="159" y="334"/>
                    </a:lnTo>
                    <a:lnTo>
                      <a:pt x="188" y="358"/>
                    </a:lnTo>
                    <a:lnTo>
                      <a:pt x="217" y="382"/>
                    </a:lnTo>
                    <a:lnTo>
                      <a:pt x="248" y="407"/>
                    </a:lnTo>
                    <a:lnTo>
                      <a:pt x="280" y="431"/>
                    </a:lnTo>
                    <a:lnTo>
                      <a:pt x="316" y="453"/>
                    </a:lnTo>
                    <a:lnTo>
                      <a:pt x="351" y="477"/>
                    </a:lnTo>
                    <a:lnTo>
                      <a:pt x="389" y="499"/>
                    </a:lnTo>
                    <a:lnTo>
                      <a:pt x="430" y="521"/>
                    </a:lnTo>
                    <a:lnTo>
                      <a:pt x="470" y="543"/>
                    </a:lnTo>
                    <a:lnTo>
                      <a:pt x="513" y="565"/>
                    </a:lnTo>
                    <a:lnTo>
                      <a:pt x="555" y="586"/>
                    </a:lnTo>
                    <a:lnTo>
                      <a:pt x="601" y="606"/>
                    </a:lnTo>
                    <a:lnTo>
                      <a:pt x="647" y="625"/>
                    </a:lnTo>
                    <a:lnTo>
                      <a:pt x="695" y="643"/>
                    </a:lnTo>
                    <a:lnTo>
                      <a:pt x="744" y="662"/>
                    </a:lnTo>
                    <a:lnTo>
                      <a:pt x="793" y="679"/>
                    </a:lnTo>
                    <a:lnTo>
                      <a:pt x="844" y="694"/>
                    </a:lnTo>
                    <a:lnTo>
                      <a:pt x="897" y="710"/>
                    </a:lnTo>
                  </a:path>
                </a:pathLst>
              </a:custGeom>
              <a:noFill/>
              <a:ln w="38160">
                <a:solidFill>
                  <a:srgbClr val="00007d"/>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Freeform 41"/>
              <p:cNvSpPr/>
              <p:nvPr/>
            </p:nvSpPr>
            <p:spPr>
              <a:xfrm>
                <a:off x="1666440" y="944280"/>
                <a:ext cx="427320" cy="83880"/>
              </a:xfrm>
              <a:custGeom>
                <a:avLst/>
                <a:gdLst/>
                <a:ahLst/>
                <a:rect l="l" t="t" r="r" b="b"/>
                <a:pathLst>
                  <a:path w="1132" h="224">
                    <a:moveTo>
                      <a:pt x="1132" y="0"/>
                    </a:moveTo>
                    <a:lnTo>
                      <a:pt x="1132" y="0"/>
                    </a:lnTo>
                    <a:lnTo>
                      <a:pt x="1125" y="22"/>
                    </a:lnTo>
                    <a:lnTo>
                      <a:pt x="1115" y="43"/>
                    </a:lnTo>
                    <a:lnTo>
                      <a:pt x="1103" y="61"/>
                    </a:lnTo>
                    <a:lnTo>
                      <a:pt x="1087" y="80"/>
                    </a:lnTo>
                    <a:lnTo>
                      <a:pt x="1070" y="97"/>
                    </a:lnTo>
                    <a:lnTo>
                      <a:pt x="1050" y="114"/>
                    </a:lnTo>
                    <a:lnTo>
                      <a:pt x="1030" y="129"/>
                    </a:lnTo>
                    <a:lnTo>
                      <a:pt x="1006" y="143"/>
                    </a:lnTo>
                    <a:lnTo>
                      <a:pt x="980" y="155"/>
                    </a:lnTo>
                    <a:lnTo>
                      <a:pt x="953" y="167"/>
                    </a:lnTo>
                    <a:lnTo>
                      <a:pt x="923" y="179"/>
                    </a:lnTo>
                    <a:lnTo>
                      <a:pt x="892" y="187"/>
                    </a:lnTo>
                    <a:lnTo>
                      <a:pt x="860" y="196"/>
                    </a:lnTo>
                    <a:lnTo>
                      <a:pt x="824" y="204"/>
                    </a:lnTo>
                    <a:lnTo>
                      <a:pt x="788" y="209"/>
                    </a:lnTo>
                    <a:lnTo>
                      <a:pt x="751" y="214"/>
                    </a:lnTo>
                    <a:lnTo>
                      <a:pt x="712" y="219"/>
                    </a:lnTo>
                    <a:lnTo>
                      <a:pt x="671" y="221"/>
                    </a:lnTo>
                    <a:lnTo>
                      <a:pt x="629" y="223"/>
                    </a:lnTo>
                    <a:lnTo>
                      <a:pt x="586" y="224"/>
                    </a:lnTo>
                    <a:lnTo>
                      <a:pt x="542" y="223"/>
                    </a:lnTo>
                    <a:lnTo>
                      <a:pt x="498" y="221"/>
                    </a:lnTo>
                    <a:lnTo>
                      <a:pt x="450" y="218"/>
                    </a:lnTo>
                    <a:lnTo>
                      <a:pt x="405" y="214"/>
                    </a:lnTo>
                    <a:lnTo>
                      <a:pt x="355" y="207"/>
                    </a:lnTo>
                    <a:lnTo>
                      <a:pt x="306" y="202"/>
                    </a:lnTo>
                    <a:lnTo>
                      <a:pt x="257" y="194"/>
                    </a:lnTo>
                    <a:lnTo>
                      <a:pt x="207" y="184"/>
                    </a:lnTo>
                    <a:lnTo>
                      <a:pt x="156" y="173"/>
                    </a:lnTo>
                    <a:lnTo>
                      <a:pt x="106" y="162"/>
                    </a:lnTo>
                    <a:lnTo>
                      <a:pt x="53" y="150"/>
                    </a:lnTo>
                    <a:lnTo>
                      <a:pt x="0" y="134"/>
                    </a:lnTo>
                  </a:path>
                </a:pathLst>
              </a:custGeom>
              <a:noFill/>
              <a:ln w="38160">
                <a:solidFill>
                  <a:srgbClr val="00007d"/>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46" name="Freeform 42"/>
              <p:cNvSpPr/>
              <p:nvPr/>
            </p:nvSpPr>
            <p:spPr>
              <a:xfrm>
                <a:off x="1368000" y="965160"/>
                <a:ext cx="258840" cy="167760"/>
              </a:xfrm>
              <a:custGeom>
                <a:avLst/>
                <a:gdLst/>
                <a:ahLst/>
                <a:rect l="l" t="t" r="r" b="b"/>
                <a:pathLst>
                  <a:path w="688" h="450">
                    <a:moveTo>
                      <a:pt x="4" y="0"/>
                    </a:moveTo>
                    <a:lnTo>
                      <a:pt x="4" y="0"/>
                    </a:lnTo>
                    <a:lnTo>
                      <a:pt x="2" y="11"/>
                    </a:lnTo>
                    <a:lnTo>
                      <a:pt x="0" y="25"/>
                    </a:lnTo>
                    <a:lnTo>
                      <a:pt x="2" y="39"/>
                    </a:lnTo>
                    <a:lnTo>
                      <a:pt x="5" y="51"/>
                    </a:lnTo>
                    <a:lnTo>
                      <a:pt x="10" y="66"/>
                    </a:lnTo>
                    <a:lnTo>
                      <a:pt x="17" y="79"/>
                    </a:lnTo>
                    <a:lnTo>
                      <a:pt x="26" y="93"/>
                    </a:lnTo>
                    <a:lnTo>
                      <a:pt x="36" y="108"/>
                    </a:lnTo>
                    <a:lnTo>
                      <a:pt x="48" y="122"/>
                    </a:lnTo>
                    <a:lnTo>
                      <a:pt x="61" y="137"/>
                    </a:lnTo>
                    <a:lnTo>
                      <a:pt x="94" y="168"/>
                    </a:lnTo>
                    <a:lnTo>
                      <a:pt x="133" y="198"/>
                    </a:lnTo>
                    <a:lnTo>
                      <a:pt x="175" y="229"/>
                    </a:lnTo>
                    <a:lnTo>
                      <a:pt x="224" y="259"/>
                    </a:lnTo>
                    <a:lnTo>
                      <a:pt x="279" y="288"/>
                    </a:lnTo>
                    <a:lnTo>
                      <a:pt x="338" y="319"/>
                    </a:lnTo>
                    <a:lnTo>
                      <a:pt x="401" y="348"/>
                    </a:lnTo>
                    <a:lnTo>
                      <a:pt x="467" y="375"/>
                    </a:lnTo>
                    <a:lnTo>
                      <a:pt x="537" y="400"/>
                    </a:lnTo>
                    <a:lnTo>
                      <a:pt x="612" y="426"/>
                    </a:lnTo>
                    <a:lnTo>
                      <a:pt x="688" y="450"/>
                    </a:lnTo>
                  </a:path>
                </a:pathLst>
              </a:custGeom>
              <a:noFill/>
              <a:ln w="38160">
                <a:solidFill>
                  <a:srgbClr val="00007d"/>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Freeform 43"/>
              <p:cNvSpPr/>
              <p:nvPr/>
            </p:nvSpPr>
            <p:spPr>
              <a:xfrm>
                <a:off x="1625760" y="1131480"/>
                <a:ext cx="266400" cy="41400"/>
              </a:xfrm>
              <a:custGeom>
                <a:avLst/>
                <a:gdLst/>
                <a:ahLst/>
                <a:rect l="l" t="t" r="r" b="b"/>
                <a:pathLst>
                  <a:path w="707" h="107">
                    <a:moveTo>
                      <a:pt x="707" y="73"/>
                    </a:moveTo>
                    <a:lnTo>
                      <a:pt x="707" y="73"/>
                    </a:lnTo>
                    <a:lnTo>
                      <a:pt x="705" y="78"/>
                    </a:lnTo>
                    <a:lnTo>
                      <a:pt x="700" y="83"/>
                    </a:lnTo>
                    <a:lnTo>
                      <a:pt x="695" y="88"/>
                    </a:lnTo>
                    <a:lnTo>
                      <a:pt x="686" y="93"/>
                    </a:lnTo>
                    <a:lnTo>
                      <a:pt x="678" y="97"/>
                    </a:lnTo>
                    <a:lnTo>
                      <a:pt x="668" y="100"/>
                    </a:lnTo>
                    <a:lnTo>
                      <a:pt x="642" y="104"/>
                    </a:lnTo>
                    <a:lnTo>
                      <a:pt x="610" y="107"/>
                    </a:lnTo>
                    <a:lnTo>
                      <a:pt x="574" y="107"/>
                    </a:lnTo>
                    <a:lnTo>
                      <a:pt x="532" y="105"/>
                    </a:lnTo>
                    <a:lnTo>
                      <a:pt x="486" y="100"/>
                    </a:lnTo>
                    <a:lnTo>
                      <a:pt x="437" y="95"/>
                    </a:lnTo>
                    <a:lnTo>
                      <a:pt x="382" y="87"/>
                    </a:lnTo>
                    <a:lnTo>
                      <a:pt x="326" y="76"/>
                    </a:lnTo>
                    <a:lnTo>
                      <a:pt x="265" y="66"/>
                    </a:lnTo>
                    <a:lnTo>
                      <a:pt x="202" y="51"/>
                    </a:lnTo>
                    <a:lnTo>
                      <a:pt x="136" y="36"/>
                    </a:lnTo>
                    <a:lnTo>
                      <a:pt x="70" y="19"/>
                    </a:lnTo>
                    <a:lnTo>
                      <a:pt x="0" y="0"/>
                    </a:lnTo>
                  </a:path>
                </a:pathLst>
              </a:custGeom>
              <a:noFill/>
              <a:ln w="38160">
                <a:solidFill>
                  <a:srgbClr val="00007d"/>
                </a:solidFill>
                <a:round/>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248" name="Line 44"/>
              <p:cNvSpPr/>
              <p:nvPr/>
            </p:nvSpPr>
            <p:spPr>
              <a:xfrm flipH="1">
                <a:off x="1615680" y="420840"/>
                <a:ext cx="220320" cy="768600"/>
              </a:xfrm>
              <a:prstGeom prst="line">
                <a:avLst/>
              </a:prstGeom>
              <a:ln w="3816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Freeform 45"/>
              <p:cNvSpPr/>
              <p:nvPr/>
            </p:nvSpPr>
            <p:spPr>
              <a:xfrm>
                <a:off x="1322280" y="404640"/>
                <a:ext cx="800280" cy="795600"/>
              </a:xfrm>
              <a:custGeom>
                <a:avLst/>
                <a:gdLst/>
                <a:ahLst/>
                <a:rect l="l" t="t" r="r" b="b"/>
                <a:pathLst>
                  <a:path w="2117" h="2132">
                    <a:moveTo>
                      <a:pt x="2076" y="1357"/>
                    </a:moveTo>
                    <a:lnTo>
                      <a:pt x="2076" y="1357"/>
                    </a:lnTo>
                    <a:lnTo>
                      <a:pt x="2059" y="1410"/>
                    </a:lnTo>
                    <a:lnTo>
                      <a:pt x="2041" y="1461"/>
                    </a:lnTo>
                    <a:lnTo>
                      <a:pt x="2020" y="1510"/>
                    </a:lnTo>
                    <a:lnTo>
                      <a:pt x="1996" y="1558"/>
                    </a:lnTo>
                    <a:lnTo>
                      <a:pt x="1971" y="1604"/>
                    </a:lnTo>
                    <a:lnTo>
                      <a:pt x="1944" y="1650"/>
                    </a:lnTo>
                    <a:lnTo>
                      <a:pt x="1913" y="1692"/>
                    </a:lnTo>
                    <a:lnTo>
                      <a:pt x="1883" y="1733"/>
                    </a:lnTo>
                    <a:lnTo>
                      <a:pt x="1849" y="1774"/>
                    </a:lnTo>
                    <a:lnTo>
                      <a:pt x="1813" y="1811"/>
                    </a:lnTo>
                    <a:lnTo>
                      <a:pt x="1777" y="1847"/>
                    </a:lnTo>
                    <a:lnTo>
                      <a:pt x="1738" y="1881"/>
                    </a:lnTo>
                    <a:lnTo>
                      <a:pt x="1699" y="1913"/>
                    </a:lnTo>
                    <a:lnTo>
                      <a:pt x="1657" y="1944"/>
                    </a:lnTo>
                    <a:lnTo>
                      <a:pt x="1614" y="1971"/>
                    </a:lnTo>
                    <a:lnTo>
                      <a:pt x="1572" y="1998"/>
                    </a:lnTo>
                    <a:lnTo>
                      <a:pt x="1526" y="2022"/>
                    </a:lnTo>
                    <a:lnTo>
                      <a:pt x="1480" y="2042"/>
                    </a:lnTo>
                    <a:lnTo>
                      <a:pt x="1432" y="2062"/>
                    </a:lnTo>
                    <a:lnTo>
                      <a:pt x="1385" y="2079"/>
                    </a:lnTo>
                    <a:lnTo>
                      <a:pt x="1336" y="2095"/>
                    </a:lnTo>
                    <a:lnTo>
                      <a:pt x="1286" y="2107"/>
                    </a:lnTo>
                    <a:lnTo>
                      <a:pt x="1235" y="2117"/>
                    </a:lnTo>
                    <a:lnTo>
                      <a:pt x="1184" y="2125"/>
                    </a:lnTo>
                    <a:lnTo>
                      <a:pt x="1133" y="2130"/>
                    </a:lnTo>
                    <a:lnTo>
                      <a:pt x="1081" y="2132"/>
                    </a:lnTo>
                    <a:lnTo>
                      <a:pt x="1030" y="2132"/>
                    </a:lnTo>
                    <a:lnTo>
                      <a:pt x="977" y="2130"/>
                    </a:lnTo>
                    <a:lnTo>
                      <a:pt x="924" y="2125"/>
                    </a:lnTo>
                    <a:lnTo>
                      <a:pt x="872" y="2117"/>
                    </a:lnTo>
                    <a:lnTo>
                      <a:pt x="819" y="2107"/>
                    </a:lnTo>
                    <a:lnTo>
                      <a:pt x="766" y="2093"/>
                    </a:lnTo>
                    <a:lnTo>
                      <a:pt x="766" y="2093"/>
                    </a:lnTo>
                    <a:lnTo>
                      <a:pt x="714" y="2076"/>
                    </a:lnTo>
                    <a:lnTo>
                      <a:pt x="663" y="2057"/>
                    </a:lnTo>
                    <a:lnTo>
                      <a:pt x="613" y="2037"/>
                    </a:lnTo>
                    <a:lnTo>
                      <a:pt x="568" y="2013"/>
                    </a:lnTo>
                    <a:lnTo>
                      <a:pt x="520" y="1988"/>
                    </a:lnTo>
                    <a:lnTo>
                      <a:pt x="476" y="1961"/>
                    </a:lnTo>
                    <a:lnTo>
                      <a:pt x="433" y="1930"/>
                    </a:lnTo>
                    <a:lnTo>
                      <a:pt x="393" y="1899"/>
                    </a:lnTo>
                    <a:lnTo>
                      <a:pt x="354" y="1865"/>
                    </a:lnTo>
                    <a:lnTo>
                      <a:pt x="316" y="1830"/>
                    </a:lnTo>
                    <a:lnTo>
                      <a:pt x="281" y="1794"/>
                    </a:lnTo>
                    <a:lnTo>
                      <a:pt x="247" y="1755"/>
                    </a:lnTo>
                    <a:lnTo>
                      <a:pt x="216" y="1714"/>
                    </a:lnTo>
                    <a:lnTo>
                      <a:pt x="185" y="1673"/>
                    </a:lnTo>
                    <a:lnTo>
                      <a:pt x="158" y="1631"/>
                    </a:lnTo>
                    <a:lnTo>
                      <a:pt x="133" y="1587"/>
                    </a:lnTo>
                    <a:lnTo>
                      <a:pt x="109" y="1541"/>
                    </a:lnTo>
                    <a:lnTo>
                      <a:pt x="87" y="1495"/>
                    </a:lnTo>
                    <a:lnTo>
                      <a:pt x="68" y="1448"/>
                    </a:lnTo>
                    <a:lnTo>
                      <a:pt x="51" y="1400"/>
                    </a:lnTo>
                    <a:lnTo>
                      <a:pt x="38" y="1351"/>
                    </a:lnTo>
                    <a:lnTo>
                      <a:pt x="24" y="1300"/>
                    </a:lnTo>
                    <a:lnTo>
                      <a:pt x="15" y="1249"/>
                    </a:lnTo>
                    <a:lnTo>
                      <a:pt x="7" y="1198"/>
                    </a:lnTo>
                    <a:lnTo>
                      <a:pt x="2" y="1147"/>
                    </a:lnTo>
                    <a:lnTo>
                      <a:pt x="0" y="1094"/>
                    </a:lnTo>
                    <a:lnTo>
                      <a:pt x="0" y="1042"/>
                    </a:lnTo>
                    <a:lnTo>
                      <a:pt x="4" y="989"/>
                    </a:lnTo>
                    <a:lnTo>
                      <a:pt x="9" y="936"/>
                    </a:lnTo>
                    <a:lnTo>
                      <a:pt x="17" y="882"/>
                    </a:lnTo>
                    <a:lnTo>
                      <a:pt x="27" y="829"/>
                    </a:lnTo>
                    <a:lnTo>
                      <a:pt x="41" y="777"/>
                    </a:lnTo>
                    <a:lnTo>
                      <a:pt x="41" y="777"/>
                    </a:lnTo>
                    <a:lnTo>
                      <a:pt x="58" y="724"/>
                    </a:lnTo>
                    <a:lnTo>
                      <a:pt x="77" y="673"/>
                    </a:lnTo>
                    <a:lnTo>
                      <a:pt x="99" y="624"/>
                    </a:lnTo>
                    <a:lnTo>
                      <a:pt x="121" y="576"/>
                    </a:lnTo>
                    <a:lnTo>
                      <a:pt x="146" y="529"/>
                    </a:lnTo>
                    <a:lnTo>
                      <a:pt x="175" y="484"/>
                    </a:lnTo>
                    <a:lnTo>
                      <a:pt x="204" y="442"/>
                    </a:lnTo>
                    <a:lnTo>
                      <a:pt x="236" y="399"/>
                    </a:lnTo>
                    <a:lnTo>
                      <a:pt x="269" y="360"/>
                    </a:lnTo>
                    <a:lnTo>
                      <a:pt x="304" y="323"/>
                    </a:lnTo>
                    <a:lnTo>
                      <a:pt x="340" y="286"/>
                    </a:lnTo>
                    <a:lnTo>
                      <a:pt x="379" y="252"/>
                    </a:lnTo>
                    <a:lnTo>
                      <a:pt x="418" y="219"/>
                    </a:lnTo>
                    <a:lnTo>
                      <a:pt x="461" y="190"/>
                    </a:lnTo>
                    <a:lnTo>
                      <a:pt x="503" y="162"/>
                    </a:lnTo>
                    <a:lnTo>
                      <a:pt x="547" y="136"/>
                    </a:lnTo>
                    <a:lnTo>
                      <a:pt x="591" y="112"/>
                    </a:lnTo>
                    <a:lnTo>
                      <a:pt x="637" y="90"/>
                    </a:lnTo>
                    <a:lnTo>
                      <a:pt x="685" y="72"/>
                    </a:lnTo>
                    <a:lnTo>
                      <a:pt x="732" y="53"/>
                    </a:lnTo>
                    <a:lnTo>
                      <a:pt x="782" y="39"/>
                    </a:lnTo>
                    <a:lnTo>
                      <a:pt x="831" y="26"/>
                    </a:lnTo>
                    <a:lnTo>
                      <a:pt x="882" y="15"/>
                    </a:lnTo>
                    <a:lnTo>
                      <a:pt x="933" y="9"/>
                    </a:lnTo>
                    <a:lnTo>
                      <a:pt x="984" y="4"/>
                    </a:lnTo>
                    <a:lnTo>
                      <a:pt x="1037" y="0"/>
                    </a:lnTo>
                    <a:lnTo>
                      <a:pt x="1087" y="0"/>
                    </a:lnTo>
                    <a:lnTo>
                      <a:pt x="1140" y="4"/>
                    </a:lnTo>
                    <a:lnTo>
                      <a:pt x="1193" y="9"/>
                    </a:lnTo>
                    <a:lnTo>
                      <a:pt x="1245" y="17"/>
                    </a:lnTo>
                    <a:lnTo>
                      <a:pt x="1300" y="27"/>
                    </a:lnTo>
                    <a:lnTo>
                      <a:pt x="1353" y="41"/>
                    </a:lnTo>
                    <a:lnTo>
                      <a:pt x="1353" y="41"/>
                    </a:lnTo>
                    <a:lnTo>
                      <a:pt x="1403" y="56"/>
                    </a:lnTo>
                    <a:lnTo>
                      <a:pt x="1454" y="75"/>
                    </a:lnTo>
                    <a:lnTo>
                      <a:pt x="1504" y="97"/>
                    </a:lnTo>
                    <a:lnTo>
                      <a:pt x="1551" y="121"/>
                    </a:lnTo>
                    <a:lnTo>
                      <a:pt x="1597" y="146"/>
                    </a:lnTo>
                    <a:lnTo>
                      <a:pt x="1641" y="173"/>
                    </a:lnTo>
                    <a:lnTo>
                      <a:pt x="1684" y="202"/>
                    </a:lnTo>
                    <a:lnTo>
                      <a:pt x="1725" y="235"/>
                    </a:lnTo>
                    <a:lnTo>
                      <a:pt x="1764" y="269"/>
                    </a:lnTo>
                    <a:lnTo>
                      <a:pt x="1801" y="303"/>
                    </a:lnTo>
                    <a:lnTo>
                      <a:pt x="1837" y="340"/>
                    </a:lnTo>
                    <a:lnTo>
                      <a:pt x="1871" y="379"/>
                    </a:lnTo>
                    <a:lnTo>
                      <a:pt x="1903" y="418"/>
                    </a:lnTo>
                    <a:lnTo>
                      <a:pt x="1932" y="461"/>
                    </a:lnTo>
                    <a:lnTo>
                      <a:pt x="1959" y="503"/>
                    </a:lnTo>
                    <a:lnTo>
                      <a:pt x="1984" y="547"/>
                    </a:lnTo>
                    <a:lnTo>
                      <a:pt x="2008" y="591"/>
                    </a:lnTo>
                    <a:lnTo>
                      <a:pt x="2030" y="639"/>
                    </a:lnTo>
                    <a:lnTo>
                      <a:pt x="2049" y="685"/>
                    </a:lnTo>
                    <a:lnTo>
                      <a:pt x="2066" y="734"/>
                    </a:lnTo>
                    <a:lnTo>
                      <a:pt x="2081" y="783"/>
                    </a:lnTo>
                    <a:lnTo>
                      <a:pt x="2093" y="833"/>
                    </a:lnTo>
                    <a:lnTo>
                      <a:pt x="2103" y="884"/>
                    </a:lnTo>
                    <a:lnTo>
                      <a:pt x="2110" y="934"/>
                    </a:lnTo>
                    <a:lnTo>
                      <a:pt x="2115" y="987"/>
                    </a:lnTo>
                    <a:lnTo>
                      <a:pt x="2117" y="1038"/>
                    </a:lnTo>
                    <a:lnTo>
                      <a:pt x="2117" y="1091"/>
                    </a:lnTo>
                    <a:lnTo>
                      <a:pt x="2114" y="1145"/>
                    </a:lnTo>
                    <a:lnTo>
                      <a:pt x="2109" y="1198"/>
                    </a:lnTo>
                    <a:lnTo>
                      <a:pt x="2100" y="1250"/>
                    </a:lnTo>
                    <a:lnTo>
                      <a:pt x="2090" y="1303"/>
                    </a:lnTo>
                    <a:lnTo>
                      <a:pt x="2076" y="1357"/>
                    </a:lnTo>
                    <a:lnTo>
                      <a:pt x="2076" y="1357"/>
                    </a:lnTo>
                    <a:close/>
                  </a:path>
                </a:pathLst>
              </a:custGeom>
              <a:noFill/>
              <a:ln w="38160">
                <a:solidFill>
                  <a:srgbClr val="00007d"/>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Freeform 46"/>
              <p:cNvSpPr/>
              <p:nvPr/>
            </p:nvSpPr>
            <p:spPr>
              <a:xfrm>
                <a:off x="1323720" y="404640"/>
                <a:ext cx="800280" cy="795600"/>
              </a:xfrm>
              <a:custGeom>
                <a:avLst/>
                <a:gdLst/>
                <a:ahLst/>
                <a:rect l="l" t="t" r="r" b="b"/>
                <a:pathLst>
                  <a:path w="2117" h="2132">
                    <a:moveTo>
                      <a:pt x="2076" y="1357"/>
                    </a:moveTo>
                    <a:lnTo>
                      <a:pt x="2076" y="1357"/>
                    </a:lnTo>
                    <a:lnTo>
                      <a:pt x="2059" y="1408"/>
                    </a:lnTo>
                    <a:lnTo>
                      <a:pt x="2040" y="1459"/>
                    </a:lnTo>
                    <a:lnTo>
                      <a:pt x="2020" y="1510"/>
                    </a:lnTo>
                    <a:lnTo>
                      <a:pt x="1996" y="1558"/>
                    </a:lnTo>
                    <a:lnTo>
                      <a:pt x="1971" y="1604"/>
                    </a:lnTo>
                    <a:lnTo>
                      <a:pt x="1944" y="1648"/>
                    </a:lnTo>
                    <a:lnTo>
                      <a:pt x="1913" y="1692"/>
                    </a:lnTo>
                    <a:lnTo>
                      <a:pt x="1882" y="1733"/>
                    </a:lnTo>
                    <a:lnTo>
                      <a:pt x="1848" y="1773"/>
                    </a:lnTo>
                    <a:lnTo>
                      <a:pt x="1813" y="1811"/>
                    </a:lnTo>
                    <a:lnTo>
                      <a:pt x="1777" y="1846"/>
                    </a:lnTo>
                    <a:lnTo>
                      <a:pt x="1738" y="1880"/>
                    </a:lnTo>
                    <a:lnTo>
                      <a:pt x="1699" y="1913"/>
                    </a:lnTo>
                    <a:lnTo>
                      <a:pt x="1656" y="1943"/>
                    </a:lnTo>
                    <a:lnTo>
                      <a:pt x="1614" y="1970"/>
                    </a:lnTo>
                    <a:lnTo>
                      <a:pt x="1570" y="1998"/>
                    </a:lnTo>
                    <a:lnTo>
                      <a:pt x="1526" y="2021"/>
                    </a:lnTo>
                    <a:lnTo>
                      <a:pt x="1480" y="2042"/>
                    </a:lnTo>
                    <a:lnTo>
                      <a:pt x="1432" y="2062"/>
                    </a:lnTo>
                    <a:lnTo>
                      <a:pt x="1385" y="2079"/>
                    </a:lnTo>
                    <a:lnTo>
                      <a:pt x="1335" y="2094"/>
                    </a:lnTo>
                    <a:lnTo>
                      <a:pt x="1286" y="2106"/>
                    </a:lnTo>
                    <a:lnTo>
                      <a:pt x="1235" y="2117"/>
                    </a:lnTo>
                    <a:lnTo>
                      <a:pt x="1184" y="2125"/>
                    </a:lnTo>
                    <a:lnTo>
                      <a:pt x="1133" y="2130"/>
                    </a:lnTo>
                    <a:lnTo>
                      <a:pt x="1080" y="2132"/>
                    </a:lnTo>
                    <a:lnTo>
                      <a:pt x="1030" y="2132"/>
                    </a:lnTo>
                    <a:lnTo>
                      <a:pt x="977" y="2130"/>
                    </a:lnTo>
                    <a:lnTo>
                      <a:pt x="924" y="2125"/>
                    </a:lnTo>
                    <a:lnTo>
                      <a:pt x="872" y="2117"/>
                    </a:lnTo>
                    <a:lnTo>
                      <a:pt x="819" y="2105"/>
                    </a:lnTo>
                    <a:lnTo>
                      <a:pt x="766" y="2091"/>
                    </a:lnTo>
                    <a:lnTo>
                      <a:pt x="766" y="2091"/>
                    </a:lnTo>
                    <a:lnTo>
                      <a:pt x="714" y="2076"/>
                    </a:lnTo>
                    <a:lnTo>
                      <a:pt x="663" y="2057"/>
                    </a:lnTo>
                    <a:lnTo>
                      <a:pt x="613" y="2035"/>
                    </a:lnTo>
                    <a:lnTo>
                      <a:pt x="566" y="2013"/>
                    </a:lnTo>
                    <a:lnTo>
                      <a:pt x="520" y="1987"/>
                    </a:lnTo>
                    <a:lnTo>
                      <a:pt x="476" y="1959"/>
                    </a:lnTo>
                    <a:lnTo>
                      <a:pt x="433" y="1930"/>
                    </a:lnTo>
                    <a:lnTo>
                      <a:pt x="392" y="1897"/>
                    </a:lnTo>
                    <a:lnTo>
                      <a:pt x="353" y="1865"/>
                    </a:lnTo>
                    <a:lnTo>
                      <a:pt x="316" y="1829"/>
                    </a:lnTo>
                    <a:lnTo>
                      <a:pt x="280" y="1792"/>
                    </a:lnTo>
                    <a:lnTo>
                      <a:pt x="246" y="1755"/>
                    </a:lnTo>
                    <a:lnTo>
                      <a:pt x="216" y="1714"/>
                    </a:lnTo>
                    <a:lnTo>
                      <a:pt x="185" y="1673"/>
                    </a:lnTo>
                    <a:lnTo>
                      <a:pt x="158" y="1631"/>
                    </a:lnTo>
                    <a:lnTo>
                      <a:pt x="133" y="1587"/>
                    </a:lnTo>
                    <a:lnTo>
                      <a:pt x="109" y="1541"/>
                    </a:lnTo>
                    <a:lnTo>
                      <a:pt x="87" y="1495"/>
                    </a:lnTo>
                    <a:lnTo>
                      <a:pt x="68" y="1447"/>
                    </a:lnTo>
                    <a:lnTo>
                      <a:pt x="51" y="1398"/>
                    </a:lnTo>
                    <a:lnTo>
                      <a:pt x="37" y="1350"/>
                    </a:lnTo>
                    <a:lnTo>
                      <a:pt x="24" y="1299"/>
                    </a:lnTo>
                    <a:lnTo>
                      <a:pt x="15" y="1248"/>
                    </a:lnTo>
                    <a:lnTo>
                      <a:pt x="7" y="1198"/>
                    </a:lnTo>
                    <a:lnTo>
                      <a:pt x="2" y="1147"/>
                    </a:lnTo>
                    <a:lnTo>
                      <a:pt x="0" y="1094"/>
                    </a:lnTo>
                    <a:lnTo>
                      <a:pt x="0" y="1041"/>
                    </a:lnTo>
                    <a:lnTo>
                      <a:pt x="3" y="989"/>
                    </a:lnTo>
                    <a:lnTo>
                      <a:pt x="8" y="936"/>
                    </a:lnTo>
                    <a:lnTo>
                      <a:pt x="17" y="882"/>
                    </a:lnTo>
                    <a:lnTo>
                      <a:pt x="27" y="829"/>
                    </a:lnTo>
                    <a:lnTo>
                      <a:pt x="41" y="776"/>
                    </a:lnTo>
                    <a:lnTo>
                      <a:pt x="41" y="776"/>
                    </a:lnTo>
                    <a:lnTo>
                      <a:pt x="58" y="724"/>
                    </a:lnTo>
                    <a:lnTo>
                      <a:pt x="76" y="673"/>
                    </a:lnTo>
                    <a:lnTo>
                      <a:pt x="97" y="623"/>
                    </a:lnTo>
                    <a:lnTo>
                      <a:pt x="121" y="574"/>
                    </a:lnTo>
                    <a:lnTo>
                      <a:pt x="146" y="528"/>
                    </a:lnTo>
                    <a:lnTo>
                      <a:pt x="173" y="484"/>
                    </a:lnTo>
                    <a:lnTo>
                      <a:pt x="204" y="440"/>
                    </a:lnTo>
                    <a:lnTo>
                      <a:pt x="234" y="399"/>
                    </a:lnTo>
                    <a:lnTo>
                      <a:pt x="268" y="360"/>
                    </a:lnTo>
                    <a:lnTo>
                      <a:pt x="304" y="321"/>
                    </a:lnTo>
                    <a:lnTo>
                      <a:pt x="340" y="285"/>
                    </a:lnTo>
                    <a:lnTo>
                      <a:pt x="379" y="251"/>
                    </a:lnTo>
                    <a:lnTo>
                      <a:pt x="418" y="219"/>
                    </a:lnTo>
                    <a:lnTo>
                      <a:pt x="460" y="190"/>
                    </a:lnTo>
                    <a:lnTo>
                      <a:pt x="503" y="161"/>
                    </a:lnTo>
                    <a:lnTo>
                      <a:pt x="547" y="136"/>
                    </a:lnTo>
                    <a:lnTo>
                      <a:pt x="591" y="112"/>
                    </a:lnTo>
                    <a:lnTo>
                      <a:pt x="637" y="90"/>
                    </a:lnTo>
                    <a:lnTo>
                      <a:pt x="685" y="70"/>
                    </a:lnTo>
                    <a:lnTo>
                      <a:pt x="732" y="53"/>
                    </a:lnTo>
                    <a:lnTo>
                      <a:pt x="781" y="39"/>
                    </a:lnTo>
                    <a:lnTo>
                      <a:pt x="831" y="25"/>
                    </a:lnTo>
                    <a:lnTo>
                      <a:pt x="882" y="15"/>
                    </a:lnTo>
                    <a:lnTo>
                      <a:pt x="933" y="8"/>
                    </a:lnTo>
                    <a:lnTo>
                      <a:pt x="984" y="3"/>
                    </a:lnTo>
                    <a:lnTo>
                      <a:pt x="1036" y="0"/>
                    </a:lnTo>
                    <a:lnTo>
                      <a:pt x="1087" y="0"/>
                    </a:lnTo>
                    <a:lnTo>
                      <a:pt x="1140" y="3"/>
                    </a:lnTo>
                    <a:lnTo>
                      <a:pt x="1193" y="8"/>
                    </a:lnTo>
                    <a:lnTo>
                      <a:pt x="1245" y="15"/>
                    </a:lnTo>
                    <a:lnTo>
                      <a:pt x="1298" y="27"/>
                    </a:lnTo>
                    <a:lnTo>
                      <a:pt x="1351" y="41"/>
                    </a:lnTo>
                    <a:lnTo>
                      <a:pt x="1351" y="41"/>
                    </a:lnTo>
                    <a:lnTo>
                      <a:pt x="1403" y="56"/>
                    </a:lnTo>
                    <a:lnTo>
                      <a:pt x="1454" y="75"/>
                    </a:lnTo>
                    <a:lnTo>
                      <a:pt x="1504" y="97"/>
                    </a:lnTo>
                    <a:lnTo>
                      <a:pt x="1551" y="119"/>
                    </a:lnTo>
                    <a:lnTo>
                      <a:pt x="1597" y="144"/>
                    </a:lnTo>
                    <a:lnTo>
                      <a:pt x="1641" y="173"/>
                    </a:lnTo>
                    <a:lnTo>
                      <a:pt x="1684" y="202"/>
                    </a:lnTo>
                    <a:lnTo>
                      <a:pt x="1724" y="234"/>
                    </a:lnTo>
                    <a:lnTo>
                      <a:pt x="1763" y="267"/>
                    </a:lnTo>
                    <a:lnTo>
                      <a:pt x="1801" y="302"/>
                    </a:lnTo>
                    <a:lnTo>
                      <a:pt x="1836" y="340"/>
                    </a:lnTo>
                    <a:lnTo>
                      <a:pt x="1870" y="377"/>
                    </a:lnTo>
                    <a:lnTo>
                      <a:pt x="1901" y="418"/>
                    </a:lnTo>
                    <a:lnTo>
                      <a:pt x="1932" y="459"/>
                    </a:lnTo>
                    <a:lnTo>
                      <a:pt x="1959" y="503"/>
                    </a:lnTo>
                    <a:lnTo>
                      <a:pt x="1984" y="547"/>
                    </a:lnTo>
                    <a:lnTo>
                      <a:pt x="2008" y="591"/>
                    </a:lnTo>
                    <a:lnTo>
                      <a:pt x="2030" y="637"/>
                    </a:lnTo>
                    <a:lnTo>
                      <a:pt x="2049" y="684"/>
                    </a:lnTo>
                    <a:lnTo>
                      <a:pt x="2066" y="734"/>
                    </a:lnTo>
                    <a:lnTo>
                      <a:pt x="2079" y="783"/>
                    </a:lnTo>
                    <a:lnTo>
                      <a:pt x="2093" y="832"/>
                    </a:lnTo>
                    <a:lnTo>
                      <a:pt x="2102" y="883"/>
                    </a:lnTo>
                    <a:lnTo>
                      <a:pt x="2110" y="934"/>
                    </a:lnTo>
                    <a:lnTo>
                      <a:pt x="2115" y="987"/>
                    </a:lnTo>
                    <a:lnTo>
                      <a:pt x="2117" y="1038"/>
                    </a:lnTo>
                    <a:lnTo>
                      <a:pt x="2117" y="1090"/>
                    </a:lnTo>
                    <a:lnTo>
                      <a:pt x="2113" y="1143"/>
                    </a:lnTo>
                    <a:lnTo>
                      <a:pt x="2108" y="1198"/>
                    </a:lnTo>
                    <a:lnTo>
                      <a:pt x="2100" y="1250"/>
                    </a:lnTo>
                    <a:lnTo>
                      <a:pt x="2090" y="1303"/>
                    </a:lnTo>
                    <a:lnTo>
                      <a:pt x="2076" y="1357"/>
                    </a:lnTo>
                    <a:lnTo>
                      <a:pt x="2076" y="1357"/>
                    </a:lnTo>
                    <a:close/>
                  </a:path>
                </a:pathLst>
              </a:custGeom>
              <a:noFill/>
              <a:ln w="38160">
                <a:solidFill>
                  <a:srgbClr val="00007d"/>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Freeform 47"/>
              <p:cNvSpPr/>
              <p:nvPr/>
            </p:nvSpPr>
            <p:spPr>
              <a:xfrm>
                <a:off x="1368000" y="482400"/>
                <a:ext cx="606240" cy="494280"/>
              </a:xfrm>
              <a:custGeom>
                <a:avLst/>
                <a:gdLst/>
                <a:ahLst/>
                <a:rect l="l" t="t" r="r" b="b"/>
                <a:pathLst>
                  <a:path w="1609" h="1326">
                    <a:moveTo>
                      <a:pt x="0" y="1326"/>
                    </a:moveTo>
                    <a:lnTo>
                      <a:pt x="0" y="1326"/>
                    </a:lnTo>
                    <a:lnTo>
                      <a:pt x="26" y="1243"/>
                    </a:lnTo>
                    <a:lnTo>
                      <a:pt x="53" y="1162"/>
                    </a:lnTo>
                    <a:lnTo>
                      <a:pt x="83" y="1082"/>
                    </a:lnTo>
                    <a:lnTo>
                      <a:pt x="116" y="1005"/>
                    </a:lnTo>
                    <a:lnTo>
                      <a:pt x="151" y="931"/>
                    </a:lnTo>
                    <a:lnTo>
                      <a:pt x="189" y="858"/>
                    </a:lnTo>
                    <a:lnTo>
                      <a:pt x="228" y="786"/>
                    </a:lnTo>
                    <a:lnTo>
                      <a:pt x="269" y="718"/>
                    </a:lnTo>
                    <a:lnTo>
                      <a:pt x="311" y="654"/>
                    </a:lnTo>
                    <a:lnTo>
                      <a:pt x="357" y="591"/>
                    </a:lnTo>
                    <a:lnTo>
                      <a:pt x="403" y="531"/>
                    </a:lnTo>
                    <a:lnTo>
                      <a:pt x="452" y="474"/>
                    </a:lnTo>
                    <a:lnTo>
                      <a:pt x="501" y="419"/>
                    </a:lnTo>
                    <a:lnTo>
                      <a:pt x="552" y="367"/>
                    </a:lnTo>
                    <a:lnTo>
                      <a:pt x="605" y="319"/>
                    </a:lnTo>
                    <a:lnTo>
                      <a:pt x="658" y="273"/>
                    </a:lnTo>
                    <a:lnTo>
                      <a:pt x="714" y="231"/>
                    </a:lnTo>
                    <a:lnTo>
                      <a:pt x="768" y="192"/>
                    </a:lnTo>
                    <a:lnTo>
                      <a:pt x="826" y="156"/>
                    </a:lnTo>
                    <a:lnTo>
                      <a:pt x="884" y="124"/>
                    </a:lnTo>
                    <a:lnTo>
                      <a:pt x="941" y="97"/>
                    </a:lnTo>
                    <a:lnTo>
                      <a:pt x="1001" y="71"/>
                    </a:lnTo>
                    <a:lnTo>
                      <a:pt x="1060" y="49"/>
                    </a:lnTo>
                    <a:lnTo>
                      <a:pt x="1120" y="32"/>
                    </a:lnTo>
                    <a:lnTo>
                      <a:pt x="1181" y="17"/>
                    </a:lnTo>
                    <a:lnTo>
                      <a:pt x="1242" y="8"/>
                    </a:lnTo>
                    <a:lnTo>
                      <a:pt x="1303" y="1"/>
                    </a:lnTo>
                    <a:lnTo>
                      <a:pt x="1334" y="0"/>
                    </a:lnTo>
                    <a:lnTo>
                      <a:pt x="1364" y="0"/>
                    </a:lnTo>
                    <a:lnTo>
                      <a:pt x="1395" y="0"/>
                    </a:lnTo>
                    <a:lnTo>
                      <a:pt x="1425" y="1"/>
                    </a:lnTo>
                    <a:lnTo>
                      <a:pt x="1456" y="5"/>
                    </a:lnTo>
                    <a:lnTo>
                      <a:pt x="1487" y="8"/>
                    </a:lnTo>
                    <a:lnTo>
                      <a:pt x="1517" y="13"/>
                    </a:lnTo>
                    <a:lnTo>
                      <a:pt x="1548" y="18"/>
                    </a:lnTo>
                    <a:lnTo>
                      <a:pt x="1578" y="25"/>
                    </a:lnTo>
                    <a:lnTo>
                      <a:pt x="1609" y="34"/>
                    </a:lnTo>
                  </a:path>
                </a:pathLst>
              </a:custGeom>
              <a:noFill/>
              <a:ln w="38160">
                <a:solidFill>
                  <a:srgbClr val="00007d"/>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Freeform 48"/>
              <p:cNvSpPr/>
              <p:nvPr/>
            </p:nvSpPr>
            <p:spPr>
              <a:xfrm>
                <a:off x="1676160" y="407520"/>
                <a:ext cx="309240" cy="719280"/>
              </a:xfrm>
              <a:custGeom>
                <a:avLst/>
                <a:gdLst/>
                <a:ahLst/>
                <a:rect l="l" t="t" r="r" b="b"/>
                <a:pathLst>
                  <a:path w="817" h="1928">
                    <a:moveTo>
                      <a:pt x="730" y="1928"/>
                    </a:moveTo>
                    <a:lnTo>
                      <a:pt x="730" y="1928"/>
                    </a:lnTo>
                    <a:lnTo>
                      <a:pt x="752" y="1845"/>
                    </a:lnTo>
                    <a:lnTo>
                      <a:pt x="771" y="1762"/>
                    </a:lnTo>
                    <a:lnTo>
                      <a:pt x="786" y="1680"/>
                    </a:lnTo>
                    <a:lnTo>
                      <a:pt x="800" y="1599"/>
                    </a:lnTo>
                    <a:lnTo>
                      <a:pt x="808" y="1517"/>
                    </a:lnTo>
                    <a:lnTo>
                      <a:pt x="813" y="1436"/>
                    </a:lnTo>
                    <a:lnTo>
                      <a:pt x="817" y="1358"/>
                    </a:lnTo>
                    <a:lnTo>
                      <a:pt x="815" y="1278"/>
                    </a:lnTo>
                    <a:lnTo>
                      <a:pt x="812" y="1201"/>
                    </a:lnTo>
                    <a:lnTo>
                      <a:pt x="805" y="1125"/>
                    </a:lnTo>
                    <a:lnTo>
                      <a:pt x="796" y="1050"/>
                    </a:lnTo>
                    <a:lnTo>
                      <a:pt x="783" y="977"/>
                    </a:lnTo>
                    <a:lnTo>
                      <a:pt x="768" y="906"/>
                    </a:lnTo>
                    <a:lnTo>
                      <a:pt x="751" y="836"/>
                    </a:lnTo>
                    <a:lnTo>
                      <a:pt x="729" y="767"/>
                    </a:lnTo>
                    <a:lnTo>
                      <a:pt x="706" y="702"/>
                    </a:lnTo>
                    <a:lnTo>
                      <a:pt x="679" y="637"/>
                    </a:lnTo>
                    <a:lnTo>
                      <a:pt x="650" y="575"/>
                    </a:lnTo>
                    <a:lnTo>
                      <a:pt x="620" y="515"/>
                    </a:lnTo>
                    <a:lnTo>
                      <a:pt x="586" y="457"/>
                    </a:lnTo>
                    <a:lnTo>
                      <a:pt x="548" y="403"/>
                    </a:lnTo>
                    <a:lnTo>
                      <a:pt x="511" y="352"/>
                    </a:lnTo>
                    <a:lnTo>
                      <a:pt x="469" y="301"/>
                    </a:lnTo>
                    <a:lnTo>
                      <a:pt x="426" y="255"/>
                    </a:lnTo>
                    <a:lnTo>
                      <a:pt x="380" y="211"/>
                    </a:lnTo>
                    <a:lnTo>
                      <a:pt x="333" y="172"/>
                    </a:lnTo>
                    <a:lnTo>
                      <a:pt x="282" y="135"/>
                    </a:lnTo>
                    <a:lnTo>
                      <a:pt x="229" y="101"/>
                    </a:lnTo>
                    <a:lnTo>
                      <a:pt x="175" y="70"/>
                    </a:lnTo>
                    <a:lnTo>
                      <a:pt x="147" y="56"/>
                    </a:lnTo>
                    <a:lnTo>
                      <a:pt x="119" y="43"/>
                    </a:lnTo>
                    <a:lnTo>
                      <a:pt x="90" y="31"/>
                    </a:lnTo>
                    <a:lnTo>
                      <a:pt x="61" y="19"/>
                    </a:lnTo>
                    <a:lnTo>
                      <a:pt x="30" y="9"/>
                    </a:lnTo>
                    <a:lnTo>
                      <a:pt x="0" y="0"/>
                    </a:lnTo>
                  </a:path>
                </a:pathLst>
              </a:custGeom>
              <a:noFill/>
              <a:ln w="38160">
                <a:solidFill>
                  <a:srgbClr val="00007d"/>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253" name="Group 49"/>
          <p:cNvGrpSpPr/>
          <p:nvPr/>
        </p:nvGrpSpPr>
        <p:grpSpPr>
          <a:xfrm>
            <a:off x="6539040" y="4025880"/>
            <a:ext cx="2432880" cy="2426760"/>
            <a:chOff x="6539040" y="4025880"/>
            <a:chExt cx="2432880" cy="2426760"/>
          </a:xfrm>
        </p:grpSpPr>
        <p:sp>
          <p:nvSpPr>
            <p:cNvPr id="254" name="Freeform 50"/>
            <p:cNvSpPr/>
            <p:nvPr/>
          </p:nvSpPr>
          <p:spPr>
            <a:xfrm>
              <a:off x="7409160" y="4027680"/>
              <a:ext cx="1191240" cy="691560"/>
            </a:xfrm>
            <a:custGeom>
              <a:avLst/>
              <a:gdLst/>
              <a:ahLst/>
              <a:rect l="l" t="t" r="r" b="b"/>
              <a:pathLst>
                <a:path w="1039" h="606">
                  <a:moveTo>
                    <a:pt x="1034" y="450"/>
                  </a:moveTo>
                  <a:lnTo>
                    <a:pt x="1034" y="450"/>
                  </a:lnTo>
                  <a:lnTo>
                    <a:pt x="1029" y="464"/>
                  </a:lnTo>
                  <a:lnTo>
                    <a:pt x="1024" y="476"/>
                  </a:lnTo>
                  <a:lnTo>
                    <a:pt x="1016" y="489"/>
                  </a:lnTo>
                  <a:lnTo>
                    <a:pt x="1009" y="501"/>
                  </a:lnTo>
                  <a:lnTo>
                    <a:pt x="999" y="511"/>
                  </a:lnTo>
                  <a:lnTo>
                    <a:pt x="988" y="523"/>
                  </a:lnTo>
                  <a:lnTo>
                    <a:pt x="976" y="532"/>
                  </a:lnTo>
                  <a:lnTo>
                    <a:pt x="965" y="542"/>
                  </a:lnTo>
                  <a:lnTo>
                    <a:pt x="951" y="550"/>
                  </a:lnTo>
                  <a:lnTo>
                    <a:pt x="936" y="559"/>
                  </a:lnTo>
                  <a:lnTo>
                    <a:pt x="903" y="574"/>
                  </a:lnTo>
                  <a:lnTo>
                    <a:pt x="868" y="586"/>
                  </a:lnTo>
                  <a:lnTo>
                    <a:pt x="830" y="594"/>
                  </a:lnTo>
                  <a:lnTo>
                    <a:pt x="788" y="601"/>
                  </a:lnTo>
                  <a:lnTo>
                    <a:pt x="744" y="606"/>
                  </a:lnTo>
                  <a:lnTo>
                    <a:pt x="698" y="606"/>
                  </a:lnTo>
                  <a:lnTo>
                    <a:pt x="650" y="605"/>
                  </a:lnTo>
                  <a:lnTo>
                    <a:pt x="599" y="601"/>
                  </a:lnTo>
                  <a:lnTo>
                    <a:pt x="548" y="593"/>
                  </a:lnTo>
                  <a:lnTo>
                    <a:pt x="497" y="583"/>
                  </a:lnTo>
                  <a:lnTo>
                    <a:pt x="445" y="569"/>
                  </a:lnTo>
                  <a:lnTo>
                    <a:pt x="445" y="569"/>
                  </a:lnTo>
                  <a:lnTo>
                    <a:pt x="392" y="552"/>
                  </a:lnTo>
                  <a:lnTo>
                    <a:pt x="341" y="533"/>
                  </a:lnTo>
                  <a:lnTo>
                    <a:pt x="295" y="513"/>
                  </a:lnTo>
                  <a:lnTo>
                    <a:pt x="249" y="491"/>
                  </a:lnTo>
                  <a:lnTo>
                    <a:pt x="209" y="467"/>
                  </a:lnTo>
                  <a:lnTo>
                    <a:pt x="169" y="442"/>
                  </a:lnTo>
                  <a:lnTo>
                    <a:pt x="134" y="414"/>
                  </a:lnTo>
                  <a:lnTo>
                    <a:pt x="103" y="387"/>
                  </a:lnTo>
                  <a:lnTo>
                    <a:pt x="74" y="358"/>
                  </a:lnTo>
                  <a:lnTo>
                    <a:pt x="51" y="329"/>
                  </a:lnTo>
                  <a:lnTo>
                    <a:pt x="32" y="301"/>
                  </a:lnTo>
                  <a:lnTo>
                    <a:pt x="23" y="285"/>
                  </a:lnTo>
                  <a:lnTo>
                    <a:pt x="17" y="272"/>
                  </a:lnTo>
                  <a:lnTo>
                    <a:pt x="11" y="256"/>
                  </a:lnTo>
                  <a:lnTo>
                    <a:pt x="6" y="243"/>
                  </a:lnTo>
                  <a:lnTo>
                    <a:pt x="3" y="228"/>
                  </a:lnTo>
                  <a:lnTo>
                    <a:pt x="1" y="212"/>
                  </a:lnTo>
                  <a:lnTo>
                    <a:pt x="0" y="199"/>
                  </a:lnTo>
                  <a:lnTo>
                    <a:pt x="1" y="185"/>
                  </a:lnTo>
                  <a:lnTo>
                    <a:pt x="3" y="170"/>
                  </a:lnTo>
                  <a:lnTo>
                    <a:pt x="6" y="156"/>
                  </a:lnTo>
                  <a:lnTo>
                    <a:pt x="6" y="156"/>
                  </a:lnTo>
                  <a:lnTo>
                    <a:pt x="10" y="143"/>
                  </a:lnTo>
                  <a:lnTo>
                    <a:pt x="17" y="131"/>
                  </a:lnTo>
                  <a:lnTo>
                    <a:pt x="23" y="117"/>
                  </a:lnTo>
                  <a:lnTo>
                    <a:pt x="32" y="105"/>
                  </a:lnTo>
                  <a:lnTo>
                    <a:pt x="40" y="95"/>
                  </a:lnTo>
                  <a:lnTo>
                    <a:pt x="51" y="85"/>
                  </a:lnTo>
                  <a:lnTo>
                    <a:pt x="62" y="75"/>
                  </a:lnTo>
                  <a:lnTo>
                    <a:pt x="76" y="64"/>
                  </a:lnTo>
                  <a:lnTo>
                    <a:pt x="90" y="56"/>
                  </a:lnTo>
                  <a:lnTo>
                    <a:pt x="103" y="47"/>
                  </a:lnTo>
                  <a:lnTo>
                    <a:pt x="136" y="32"/>
                  </a:lnTo>
                  <a:lnTo>
                    <a:pt x="171" y="20"/>
                  </a:lnTo>
                  <a:lnTo>
                    <a:pt x="210" y="12"/>
                  </a:lnTo>
                  <a:lnTo>
                    <a:pt x="251" y="5"/>
                  </a:lnTo>
                  <a:lnTo>
                    <a:pt x="295" y="2"/>
                  </a:lnTo>
                  <a:lnTo>
                    <a:pt x="341" y="0"/>
                  </a:lnTo>
                  <a:lnTo>
                    <a:pt x="390" y="2"/>
                  </a:lnTo>
                  <a:lnTo>
                    <a:pt x="440" y="5"/>
                  </a:lnTo>
                  <a:lnTo>
                    <a:pt x="491" y="13"/>
                  </a:lnTo>
                  <a:lnTo>
                    <a:pt x="543" y="24"/>
                  </a:lnTo>
                  <a:lnTo>
                    <a:pt x="596" y="37"/>
                  </a:lnTo>
                  <a:lnTo>
                    <a:pt x="596" y="37"/>
                  </a:lnTo>
                  <a:lnTo>
                    <a:pt x="649" y="54"/>
                  </a:lnTo>
                  <a:lnTo>
                    <a:pt x="698" y="73"/>
                  </a:lnTo>
                  <a:lnTo>
                    <a:pt x="745" y="93"/>
                  </a:lnTo>
                  <a:lnTo>
                    <a:pt x="790" y="115"/>
                  </a:lnTo>
                  <a:lnTo>
                    <a:pt x="832" y="139"/>
                  </a:lnTo>
                  <a:lnTo>
                    <a:pt x="869" y="165"/>
                  </a:lnTo>
                  <a:lnTo>
                    <a:pt x="905" y="192"/>
                  </a:lnTo>
                  <a:lnTo>
                    <a:pt x="937" y="219"/>
                  </a:lnTo>
                  <a:lnTo>
                    <a:pt x="965" y="248"/>
                  </a:lnTo>
                  <a:lnTo>
                    <a:pt x="988" y="277"/>
                  </a:lnTo>
                  <a:lnTo>
                    <a:pt x="1009" y="306"/>
                  </a:lnTo>
                  <a:lnTo>
                    <a:pt x="1016" y="321"/>
                  </a:lnTo>
                  <a:lnTo>
                    <a:pt x="1022" y="335"/>
                  </a:lnTo>
                  <a:lnTo>
                    <a:pt x="1029" y="350"/>
                  </a:lnTo>
                  <a:lnTo>
                    <a:pt x="1033" y="365"/>
                  </a:lnTo>
                  <a:lnTo>
                    <a:pt x="1036" y="379"/>
                  </a:lnTo>
                  <a:lnTo>
                    <a:pt x="1039" y="394"/>
                  </a:lnTo>
                  <a:lnTo>
                    <a:pt x="1039" y="408"/>
                  </a:lnTo>
                  <a:lnTo>
                    <a:pt x="1039" y="423"/>
                  </a:lnTo>
                  <a:lnTo>
                    <a:pt x="1038" y="436"/>
                  </a:lnTo>
                  <a:lnTo>
                    <a:pt x="1034" y="450"/>
                  </a:lnTo>
                  <a:lnTo>
                    <a:pt x="1034" y="450"/>
                  </a:lnTo>
                  <a:close/>
                </a:path>
              </a:pathLst>
            </a:custGeom>
            <a:noFill/>
            <a:ln w="76320">
              <a:solidFill>
                <a:srgbClr val="9999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Freeform 51"/>
            <p:cNvSpPr/>
            <p:nvPr/>
          </p:nvSpPr>
          <p:spPr>
            <a:xfrm>
              <a:off x="6875640" y="4389840"/>
              <a:ext cx="858600" cy="850680"/>
            </a:xfrm>
            <a:custGeom>
              <a:avLst/>
              <a:gdLst/>
              <a:ahLst/>
              <a:rect l="l" t="t" r="r" b="b"/>
              <a:pathLst>
                <a:path w="749" h="747">
                  <a:moveTo>
                    <a:pt x="12" y="0"/>
                  </a:moveTo>
                  <a:lnTo>
                    <a:pt x="12" y="0"/>
                  </a:lnTo>
                  <a:lnTo>
                    <a:pt x="5" y="25"/>
                  </a:lnTo>
                  <a:lnTo>
                    <a:pt x="2" y="51"/>
                  </a:lnTo>
                  <a:lnTo>
                    <a:pt x="0" y="78"/>
                  </a:lnTo>
                  <a:lnTo>
                    <a:pt x="0" y="105"/>
                  </a:lnTo>
                  <a:lnTo>
                    <a:pt x="3" y="130"/>
                  </a:lnTo>
                  <a:lnTo>
                    <a:pt x="9" y="158"/>
                  </a:lnTo>
                  <a:lnTo>
                    <a:pt x="15" y="185"/>
                  </a:lnTo>
                  <a:lnTo>
                    <a:pt x="26" y="212"/>
                  </a:lnTo>
                  <a:lnTo>
                    <a:pt x="36" y="239"/>
                  </a:lnTo>
                  <a:lnTo>
                    <a:pt x="49" y="266"/>
                  </a:lnTo>
                  <a:lnTo>
                    <a:pt x="65" y="293"/>
                  </a:lnTo>
                  <a:lnTo>
                    <a:pt x="82" y="319"/>
                  </a:lnTo>
                  <a:lnTo>
                    <a:pt x="100" y="346"/>
                  </a:lnTo>
                  <a:lnTo>
                    <a:pt x="122" y="372"/>
                  </a:lnTo>
                  <a:lnTo>
                    <a:pt x="145" y="399"/>
                  </a:lnTo>
                  <a:lnTo>
                    <a:pt x="168" y="424"/>
                  </a:lnTo>
                  <a:lnTo>
                    <a:pt x="194" y="450"/>
                  </a:lnTo>
                  <a:lnTo>
                    <a:pt x="223" y="474"/>
                  </a:lnTo>
                  <a:lnTo>
                    <a:pt x="252" y="497"/>
                  </a:lnTo>
                  <a:lnTo>
                    <a:pt x="282" y="521"/>
                  </a:lnTo>
                  <a:lnTo>
                    <a:pt x="313" y="545"/>
                  </a:lnTo>
                  <a:lnTo>
                    <a:pt x="347" y="567"/>
                  </a:lnTo>
                  <a:lnTo>
                    <a:pt x="382" y="589"/>
                  </a:lnTo>
                  <a:lnTo>
                    <a:pt x="418" y="609"/>
                  </a:lnTo>
                  <a:lnTo>
                    <a:pt x="455" y="630"/>
                  </a:lnTo>
                  <a:lnTo>
                    <a:pt x="494" y="650"/>
                  </a:lnTo>
                  <a:lnTo>
                    <a:pt x="534" y="669"/>
                  </a:lnTo>
                  <a:lnTo>
                    <a:pt x="574" y="686"/>
                  </a:lnTo>
                  <a:lnTo>
                    <a:pt x="617" y="703"/>
                  </a:lnTo>
                  <a:lnTo>
                    <a:pt x="659" y="718"/>
                  </a:lnTo>
                  <a:lnTo>
                    <a:pt x="703" y="733"/>
                  </a:lnTo>
                  <a:lnTo>
                    <a:pt x="749" y="747"/>
                  </a:lnTo>
                </a:path>
              </a:pathLst>
            </a:custGeom>
            <a:noFill/>
            <a:ln w="76320">
              <a:solidFill>
                <a:srgbClr val="9999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Freeform 52"/>
            <p:cNvSpPr/>
            <p:nvPr/>
          </p:nvSpPr>
          <p:spPr>
            <a:xfrm>
              <a:off x="7734600" y="4922280"/>
              <a:ext cx="1184760" cy="379440"/>
            </a:xfrm>
            <a:custGeom>
              <a:avLst/>
              <a:gdLst/>
              <a:ahLst/>
              <a:rect l="l" t="t" r="r" b="b"/>
              <a:pathLst>
                <a:path w="1037" h="337">
                  <a:moveTo>
                    <a:pt x="1037" y="0"/>
                  </a:moveTo>
                  <a:lnTo>
                    <a:pt x="1037" y="0"/>
                  </a:lnTo>
                  <a:lnTo>
                    <a:pt x="1028" y="28"/>
                  </a:lnTo>
                  <a:lnTo>
                    <a:pt x="1016" y="53"/>
                  </a:lnTo>
                  <a:lnTo>
                    <a:pt x="1003" y="79"/>
                  </a:lnTo>
                  <a:lnTo>
                    <a:pt x="987" y="102"/>
                  </a:lnTo>
                  <a:lnTo>
                    <a:pt x="970" y="124"/>
                  </a:lnTo>
                  <a:lnTo>
                    <a:pt x="952" y="146"/>
                  </a:lnTo>
                  <a:lnTo>
                    <a:pt x="931" y="167"/>
                  </a:lnTo>
                  <a:lnTo>
                    <a:pt x="908" y="187"/>
                  </a:lnTo>
                  <a:lnTo>
                    <a:pt x="884" y="206"/>
                  </a:lnTo>
                  <a:lnTo>
                    <a:pt x="858" y="223"/>
                  </a:lnTo>
                  <a:lnTo>
                    <a:pt x="829" y="238"/>
                  </a:lnTo>
                  <a:lnTo>
                    <a:pt x="800" y="254"/>
                  </a:lnTo>
                  <a:lnTo>
                    <a:pt x="770" y="267"/>
                  </a:lnTo>
                  <a:lnTo>
                    <a:pt x="738" y="281"/>
                  </a:lnTo>
                  <a:lnTo>
                    <a:pt x="705" y="293"/>
                  </a:lnTo>
                  <a:lnTo>
                    <a:pt x="670" y="301"/>
                  </a:lnTo>
                  <a:lnTo>
                    <a:pt x="634" y="311"/>
                  </a:lnTo>
                  <a:lnTo>
                    <a:pt x="598" y="318"/>
                  </a:lnTo>
                  <a:lnTo>
                    <a:pt x="559" y="325"/>
                  </a:lnTo>
                  <a:lnTo>
                    <a:pt x="520" y="330"/>
                  </a:lnTo>
                  <a:lnTo>
                    <a:pt x="481" y="333"/>
                  </a:lnTo>
                  <a:lnTo>
                    <a:pt x="440" y="335"/>
                  </a:lnTo>
                  <a:lnTo>
                    <a:pt x="400" y="337"/>
                  </a:lnTo>
                  <a:lnTo>
                    <a:pt x="357" y="335"/>
                  </a:lnTo>
                  <a:lnTo>
                    <a:pt x="315" y="333"/>
                  </a:lnTo>
                  <a:lnTo>
                    <a:pt x="270" y="330"/>
                  </a:lnTo>
                  <a:lnTo>
                    <a:pt x="226" y="325"/>
                  </a:lnTo>
                  <a:lnTo>
                    <a:pt x="182" y="320"/>
                  </a:lnTo>
                  <a:lnTo>
                    <a:pt x="136" y="311"/>
                  </a:lnTo>
                  <a:lnTo>
                    <a:pt x="92" y="303"/>
                  </a:lnTo>
                  <a:lnTo>
                    <a:pt x="46" y="291"/>
                  </a:lnTo>
                  <a:lnTo>
                    <a:pt x="0" y="279"/>
                  </a:lnTo>
                </a:path>
              </a:pathLst>
            </a:custGeom>
            <a:noFill/>
            <a:ln w="76320">
              <a:solidFill>
                <a:srgbClr val="9999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Freeform 53"/>
            <p:cNvSpPr/>
            <p:nvPr/>
          </p:nvSpPr>
          <p:spPr>
            <a:xfrm>
              <a:off x="6554520" y="5017680"/>
              <a:ext cx="1026720" cy="807120"/>
            </a:xfrm>
            <a:custGeom>
              <a:avLst/>
              <a:gdLst/>
              <a:ahLst/>
              <a:rect l="l" t="t" r="r" b="b"/>
              <a:pathLst>
                <a:path w="897" h="710">
                  <a:moveTo>
                    <a:pt x="7" y="0"/>
                  </a:moveTo>
                  <a:lnTo>
                    <a:pt x="7" y="0"/>
                  </a:lnTo>
                  <a:lnTo>
                    <a:pt x="1" y="22"/>
                  </a:lnTo>
                  <a:lnTo>
                    <a:pt x="0" y="44"/>
                  </a:lnTo>
                  <a:lnTo>
                    <a:pt x="0" y="68"/>
                  </a:lnTo>
                  <a:lnTo>
                    <a:pt x="3" y="90"/>
                  </a:lnTo>
                  <a:lnTo>
                    <a:pt x="8" y="113"/>
                  </a:lnTo>
                  <a:lnTo>
                    <a:pt x="15" y="137"/>
                  </a:lnTo>
                  <a:lnTo>
                    <a:pt x="25" y="163"/>
                  </a:lnTo>
                  <a:lnTo>
                    <a:pt x="39" y="187"/>
                  </a:lnTo>
                  <a:lnTo>
                    <a:pt x="54" y="210"/>
                  </a:lnTo>
                  <a:lnTo>
                    <a:pt x="71" y="236"/>
                  </a:lnTo>
                  <a:lnTo>
                    <a:pt x="90" y="260"/>
                  </a:lnTo>
                  <a:lnTo>
                    <a:pt x="112" y="285"/>
                  </a:lnTo>
                  <a:lnTo>
                    <a:pt x="134" y="309"/>
                  </a:lnTo>
                  <a:lnTo>
                    <a:pt x="159" y="334"/>
                  </a:lnTo>
                  <a:lnTo>
                    <a:pt x="188" y="358"/>
                  </a:lnTo>
                  <a:lnTo>
                    <a:pt x="217" y="382"/>
                  </a:lnTo>
                  <a:lnTo>
                    <a:pt x="248" y="407"/>
                  </a:lnTo>
                  <a:lnTo>
                    <a:pt x="280" y="431"/>
                  </a:lnTo>
                  <a:lnTo>
                    <a:pt x="316" y="453"/>
                  </a:lnTo>
                  <a:lnTo>
                    <a:pt x="351" y="477"/>
                  </a:lnTo>
                  <a:lnTo>
                    <a:pt x="389" y="499"/>
                  </a:lnTo>
                  <a:lnTo>
                    <a:pt x="430" y="521"/>
                  </a:lnTo>
                  <a:lnTo>
                    <a:pt x="470" y="543"/>
                  </a:lnTo>
                  <a:lnTo>
                    <a:pt x="513" y="565"/>
                  </a:lnTo>
                  <a:lnTo>
                    <a:pt x="555" y="586"/>
                  </a:lnTo>
                  <a:lnTo>
                    <a:pt x="601" y="606"/>
                  </a:lnTo>
                  <a:lnTo>
                    <a:pt x="647" y="625"/>
                  </a:lnTo>
                  <a:lnTo>
                    <a:pt x="695" y="643"/>
                  </a:lnTo>
                  <a:lnTo>
                    <a:pt x="744" y="662"/>
                  </a:lnTo>
                  <a:lnTo>
                    <a:pt x="793" y="679"/>
                  </a:lnTo>
                  <a:lnTo>
                    <a:pt x="844" y="694"/>
                  </a:lnTo>
                  <a:lnTo>
                    <a:pt x="897" y="710"/>
                  </a:lnTo>
                </a:path>
              </a:pathLst>
            </a:custGeom>
            <a:noFill/>
            <a:ln w="76320">
              <a:solidFill>
                <a:srgbClr val="9999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Freeform 54"/>
            <p:cNvSpPr/>
            <p:nvPr/>
          </p:nvSpPr>
          <p:spPr>
            <a:xfrm>
              <a:off x="7585920" y="5675040"/>
              <a:ext cx="1296720" cy="254520"/>
            </a:xfrm>
            <a:custGeom>
              <a:avLst/>
              <a:gdLst/>
              <a:ahLst/>
              <a:rect l="l" t="t" r="r" b="b"/>
              <a:pathLst>
                <a:path w="1132" h="224">
                  <a:moveTo>
                    <a:pt x="1132" y="0"/>
                  </a:moveTo>
                  <a:lnTo>
                    <a:pt x="1132" y="0"/>
                  </a:lnTo>
                  <a:lnTo>
                    <a:pt x="1125" y="22"/>
                  </a:lnTo>
                  <a:lnTo>
                    <a:pt x="1115" y="43"/>
                  </a:lnTo>
                  <a:lnTo>
                    <a:pt x="1103" y="61"/>
                  </a:lnTo>
                  <a:lnTo>
                    <a:pt x="1087" y="80"/>
                  </a:lnTo>
                  <a:lnTo>
                    <a:pt x="1070" y="97"/>
                  </a:lnTo>
                  <a:lnTo>
                    <a:pt x="1050" y="114"/>
                  </a:lnTo>
                  <a:lnTo>
                    <a:pt x="1030" y="129"/>
                  </a:lnTo>
                  <a:lnTo>
                    <a:pt x="1006" y="143"/>
                  </a:lnTo>
                  <a:lnTo>
                    <a:pt x="980" y="155"/>
                  </a:lnTo>
                  <a:lnTo>
                    <a:pt x="953" y="167"/>
                  </a:lnTo>
                  <a:lnTo>
                    <a:pt x="923" y="179"/>
                  </a:lnTo>
                  <a:lnTo>
                    <a:pt x="892" y="187"/>
                  </a:lnTo>
                  <a:lnTo>
                    <a:pt x="860" y="196"/>
                  </a:lnTo>
                  <a:lnTo>
                    <a:pt x="824" y="204"/>
                  </a:lnTo>
                  <a:lnTo>
                    <a:pt x="788" y="209"/>
                  </a:lnTo>
                  <a:lnTo>
                    <a:pt x="751" y="214"/>
                  </a:lnTo>
                  <a:lnTo>
                    <a:pt x="712" y="219"/>
                  </a:lnTo>
                  <a:lnTo>
                    <a:pt x="671" y="221"/>
                  </a:lnTo>
                  <a:lnTo>
                    <a:pt x="629" y="223"/>
                  </a:lnTo>
                  <a:lnTo>
                    <a:pt x="586" y="224"/>
                  </a:lnTo>
                  <a:lnTo>
                    <a:pt x="542" y="223"/>
                  </a:lnTo>
                  <a:lnTo>
                    <a:pt x="498" y="221"/>
                  </a:lnTo>
                  <a:lnTo>
                    <a:pt x="450" y="218"/>
                  </a:lnTo>
                  <a:lnTo>
                    <a:pt x="405" y="214"/>
                  </a:lnTo>
                  <a:lnTo>
                    <a:pt x="355" y="207"/>
                  </a:lnTo>
                  <a:lnTo>
                    <a:pt x="306" y="202"/>
                  </a:lnTo>
                  <a:lnTo>
                    <a:pt x="257" y="194"/>
                  </a:lnTo>
                  <a:lnTo>
                    <a:pt x="207" y="184"/>
                  </a:lnTo>
                  <a:lnTo>
                    <a:pt x="156" y="173"/>
                  </a:lnTo>
                  <a:lnTo>
                    <a:pt x="106" y="162"/>
                  </a:lnTo>
                  <a:lnTo>
                    <a:pt x="53" y="150"/>
                  </a:lnTo>
                  <a:lnTo>
                    <a:pt x="0" y="134"/>
                  </a:lnTo>
                </a:path>
              </a:pathLst>
            </a:custGeom>
            <a:noFill/>
            <a:ln w="76320">
              <a:solidFill>
                <a:srgbClr val="9999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Freeform 55"/>
            <p:cNvSpPr/>
            <p:nvPr/>
          </p:nvSpPr>
          <p:spPr>
            <a:xfrm>
              <a:off x="6676200" y="5736600"/>
              <a:ext cx="788040" cy="511560"/>
            </a:xfrm>
            <a:custGeom>
              <a:avLst/>
              <a:gdLst/>
              <a:ahLst/>
              <a:rect l="l" t="t" r="r" b="b"/>
              <a:pathLst>
                <a:path w="688" h="450">
                  <a:moveTo>
                    <a:pt x="4" y="0"/>
                  </a:moveTo>
                  <a:lnTo>
                    <a:pt x="4" y="0"/>
                  </a:lnTo>
                  <a:lnTo>
                    <a:pt x="2" y="11"/>
                  </a:lnTo>
                  <a:lnTo>
                    <a:pt x="0" y="25"/>
                  </a:lnTo>
                  <a:lnTo>
                    <a:pt x="2" y="39"/>
                  </a:lnTo>
                  <a:lnTo>
                    <a:pt x="5" y="51"/>
                  </a:lnTo>
                  <a:lnTo>
                    <a:pt x="10" y="66"/>
                  </a:lnTo>
                  <a:lnTo>
                    <a:pt x="17" y="79"/>
                  </a:lnTo>
                  <a:lnTo>
                    <a:pt x="26" y="93"/>
                  </a:lnTo>
                  <a:lnTo>
                    <a:pt x="36" y="108"/>
                  </a:lnTo>
                  <a:lnTo>
                    <a:pt x="48" y="122"/>
                  </a:lnTo>
                  <a:lnTo>
                    <a:pt x="61" y="137"/>
                  </a:lnTo>
                  <a:lnTo>
                    <a:pt x="94" y="168"/>
                  </a:lnTo>
                  <a:lnTo>
                    <a:pt x="133" y="198"/>
                  </a:lnTo>
                  <a:lnTo>
                    <a:pt x="175" y="229"/>
                  </a:lnTo>
                  <a:lnTo>
                    <a:pt x="224" y="259"/>
                  </a:lnTo>
                  <a:lnTo>
                    <a:pt x="279" y="288"/>
                  </a:lnTo>
                  <a:lnTo>
                    <a:pt x="338" y="319"/>
                  </a:lnTo>
                  <a:lnTo>
                    <a:pt x="401" y="348"/>
                  </a:lnTo>
                  <a:lnTo>
                    <a:pt x="467" y="375"/>
                  </a:lnTo>
                  <a:lnTo>
                    <a:pt x="537" y="400"/>
                  </a:lnTo>
                  <a:lnTo>
                    <a:pt x="612" y="426"/>
                  </a:lnTo>
                  <a:lnTo>
                    <a:pt x="688" y="450"/>
                  </a:lnTo>
                </a:path>
              </a:pathLst>
            </a:custGeom>
            <a:noFill/>
            <a:ln w="76320">
              <a:solidFill>
                <a:srgbClr val="9999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Freeform 56"/>
            <p:cNvSpPr/>
            <p:nvPr/>
          </p:nvSpPr>
          <p:spPr>
            <a:xfrm>
              <a:off x="7457400" y="6246000"/>
              <a:ext cx="808200" cy="122760"/>
            </a:xfrm>
            <a:custGeom>
              <a:avLst/>
              <a:gdLst/>
              <a:ahLst/>
              <a:rect l="l" t="t" r="r" b="b"/>
              <a:pathLst>
                <a:path w="707" h="107">
                  <a:moveTo>
                    <a:pt x="707" y="73"/>
                  </a:moveTo>
                  <a:lnTo>
                    <a:pt x="707" y="73"/>
                  </a:lnTo>
                  <a:lnTo>
                    <a:pt x="705" y="78"/>
                  </a:lnTo>
                  <a:lnTo>
                    <a:pt x="700" y="83"/>
                  </a:lnTo>
                  <a:lnTo>
                    <a:pt x="695" y="88"/>
                  </a:lnTo>
                  <a:lnTo>
                    <a:pt x="686" y="93"/>
                  </a:lnTo>
                  <a:lnTo>
                    <a:pt x="678" y="97"/>
                  </a:lnTo>
                  <a:lnTo>
                    <a:pt x="668" y="100"/>
                  </a:lnTo>
                  <a:lnTo>
                    <a:pt x="642" y="104"/>
                  </a:lnTo>
                  <a:lnTo>
                    <a:pt x="610" y="107"/>
                  </a:lnTo>
                  <a:lnTo>
                    <a:pt x="574" y="107"/>
                  </a:lnTo>
                  <a:lnTo>
                    <a:pt x="532" y="105"/>
                  </a:lnTo>
                  <a:lnTo>
                    <a:pt x="486" y="100"/>
                  </a:lnTo>
                  <a:lnTo>
                    <a:pt x="437" y="95"/>
                  </a:lnTo>
                  <a:lnTo>
                    <a:pt x="382" y="87"/>
                  </a:lnTo>
                  <a:lnTo>
                    <a:pt x="326" y="76"/>
                  </a:lnTo>
                  <a:lnTo>
                    <a:pt x="265" y="66"/>
                  </a:lnTo>
                  <a:lnTo>
                    <a:pt x="202" y="51"/>
                  </a:lnTo>
                  <a:lnTo>
                    <a:pt x="136" y="36"/>
                  </a:lnTo>
                  <a:lnTo>
                    <a:pt x="70" y="19"/>
                  </a:lnTo>
                  <a:lnTo>
                    <a:pt x="0" y="0"/>
                  </a:lnTo>
                </a:path>
              </a:pathLst>
            </a:custGeom>
            <a:noFill/>
            <a:ln w="76320">
              <a:solidFill>
                <a:srgbClr val="9999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Line 57"/>
            <p:cNvSpPr/>
            <p:nvPr/>
          </p:nvSpPr>
          <p:spPr>
            <a:xfrm flipH="1">
              <a:off x="7427880" y="4075920"/>
              <a:ext cx="673200" cy="2342880"/>
            </a:xfrm>
            <a:prstGeom prst="line">
              <a:avLst/>
            </a:prstGeom>
            <a:ln w="76320">
              <a:solidFill>
                <a:srgbClr val="9999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Freeform 58"/>
            <p:cNvSpPr/>
            <p:nvPr/>
          </p:nvSpPr>
          <p:spPr>
            <a:xfrm>
              <a:off x="6539040" y="4025880"/>
              <a:ext cx="2426040" cy="2424960"/>
            </a:xfrm>
            <a:custGeom>
              <a:avLst/>
              <a:gdLst/>
              <a:ahLst/>
              <a:rect l="l" t="t" r="r" b="b"/>
              <a:pathLst>
                <a:path w="2117" h="2132">
                  <a:moveTo>
                    <a:pt x="2076" y="1357"/>
                  </a:moveTo>
                  <a:lnTo>
                    <a:pt x="2076" y="1357"/>
                  </a:lnTo>
                  <a:lnTo>
                    <a:pt x="2059" y="1410"/>
                  </a:lnTo>
                  <a:lnTo>
                    <a:pt x="2041" y="1461"/>
                  </a:lnTo>
                  <a:lnTo>
                    <a:pt x="2020" y="1510"/>
                  </a:lnTo>
                  <a:lnTo>
                    <a:pt x="1996" y="1558"/>
                  </a:lnTo>
                  <a:lnTo>
                    <a:pt x="1971" y="1604"/>
                  </a:lnTo>
                  <a:lnTo>
                    <a:pt x="1944" y="1650"/>
                  </a:lnTo>
                  <a:lnTo>
                    <a:pt x="1913" y="1692"/>
                  </a:lnTo>
                  <a:lnTo>
                    <a:pt x="1883" y="1733"/>
                  </a:lnTo>
                  <a:lnTo>
                    <a:pt x="1849" y="1774"/>
                  </a:lnTo>
                  <a:lnTo>
                    <a:pt x="1813" y="1811"/>
                  </a:lnTo>
                  <a:lnTo>
                    <a:pt x="1777" y="1847"/>
                  </a:lnTo>
                  <a:lnTo>
                    <a:pt x="1738" y="1881"/>
                  </a:lnTo>
                  <a:lnTo>
                    <a:pt x="1699" y="1913"/>
                  </a:lnTo>
                  <a:lnTo>
                    <a:pt x="1657" y="1944"/>
                  </a:lnTo>
                  <a:lnTo>
                    <a:pt x="1614" y="1971"/>
                  </a:lnTo>
                  <a:lnTo>
                    <a:pt x="1572" y="1998"/>
                  </a:lnTo>
                  <a:lnTo>
                    <a:pt x="1526" y="2022"/>
                  </a:lnTo>
                  <a:lnTo>
                    <a:pt x="1480" y="2042"/>
                  </a:lnTo>
                  <a:lnTo>
                    <a:pt x="1432" y="2062"/>
                  </a:lnTo>
                  <a:lnTo>
                    <a:pt x="1385" y="2079"/>
                  </a:lnTo>
                  <a:lnTo>
                    <a:pt x="1336" y="2095"/>
                  </a:lnTo>
                  <a:lnTo>
                    <a:pt x="1286" y="2107"/>
                  </a:lnTo>
                  <a:lnTo>
                    <a:pt x="1235" y="2117"/>
                  </a:lnTo>
                  <a:lnTo>
                    <a:pt x="1184" y="2125"/>
                  </a:lnTo>
                  <a:lnTo>
                    <a:pt x="1133" y="2130"/>
                  </a:lnTo>
                  <a:lnTo>
                    <a:pt x="1081" y="2132"/>
                  </a:lnTo>
                  <a:lnTo>
                    <a:pt x="1030" y="2132"/>
                  </a:lnTo>
                  <a:lnTo>
                    <a:pt x="977" y="2130"/>
                  </a:lnTo>
                  <a:lnTo>
                    <a:pt x="924" y="2125"/>
                  </a:lnTo>
                  <a:lnTo>
                    <a:pt x="872" y="2117"/>
                  </a:lnTo>
                  <a:lnTo>
                    <a:pt x="819" y="2107"/>
                  </a:lnTo>
                  <a:lnTo>
                    <a:pt x="766" y="2093"/>
                  </a:lnTo>
                  <a:lnTo>
                    <a:pt x="766" y="2093"/>
                  </a:lnTo>
                  <a:lnTo>
                    <a:pt x="714" y="2076"/>
                  </a:lnTo>
                  <a:lnTo>
                    <a:pt x="663" y="2057"/>
                  </a:lnTo>
                  <a:lnTo>
                    <a:pt x="613" y="2037"/>
                  </a:lnTo>
                  <a:lnTo>
                    <a:pt x="568" y="2013"/>
                  </a:lnTo>
                  <a:lnTo>
                    <a:pt x="520" y="1988"/>
                  </a:lnTo>
                  <a:lnTo>
                    <a:pt x="476" y="1961"/>
                  </a:lnTo>
                  <a:lnTo>
                    <a:pt x="433" y="1930"/>
                  </a:lnTo>
                  <a:lnTo>
                    <a:pt x="393" y="1899"/>
                  </a:lnTo>
                  <a:lnTo>
                    <a:pt x="354" y="1865"/>
                  </a:lnTo>
                  <a:lnTo>
                    <a:pt x="316" y="1830"/>
                  </a:lnTo>
                  <a:lnTo>
                    <a:pt x="281" y="1794"/>
                  </a:lnTo>
                  <a:lnTo>
                    <a:pt x="247" y="1755"/>
                  </a:lnTo>
                  <a:lnTo>
                    <a:pt x="216" y="1714"/>
                  </a:lnTo>
                  <a:lnTo>
                    <a:pt x="185" y="1673"/>
                  </a:lnTo>
                  <a:lnTo>
                    <a:pt x="158" y="1631"/>
                  </a:lnTo>
                  <a:lnTo>
                    <a:pt x="133" y="1587"/>
                  </a:lnTo>
                  <a:lnTo>
                    <a:pt x="109" y="1541"/>
                  </a:lnTo>
                  <a:lnTo>
                    <a:pt x="87" y="1495"/>
                  </a:lnTo>
                  <a:lnTo>
                    <a:pt x="68" y="1448"/>
                  </a:lnTo>
                  <a:lnTo>
                    <a:pt x="51" y="1400"/>
                  </a:lnTo>
                  <a:lnTo>
                    <a:pt x="38" y="1351"/>
                  </a:lnTo>
                  <a:lnTo>
                    <a:pt x="24" y="1300"/>
                  </a:lnTo>
                  <a:lnTo>
                    <a:pt x="15" y="1249"/>
                  </a:lnTo>
                  <a:lnTo>
                    <a:pt x="7" y="1198"/>
                  </a:lnTo>
                  <a:lnTo>
                    <a:pt x="2" y="1147"/>
                  </a:lnTo>
                  <a:lnTo>
                    <a:pt x="0" y="1094"/>
                  </a:lnTo>
                  <a:lnTo>
                    <a:pt x="0" y="1042"/>
                  </a:lnTo>
                  <a:lnTo>
                    <a:pt x="4" y="989"/>
                  </a:lnTo>
                  <a:lnTo>
                    <a:pt x="9" y="936"/>
                  </a:lnTo>
                  <a:lnTo>
                    <a:pt x="17" y="882"/>
                  </a:lnTo>
                  <a:lnTo>
                    <a:pt x="27" y="829"/>
                  </a:lnTo>
                  <a:lnTo>
                    <a:pt x="41" y="777"/>
                  </a:lnTo>
                  <a:lnTo>
                    <a:pt x="41" y="777"/>
                  </a:lnTo>
                  <a:lnTo>
                    <a:pt x="58" y="724"/>
                  </a:lnTo>
                  <a:lnTo>
                    <a:pt x="77" y="673"/>
                  </a:lnTo>
                  <a:lnTo>
                    <a:pt x="99" y="624"/>
                  </a:lnTo>
                  <a:lnTo>
                    <a:pt x="121" y="576"/>
                  </a:lnTo>
                  <a:lnTo>
                    <a:pt x="146" y="529"/>
                  </a:lnTo>
                  <a:lnTo>
                    <a:pt x="175" y="484"/>
                  </a:lnTo>
                  <a:lnTo>
                    <a:pt x="204" y="442"/>
                  </a:lnTo>
                  <a:lnTo>
                    <a:pt x="236" y="399"/>
                  </a:lnTo>
                  <a:lnTo>
                    <a:pt x="269" y="360"/>
                  </a:lnTo>
                  <a:lnTo>
                    <a:pt x="304" y="323"/>
                  </a:lnTo>
                  <a:lnTo>
                    <a:pt x="340" y="286"/>
                  </a:lnTo>
                  <a:lnTo>
                    <a:pt x="379" y="252"/>
                  </a:lnTo>
                  <a:lnTo>
                    <a:pt x="418" y="219"/>
                  </a:lnTo>
                  <a:lnTo>
                    <a:pt x="461" y="190"/>
                  </a:lnTo>
                  <a:lnTo>
                    <a:pt x="503" y="162"/>
                  </a:lnTo>
                  <a:lnTo>
                    <a:pt x="547" y="136"/>
                  </a:lnTo>
                  <a:lnTo>
                    <a:pt x="591" y="112"/>
                  </a:lnTo>
                  <a:lnTo>
                    <a:pt x="637" y="90"/>
                  </a:lnTo>
                  <a:lnTo>
                    <a:pt x="685" y="72"/>
                  </a:lnTo>
                  <a:lnTo>
                    <a:pt x="732" y="53"/>
                  </a:lnTo>
                  <a:lnTo>
                    <a:pt x="782" y="39"/>
                  </a:lnTo>
                  <a:lnTo>
                    <a:pt x="831" y="26"/>
                  </a:lnTo>
                  <a:lnTo>
                    <a:pt x="882" y="15"/>
                  </a:lnTo>
                  <a:lnTo>
                    <a:pt x="933" y="9"/>
                  </a:lnTo>
                  <a:lnTo>
                    <a:pt x="984" y="4"/>
                  </a:lnTo>
                  <a:lnTo>
                    <a:pt x="1037" y="0"/>
                  </a:lnTo>
                  <a:lnTo>
                    <a:pt x="1087" y="0"/>
                  </a:lnTo>
                  <a:lnTo>
                    <a:pt x="1140" y="4"/>
                  </a:lnTo>
                  <a:lnTo>
                    <a:pt x="1193" y="9"/>
                  </a:lnTo>
                  <a:lnTo>
                    <a:pt x="1245" y="17"/>
                  </a:lnTo>
                  <a:lnTo>
                    <a:pt x="1300" y="27"/>
                  </a:lnTo>
                  <a:lnTo>
                    <a:pt x="1353" y="41"/>
                  </a:lnTo>
                  <a:lnTo>
                    <a:pt x="1353" y="41"/>
                  </a:lnTo>
                  <a:lnTo>
                    <a:pt x="1403" y="56"/>
                  </a:lnTo>
                  <a:lnTo>
                    <a:pt x="1454" y="75"/>
                  </a:lnTo>
                  <a:lnTo>
                    <a:pt x="1504" y="97"/>
                  </a:lnTo>
                  <a:lnTo>
                    <a:pt x="1551" y="121"/>
                  </a:lnTo>
                  <a:lnTo>
                    <a:pt x="1597" y="146"/>
                  </a:lnTo>
                  <a:lnTo>
                    <a:pt x="1641" y="173"/>
                  </a:lnTo>
                  <a:lnTo>
                    <a:pt x="1684" y="202"/>
                  </a:lnTo>
                  <a:lnTo>
                    <a:pt x="1725" y="235"/>
                  </a:lnTo>
                  <a:lnTo>
                    <a:pt x="1764" y="269"/>
                  </a:lnTo>
                  <a:lnTo>
                    <a:pt x="1801" y="303"/>
                  </a:lnTo>
                  <a:lnTo>
                    <a:pt x="1837" y="340"/>
                  </a:lnTo>
                  <a:lnTo>
                    <a:pt x="1871" y="379"/>
                  </a:lnTo>
                  <a:lnTo>
                    <a:pt x="1903" y="418"/>
                  </a:lnTo>
                  <a:lnTo>
                    <a:pt x="1932" y="461"/>
                  </a:lnTo>
                  <a:lnTo>
                    <a:pt x="1959" y="503"/>
                  </a:lnTo>
                  <a:lnTo>
                    <a:pt x="1984" y="547"/>
                  </a:lnTo>
                  <a:lnTo>
                    <a:pt x="2008" y="591"/>
                  </a:lnTo>
                  <a:lnTo>
                    <a:pt x="2030" y="639"/>
                  </a:lnTo>
                  <a:lnTo>
                    <a:pt x="2049" y="685"/>
                  </a:lnTo>
                  <a:lnTo>
                    <a:pt x="2066" y="734"/>
                  </a:lnTo>
                  <a:lnTo>
                    <a:pt x="2081" y="783"/>
                  </a:lnTo>
                  <a:lnTo>
                    <a:pt x="2093" y="833"/>
                  </a:lnTo>
                  <a:lnTo>
                    <a:pt x="2103" y="884"/>
                  </a:lnTo>
                  <a:lnTo>
                    <a:pt x="2110" y="934"/>
                  </a:lnTo>
                  <a:lnTo>
                    <a:pt x="2115" y="987"/>
                  </a:lnTo>
                  <a:lnTo>
                    <a:pt x="2117" y="1038"/>
                  </a:lnTo>
                  <a:lnTo>
                    <a:pt x="2117" y="1091"/>
                  </a:lnTo>
                  <a:lnTo>
                    <a:pt x="2114" y="1145"/>
                  </a:lnTo>
                  <a:lnTo>
                    <a:pt x="2109" y="1198"/>
                  </a:lnTo>
                  <a:lnTo>
                    <a:pt x="2100" y="1250"/>
                  </a:lnTo>
                  <a:lnTo>
                    <a:pt x="2090" y="1303"/>
                  </a:lnTo>
                  <a:lnTo>
                    <a:pt x="2076" y="1357"/>
                  </a:lnTo>
                  <a:lnTo>
                    <a:pt x="2076" y="1357"/>
                  </a:lnTo>
                  <a:close/>
                </a:path>
              </a:pathLst>
            </a:custGeom>
            <a:noFill/>
            <a:ln w="76320">
              <a:solidFill>
                <a:srgbClr val="9999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Freeform 59"/>
            <p:cNvSpPr/>
            <p:nvPr/>
          </p:nvSpPr>
          <p:spPr>
            <a:xfrm>
              <a:off x="6545520" y="4027680"/>
              <a:ext cx="2426400" cy="2424960"/>
            </a:xfrm>
            <a:custGeom>
              <a:avLst/>
              <a:gdLst/>
              <a:ahLst/>
              <a:rect l="l" t="t" r="r" b="b"/>
              <a:pathLst>
                <a:path w="2117" h="2132">
                  <a:moveTo>
                    <a:pt x="2076" y="1357"/>
                  </a:moveTo>
                  <a:lnTo>
                    <a:pt x="2076" y="1357"/>
                  </a:lnTo>
                  <a:lnTo>
                    <a:pt x="2059" y="1408"/>
                  </a:lnTo>
                  <a:lnTo>
                    <a:pt x="2040" y="1459"/>
                  </a:lnTo>
                  <a:lnTo>
                    <a:pt x="2020" y="1510"/>
                  </a:lnTo>
                  <a:lnTo>
                    <a:pt x="1996" y="1558"/>
                  </a:lnTo>
                  <a:lnTo>
                    <a:pt x="1971" y="1604"/>
                  </a:lnTo>
                  <a:lnTo>
                    <a:pt x="1944" y="1648"/>
                  </a:lnTo>
                  <a:lnTo>
                    <a:pt x="1913" y="1692"/>
                  </a:lnTo>
                  <a:lnTo>
                    <a:pt x="1882" y="1733"/>
                  </a:lnTo>
                  <a:lnTo>
                    <a:pt x="1848" y="1773"/>
                  </a:lnTo>
                  <a:lnTo>
                    <a:pt x="1813" y="1811"/>
                  </a:lnTo>
                  <a:lnTo>
                    <a:pt x="1777" y="1846"/>
                  </a:lnTo>
                  <a:lnTo>
                    <a:pt x="1738" y="1880"/>
                  </a:lnTo>
                  <a:lnTo>
                    <a:pt x="1699" y="1913"/>
                  </a:lnTo>
                  <a:lnTo>
                    <a:pt x="1656" y="1943"/>
                  </a:lnTo>
                  <a:lnTo>
                    <a:pt x="1614" y="1970"/>
                  </a:lnTo>
                  <a:lnTo>
                    <a:pt x="1570" y="1998"/>
                  </a:lnTo>
                  <a:lnTo>
                    <a:pt x="1526" y="2021"/>
                  </a:lnTo>
                  <a:lnTo>
                    <a:pt x="1480" y="2042"/>
                  </a:lnTo>
                  <a:lnTo>
                    <a:pt x="1432" y="2062"/>
                  </a:lnTo>
                  <a:lnTo>
                    <a:pt x="1385" y="2079"/>
                  </a:lnTo>
                  <a:lnTo>
                    <a:pt x="1335" y="2094"/>
                  </a:lnTo>
                  <a:lnTo>
                    <a:pt x="1286" y="2106"/>
                  </a:lnTo>
                  <a:lnTo>
                    <a:pt x="1235" y="2117"/>
                  </a:lnTo>
                  <a:lnTo>
                    <a:pt x="1184" y="2125"/>
                  </a:lnTo>
                  <a:lnTo>
                    <a:pt x="1133" y="2130"/>
                  </a:lnTo>
                  <a:lnTo>
                    <a:pt x="1080" y="2132"/>
                  </a:lnTo>
                  <a:lnTo>
                    <a:pt x="1030" y="2132"/>
                  </a:lnTo>
                  <a:lnTo>
                    <a:pt x="977" y="2130"/>
                  </a:lnTo>
                  <a:lnTo>
                    <a:pt x="924" y="2125"/>
                  </a:lnTo>
                  <a:lnTo>
                    <a:pt x="872" y="2117"/>
                  </a:lnTo>
                  <a:lnTo>
                    <a:pt x="819" y="2105"/>
                  </a:lnTo>
                  <a:lnTo>
                    <a:pt x="766" y="2091"/>
                  </a:lnTo>
                  <a:lnTo>
                    <a:pt x="766" y="2091"/>
                  </a:lnTo>
                  <a:lnTo>
                    <a:pt x="714" y="2076"/>
                  </a:lnTo>
                  <a:lnTo>
                    <a:pt x="663" y="2057"/>
                  </a:lnTo>
                  <a:lnTo>
                    <a:pt x="613" y="2035"/>
                  </a:lnTo>
                  <a:lnTo>
                    <a:pt x="566" y="2013"/>
                  </a:lnTo>
                  <a:lnTo>
                    <a:pt x="520" y="1987"/>
                  </a:lnTo>
                  <a:lnTo>
                    <a:pt x="476" y="1959"/>
                  </a:lnTo>
                  <a:lnTo>
                    <a:pt x="433" y="1930"/>
                  </a:lnTo>
                  <a:lnTo>
                    <a:pt x="392" y="1897"/>
                  </a:lnTo>
                  <a:lnTo>
                    <a:pt x="353" y="1865"/>
                  </a:lnTo>
                  <a:lnTo>
                    <a:pt x="316" y="1829"/>
                  </a:lnTo>
                  <a:lnTo>
                    <a:pt x="280" y="1792"/>
                  </a:lnTo>
                  <a:lnTo>
                    <a:pt x="246" y="1755"/>
                  </a:lnTo>
                  <a:lnTo>
                    <a:pt x="216" y="1714"/>
                  </a:lnTo>
                  <a:lnTo>
                    <a:pt x="185" y="1673"/>
                  </a:lnTo>
                  <a:lnTo>
                    <a:pt x="158" y="1631"/>
                  </a:lnTo>
                  <a:lnTo>
                    <a:pt x="133" y="1587"/>
                  </a:lnTo>
                  <a:lnTo>
                    <a:pt x="109" y="1541"/>
                  </a:lnTo>
                  <a:lnTo>
                    <a:pt x="87" y="1495"/>
                  </a:lnTo>
                  <a:lnTo>
                    <a:pt x="68" y="1447"/>
                  </a:lnTo>
                  <a:lnTo>
                    <a:pt x="51" y="1398"/>
                  </a:lnTo>
                  <a:lnTo>
                    <a:pt x="37" y="1350"/>
                  </a:lnTo>
                  <a:lnTo>
                    <a:pt x="24" y="1299"/>
                  </a:lnTo>
                  <a:lnTo>
                    <a:pt x="15" y="1248"/>
                  </a:lnTo>
                  <a:lnTo>
                    <a:pt x="7" y="1198"/>
                  </a:lnTo>
                  <a:lnTo>
                    <a:pt x="2" y="1147"/>
                  </a:lnTo>
                  <a:lnTo>
                    <a:pt x="0" y="1094"/>
                  </a:lnTo>
                  <a:lnTo>
                    <a:pt x="0" y="1041"/>
                  </a:lnTo>
                  <a:lnTo>
                    <a:pt x="3" y="989"/>
                  </a:lnTo>
                  <a:lnTo>
                    <a:pt x="8" y="936"/>
                  </a:lnTo>
                  <a:lnTo>
                    <a:pt x="17" y="882"/>
                  </a:lnTo>
                  <a:lnTo>
                    <a:pt x="27" y="829"/>
                  </a:lnTo>
                  <a:lnTo>
                    <a:pt x="41" y="776"/>
                  </a:lnTo>
                  <a:lnTo>
                    <a:pt x="41" y="776"/>
                  </a:lnTo>
                  <a:lnTo>
                    <a:pt x="58" y="724"/>
                  </a:lnTo>
                  <a:lnTo>
                    <a:pt x="76" y="673"/>
                  </a:lnTo>
                  <a:lnTo>
                    <a:pt x="97" y="623"/>
                  </a:lnTo>
                  <a:lnTo>
                    <a:pt x="121" y="574"/>
                  </a:lnTo>
                  <a:lnTo>
                    <a:pt x="146" y="528"/>
                  </a:lnTo>
                  <a:lnTo>
                    <a:pt x="173" y="484"/>
                  </a:lnTo>
                  <a:lnTo>
                    <a:pt x="204" y="440"/>
                  </a:lnTo>
                  <a:lnTo>
                    <a:pt x="234" y="399"/>
                  </a:lnTo>
                  <a:lnTo>
                    <a:pt x="268" y="360"/>
                  </a:lnTo>
                  <a:lnTo>
                    <a:pt x="304" y="321"/>
                  </a:lnTo>
                  <a:lnTo>
                    <a:pt x="340" y="285"/>
                  </a:lnTo>
                  <a:lnTo>
                    <a:pt x="379" y="251"/>
                  </a:lnTo>
                  <a:lnTo>
                    <a:pt x="418" y="219"/>
                  </a:lnTo>
                  <a:lnTo>
                    <a:pt x="460" y="190"/>
                  </a:lnTo>
                  <a:lnTo>
                    <a:pt x="503" y="161"/>
                  </a:lnTo>
                  <a:lnTo>
                    <a:pt x="547" y="136"/>
                  </a:lnTo>
                  <a:lnTo>
                    <a:pt x="591" y="112"/>
                  </a:lnTo>
                  <a:lnTo>
                    <a:pt x="637" y="90"/>
                  </a:lnTo>
                  <a:lnTo>
                    <a:pt x="685" y="70"/>
                  </a:lnTo>
                  <a:lnTo>
                    <a:pt x="732" y="53"/>
                  </a:lnTo>
                  <a:lnTo>
                    <a:pt x="781" y="39"/>
                  </a:lnTo>
                  <a:lnTo>
                    <a:pt x="831" y="25"/>
                  </a:lnTo>
                  <a:lnTo>
                    <a:pt x="882" y="15"/>
                  </a:lnTo>
                  <a:lnTo>
                    <a:pt x="933" y="8"/>
                  </a:lnTo>
                  <a:lnTo>
                    <a:pt x="984" y="3"/>
                  </a:lnTo>
                  <a:lnTo>
                    <a:pt x="1036" y="0"/>
                  </a:lnTo>
                  <a:lnTo>
                    <a:pt x="1087" y="0"/>
                  </a:lnTo>
                  <a:lnTo>
                    <a:pt x="1140" y="3"/>
                  </a:lnTo>
                  <a:lnTo>
                    <a:pt x="1193" y="8"/>
                  </a:lnTo>
                  <a:lnTo>
                    <a:pt x="1245" y="15"/>
                  </a:lnTo>
                  <a:lnTo>
                    <a:pt x="1298" y="27"/>
                  </a:lnTo>
                  <a:lnTo>
                    <a:pt x="1351" y="41"/>
                  </a:lnTo>
                  <a:lnTo>
                    <a:pt x="1351" y="41"/>
                  </a:lnTo>
                  <a:lnTo>
                    <a:pt x="1403" y="56"/>
                  </a:lnTo>
                  <a:lnTo>
                    <a:pt x="1454" y="75"/>
                  </a:lnTo>
                  <a:lnTo>
                    <a:pt x="1504" y="97"/>
                  </a:lnTo>
                  <a:lnTo>
                    <a:pt x="1551" y="119"/>
                  </a:lnTo>
                  <a:lnTo>
                    <a:pt x="1597" y="144"/>
                  </a:lnTo>
                  <a:lnTo>
                    <a:pt x="1641" y="173"/>
                  </a:lnTo>
                  <a:lnTo>
                    <a:pt x="1684" y="202"/>
                  </a:lnTo>
                  <a:lnTo>
                    <a:pt x="1724" y="234"/>
                  </a:lnTo>
                  <a:lnTo>
                    <a:pt x="1763" y="267"/>
                  </a:lnTo>
                  <a:lnTo>
                    <a:pt x="1801" y="302"/>
                  </a:lnTo>
                  <a:lnTo>
                    <a:pt x="1836" y="340"/>
                  </a:lnTo>
                  <a:lnTo>
                    <a:pt x="1870" y="377"/>
                  </a:lnTo>
                  <a:lnTo>
                    <a:pt x="1901" y="418"/>
                  </a:lnTo>
                  <a:lnTo>
                    <a:pt x="1932" y="459"/>
                  </a:lnTo>
                  <a:lnTo>
                    <a:pt x="1959" y="503"/>
                  </a:lnTo>
                  <a:lnTo>
                    <a:pt x="1984" y="547"/>
                  </a:lnTo>
                  <a:lnTo>
                    <a:pt x="2008" y="591"/>
                  </a:lnTo>
                  <a:lnTo>
                    <a:pt x="2030" y="637"/>
                  </a:lnTo>
                  <a:lnTo>
                    <a:pt x="2049" y="684"/>
                  </a:lnTo>
                  <a:lnTo>
                    <a:pt x="2066" y="734"/>
                  </a:lnTo>
                  <a:lnTo>
                    <a:pt x="2079" y="783"/>
                  </a:lnTo>
                  <a:lnTo>
                    <a:pt x="2093" y="832"/>
                  </a:lnTo>
                  <a:lnTo>
                    <a:pt x="2102" y="883"/>
                  </a:lnTo>
                  <a:lnTo>
                    <a:pt x="2110" y="934"/>
                  </a:lnTo>
                  <a:lnTo>
                    <a:pt x="2115" y="987"/>
                  </a:lnTo>
                  <a:lnTo>
                    <a:pt x="2117" y="1038"/>
                  </a:lnTo>
                  <a:lnTo>
                    <a:pt x="2117" y="1090"/>
                  </a:lnTo>
                  <a:lnTo>
                    <a:pt x="2113" y="1143"/>
                  </a:lnTo>
                  <a:lnTo>
                    <a:pt x="2108" y="1198"/>
                  </a:lnTo>
                  <a:lnTo>
                    <a:pt x="2100" y="1250"/>
                  </a:lnTo>
                  <a:lnTo>
                    <a:pt x="2090" y="1303"/>
                  </a:lnTo>
                  <a:lnTo>
                    <a:pt x="2076" y="1357"/>
                  </a:lnTo>
                  <a:lnTo>
                    <a:pt x="2076" y="1357"/>
                  </a:lnTo>
                  <a:close/>
                </a:path>
              </a:pathLst>
            </a:custGeom>
            <a:noFill/>
            <a:ln w="76320">
              <a:solidFill>
                <a:srgbClr val="9999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Freeform 60"/>
            <p:cNvSpPr/>
            <p:nvPr/>
          </p:nvSpPr>
          <p:spPr>
            <a:xfrm>
              <a:off x="6676200" y="4259880"/>
              <a:ext cx="1842480" cy="1508400"/>
            </a:xfrm>
            <a:custGeom>
              <a:avLst/>
              <a:gdLst/>
              <a:ahLst/>
              <a:rect l="l" t="t" r="r" b="b"/>
              <a:pathLst>
                <a:path w="1609" h="1326">
                  <a:moveTo>
                    <a:pt x="0" y="1326"/>
                  </a:moveTo>
                  <a:lnTo>
                    <a:pt x="0" y="1326"/>
                  </a:lnTo>
                  <a:lnTo>
                    <a:pt x="26" y="1243"/>
                  </a:lnTo>
                  <a:lnTo>
                    <a:pt x="53" y="1162"/>
                  </a:lnTo>
                  <a:lnTo>
                    <a:pt x="83" y="1082"/>
                  </a:lnTo>
                  <a:lnTo>
                    <a:pt x="116" y="1005"/>
                  </a:lnTo>
                  <a:lnTo>
                    <a:pt x="151" y="931"/>
                  </a:lnTo>
                  <a:lnTo>
                    <a:pt x="189" y="858"/>
                  </a:lnTo>
                  <a:lnTo>
                    <a:pt x="228" y="786"/>
                  </a:lnTo>
                  <a:lnTo>
                    <a:pt x="269" y="718"/>
                  </a:lnTo>
                  <a:lnTo>
                    <a:pt x="311" y="654"/>
                  </a:lnTo>
                  <a:lnTo>
                    <a:pt x="357" y="591"/>
                  </a:lnTo>
                  <a:lnTo>
                    <a:pt x="403" y="531"/>
                  </a:lnTo>
                  <a:lnTo>
                    <a:pt x="452" y="474"/>
                  </a:lnTo>
                  <a:lnTo>
                    <a:pt x="501" y="419"/>
                  </a:lnTo>
                  <a:lnTo>
                    <a:pt x="552" y="367"/>
                  </a:lnTo>
                  <a:lnTo>
                    <a:pt x="605" y="319"/>
                  </a:lnTo>
                  <a:lnTo>
                    <a:pt x="658" y="273"/>
                  </a:lnTo>
                  <a:lnTo>
                    <a:pt x="714" y="231"/>
                  </a:lnTo>
                  <a:lnTo>
                    <a:pt x="768" y="192"/>
                  </a:lnTo>
                  <a:lnTo>
                    <a:pt x="826" y="156"/>
                  </a:lnTo>
                  <a:lnTo>
                    <a:pt x="884" y="124"/>
                  </a:lnTo>
                  <a:lnTo>
                    <a:pt x="941" y="97"/>
                  </a:lnTo>
                  <a:lnTo>
                    <a:pt x="1001" y="71"/>
                  </a:lnTo>
                  <a:lnTo>
                    <a:pt x="1060" y="49"/>
                  </a:lnTo>
                  <a:lnTo>
                    <a:pt x="1120" y="32"/>
                  </a:lnTo>
                  <a:lnTo>
                    <a:pt x="1181" y="17"/>
                  </a:lnTo>
                  <a:lnTo>
                    <a:pt x="1242" y="8"/>
                  </a:lnTo>
                  <a:lnTo>
                    <a:pt x="1303" y="1"/>
                  </a:lnTo>
                  <a:lnTo>
                    <a:pt x="1334" y="0"/>
                  </a:lnTo>
                  <a:lnTo>
                    <a:pt x="1364" y="0"/>
                  </a:lnTo>
                  <a:lnTo>
                    <a:pt x="1395" y="0"/>
                  </a:lnTo>
                  <a:lnTo>
                    <a:pt x="1425" y="1"/>
                  </a:lnTo>
                  <a:lnTo>
                    <a:pt x="1456" y="5"/>
                  </a:lnTo>
                  <a:lnTo>
                    <a:pt x="1487" y="8"/>
                  </a:lnTo>
                  <a:lnTo>
                    <a:pt x="1517" y="13"/>
                  </a:lnTo>
                  <a:lnTo>
                    <a:pt x="1548" y="18"/>
                  </a:lnTo>
                  <a:lnTo>
                    <a:pt x="1578" y="25"/>
                  </a:lnTo>
                  <a:lnTo>
                    <a:pt x="1609" y="34"/>
                  </a:lnTo>
                </a:path>
              </a:pathLst>
            </a:custGeom>
            <a:noFill/>
            <a:ln w="76320">
              <a:solidFill>
                <a:srgbClr val="9999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Freeform 61"/>
            <p:cNvSpPr/>
            <p:nvPr/>
          </p:nvSpPr>
          <p:spPr>
            <a:xfrm>
              <a:off x="7615440" y="4037040"/>
              <a:ext cx="934560" cy="2192760"/>
            </a:xfrm>
            <a:custGeom>
              <a:avLst/>
              <a:gdLst/>
              <a:ahLst/>
              <a:rect l="l" t="t" r="r" b="b"/>
              <a:pathLst>
                <a:path w="817" h="1928">
                  <a:moveTo>
                    <a:pt x="730" y="1928"/>
                  </a:moveTo>
                  <a:lnTo>
                    <a:pt x="730" y="1928"/>
                  </a:lnTo>
                  <a:lnTo>
                    <a:pt x="752" y="1845"/>
                  </a:lnTo>
                  <a:lnTo>
                    <a:pt x="771" y="1762"/>
                  </a:lnTo>
                  <a:lnTo>
                    <a:pt x="786" y="1680"/>
                  </a:lnTo>
                  <a:lnTo>
                    <a:pt x="800" y="1599"/>
                  </a:lnTo>
                  <a:lnTo>
                    <a:pt x="808" y="1517"/>
                  </a:lnTo>
                  <a:lnTo>
                    <a:pt x="813" y="1436"/>
                  </a:lnTo>
                  <a:lnTo>
                    <a:pt x="817" y="1358"/>
                  </a:lnTo>
                  <a:lnTo>
                    <a:pt x="815" y="1278"/>
                  </a:lnTo>
                  <a:lnTo>
                    <a:pt x="812" y="1201"/>
                  </a:lnTo>
                  <a:lnTo>
                    <a:pt x="805" y="1125"/>
                  </a:lnTo>
                  <a:lnTo>
                    <a:pt x="796" y="1050"/>
                  </a:lnTo>
                  <a:lnTo>
                    <a:pt x="783" y="977"/>
                  </a:lnTo>
                  <a:lnTo>
                    <a:pt x="768" y="906"/>
                  </a:lnTo>
                  <a:lnTo>
                    <a:pt x="751" y="836"/>
                  </a:lnTo>
                  <a:lnTo>
                    <a:pt x="729" y="767"/>
                  </a:lnTo>
                  <a:lnTo>
                    <a:pt x="706" y="702"/>
                  </a:lnTo>
                  <a:lnTo>
                    <a:pt x="679" y="637"/>
                  </a:lnTo>
                  <a:lnTo>
                    <a:pt x="650" y="575"/>
                  </a:lnTo>
                  <a:lnTo>
                    <a:pt x="620" y="515"/>
                  </a:lnTo>
                  <a:lnTo>
                    <a:pt x="586" y="457"/>
                  </a:lnTo>
                  <a:lnTo>
                    <a:pt x="548" y="403"/>
                  </a:lnTo>
                  <a:lnTo>
                    <a:pt x="511" y="352"/>
                  </a:lnTo>
                  <a:lnTo>
                    <a:pt x="469" y="301"/>
                  </a:lnTo>
                  <a:lnTo>
                    <a:pt x="426" y="255"/>
                  </a:lnTo>
                  <a:lnTo>
                    <a:pt x="380" y="211"/>
                  </a:lnTo>
                  <a:lnTo>
                    <a:pt x="333" y="172"/>
                  </a:lnTo>
                  <a:lnTo>
                    <a:pt x="282" y="135"/>
                  </a:lnTo>
                  <a:lnTo>
                    <a:pt x="229" y="101"/>
                  </a:lnTo>
                  <a:lnTo>
                    <a:pt x="175" y="70"/>
                  </a:lnTo>
                  <a:lnTo>
                    <a:pt x="147" y="56"/>
                  </a:lnTo>
                  <a:lnTo>
                    <a:pt x="119" y="43"/>
                  </a:lnTo>
                  <a:lnTo>
                    <a:pt x="90" y="31"/>
                  </a:lnTo>
                  <a:lnTo>
                    <a:pt x="61" y="19"/>
                  </a:lnTo>
                  <a:lnTo>
                    <a:pt x="30" y="9"/>
                  </a:lnTo>
                  <a:lnTo>
                    <a:pt x="0" y="0"/>
                  </a:lnTo>
                </a:path>
              </a:pathLst>
            </a:custGeom>
            <a:noFill/>
            <a:ln w="76320">
              <a:solidFill>
                <a:srgbClr val="9999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66" name="Group 62"/>
          <p:cNvGrpSpPr/>
          <p:nvPr/>
        </p:nvGrpSpPr>
        <p:grpSpPr>
          <a:xfrm>
            <a:off x="1071720" y="260280"/>
            <a:ext cx="1296720" cy="1081080"/>
            <a:chOff x="1071720" y="260280"/>
            <a:chExt cx="1296720" cy="1081080"/>
          </a:xfrm>
        </p:grpSpPr>
        <p:sp>
          <p:nvSpPr>
            <p:cNvPr id="267" name="AutoShape 63"/>
            <p:cNvSpPr/>
            <p:nvPr/>
          </p:nvSpPr>
          <p:spPr>
            <a:xfrm>
              <a:off x="1071720" y="260280"/>
              <a:ext cx="1296720" cy="1081080"/>
            </a:xfrm>
            <a:prstGeom prst="roundRect">
              <a:avLst>
                <a:gd name="adj" fmla="val 16667"/>
              </a:avLst>
            </a:prstGeom>
            <a:solidFill>
              <a:srgbClr val="9999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68" name="Group 64"/>
            <p:cNvGrpSpPr/>
            <p:nvPr/>
          </p:nvGrpSpPr>
          <p:grpSpPr>
            <a:xfrm>
              <a:off x="1322280" y="404640"/>
              <a:ext cx="801720" cy="795600"/>
              <a:chOff x="1322280" y="404640"/>
              <a:chExt cx="801720" cy="795600"/>
            </a:xfrm>
          </p:grpSpPr>
          <p:sp>
            <p:nvSpPr>
              <p:cNvPr id="269" name="Freeform 65"/>
              <p:cNvSpPr/>
              <p:nvPr/>
            </p:nvSpPr>
            <p:spPr>
              <a:xfrm>
                <a:off x="1609920" y="404640"/>
                <a:ext cx="391680" cy="227160"/>
              </a:xfrm>
              <a:custGeom>
                <a:avLst/>
                <a:gdLst/>
                <a:ahLst/>
                <a:rect l="l" t="t" r="r" b="b"/>
                <a:pathLst>
                  <a:path w="1039" h="606">
                    <a:moveTo>
                      <a:pt x="1034" y="450"/>
                    </a:moveTo>
                    <a:lnTo>
                      <a:pt x="1034" y="450"/>
                    </a:lnTo>
                    <a:lnTo>
                      <a:pt x="1029" y="464"/>
                    </a:lnTo>
                    <a:lnTo>
                      <a:pt x="1024" y="476"/>
                    </a:lnTo>
                    <a:lnTo>
                      <a:pt x="1016" y="489"/>
                    </a:lnTo>
                    <a:lnTo>
                      <a:pt x="1009" y="501"/>
                    </a:lnTo>
                    <a:lnTo>
                      <a:pt x="999" y="511"/>
                    </a:lnTo>
                    <a:lnTo>
                      <a:pt x="988" y="523"/>
                    </a:lnTo>
                    <a:lnTo>
                      <a:pt x="976" y="532"/>
                    </a:lnTo>
                    <a:lnTo>
                      <a:pt x="965" y="542"/>
                    </a:lnTo>
                    <a:lnTo>
                      <a:pt x="951" y="550"/>
                    </a:lnTo>
                    <a:lnTo>
                      <a:pt x="936" y="559"/>
                    </a:lnTo>
                    <a:lnTo>
                      <a:pt x="903" y="574"/>
                    </a:lnTo>
                    <a:lnTo>
                      <a:pt x="868" y="586"/>
                    </a:lnTo>
                    <a:lnTo>
                      <a:pt x="830" y="594"/>
                    </a:lnTo>
                    <a:lnTo>
                      <a:pt x="788" y="601"/>
                    </a:lnTo>
                    <a:lnTo>
                      <a:pt x="744" y="606"/>
                    </a:lnTo>
                    <a:lnTo>
                      <a:pt x="698" y="606"/>
                    </a:lnTo>
                    <a:lnTo>
                      <a:pt x="650" y="605"/>
                    </a:lnTo>
                    <a:lnTo>
                      <a:pt x="599" y="601"/>
                    </a:lnTo>
                    <a:lnTo>
                      <a:pt x="548" y="593"/>
                    </a:lnTo>
                    <a:lnTo>
                      <a:pt x="497" y="583"/>
                    </a:lnTo>
                    <a:lnTo>
                      <a:pt x="445" y="569"/>
                    </a:lnTo>
                    <a:lnTo>
                      <a:pt x="445" y="569"/>
                    </a:lnTo>
                    <a:lnTo>
                      <a:pt x="392" y="552"/>
                    </a:lnTo>
                    <a:lnTo>
                      <a:pt x="341" y="533"/>
                    </a:lnTo>
                    <a:lnTo>
                      <a:pt x="295" y="513"/>
                    </a:lnTo>
                    <a:lnTo>
                      <a:pt x="249" y="491"/>
                    </a:lnTo>
                    <a:lnTo>
                      <a:pt x="209" y="467"/>
                    </a:lnTo>
                    <a:lnTo>
                      <a:pt x="169" y="442"/>
                    </a:lnTo>
                    <a:lnTo>
                      <a:pt x="134" y="414"/>
                    </a:lnTo>
                    <a:lnTo>
                      <a:pt x="103" y="387"/>
                    </a:lnTo>
                    <a:lnTo>
                      <a:pt x="74" y="358"/>
                    </a:lnTo>
                    <a:lnTo>
                      <a:pt x="51" y="329"/>
                    </a:lnTo>
                    <a:lnTo>
                      <a:pt x="32" y="301"/>
                    </a:lnTo>
                    <a:lnTo>
                      <a:pt x="23" y="285"/>
                    </a:lnTo>
                    <a:lnTo>
                      <a:pt x="17" y="272"/>
                    </a:lnTo>
                    <a:lnTo>
                      <a:pt x="11" y="256"/>
                    </a:lnTo>
                    <a:lnTo>
                      <a:pt x="6" y="243"/>
                    </a:lnTo>
                    <a:lnTo>
                      <a:pt x="3" y="228"/>
                    </a:lnTo>
                    <a:lnTo>
                      <a:pt x="1" y="212"/>
                    </a:lnTo>
                    <a:lnTo>
                      <a:pt x="0" y="199"/>
                    </a:lnTo>
                    <a:lnTo>
                      <a:pt x="1" y="185"/>
                    </a:lnTo>
                    <a:lnTo>
                      <a:pt x="3" y="170"/>
                    </a:lnTo>
                    <a:lnTo>
                      <a:pt x="6" y="156"/>
                    </a:lnTo>
                    <a:lnTo>
                      <a:pt x="6" y="156"/>
                    </a:lnTo>
                    <a:lnTo>
                      <a:pt x="10" y="143"/>
                    </a:lnTo>
                    <a:lnTo>
                      <a:pt x="17" y="131"/>
                    </a:lnTo>
                    <a:lnTo>
                      <a:pt x="23" y="117"/>
                    </a:lnTo>
                    <a:lnTo>
                      <a:pt x="32" y="105"/>
                    </a:lnTo>
                    <a:lnTo>
                      <a:pt x="40" y="95"/>
                    </a:lnTo>
                    <a:lnTo>
                      <a:pt x="51" y="85"/>
                    </a:lnTo>
                    <a:lnTo>
                      <a:pt x="62" y="75"/>
                    </a:lnTo>
                    <a:lnTo>
                      <a:pt x="76" y="64"/>
                    </a:lnTo>
                    <a:lnTo>
                      <a:pt x="90" y="56"/>
                    </a:lnTo>
                    <a:lnTo>
                      <a:pt x="103" y="47"/>
                    </a:lnTo>
                    <a:lnTo>
                      <a:pt x="136" y="32"/>
                    </a:lnTo>
                    <a:lnTo>
                      <a:pt x="171" y="20"/>
                    </a:lnTo>
                    <a:lnTo>
                      <a:pt x="210" y="12"/>
                    </a:lnTo>
                    <a:lnTo>
                      <a:pt x="251" y="5"/>
                    </a:lnTo>
                    <a:lnTo>
                      <a:pt x="295" y="2"/>
                    </a:lnTo>
                    <a:lnTo>
                      <a:pt x="341" y="0"/>
                    </a:lnTo>
                    <a:lnTo>
                      <a:pt x="390" y="2"/>
                    </a:lnTo>
                    <a:lnTo>
                      <a:pt x="440" y="5"/>
                    </a:lnTo>
                    <a:lnTo>
                      <a:pt x="491" y="13"/>
                    </a:lnTo>
                    <a:lnTo>
                      <a:pt x="543" y="24"/>
                    </a:lnTo>
                    <a:lnTo>
                      <a:pt x="596" y="37"/>
                    </a:lnTo>
                    <a:lnTo>
                      <a:pt x="596" y="37"/>
                    </a:lnTo>
                    <a:lnTo>
                      <a:pt x="649" y="54"/>
                    </a:lnTo>
                    <a:lnTo>
                      <a:pt x="698" y="73"/>
                    </a:lnTo>
                    <a:lnTo>
                      <a:pt x="745" y="93"/>
                    </a:lnTo>
                    <a:lnTo>
                      <a:pt x="790" y="115"/>
                    </a:lnTo>
                    <a:lnTo>
                      <a:pt x="832" y="139"/>
                    </a:lnTo>
                    <a:lnTo>
                      <a:pt x="869" y="165"/>
                    </a:lnTo>
                    <a:lnTo>
                      <a:pt x="905" y="192"/>
                    </a:lnTo>
                    <a:lnTo>
                      <a:pt x="937" y="219"/>
                    </a:lnTo>
                    <a:lnTo>
                      <a:pt x="965" y="248"/>
                    </a:lnTo>
                    <a:lnTo>
                      <a:pt x="988" y="277"/>
                    </a:lnTo>
                    <a:lnTo>
                      <a:pt x="1009" y="306"/>
                    </a:lnTo>
                    <a:lnTo>
                      <a:pt x="1016" y="321"/>
                    </a:lnTo>
                    <a:lnTo>
                      <a:pt x="1022" y="335"/>
                    </a:lnTo>
                    <a:lnTo>
                      <a:pt x="1029" y="350"/>
                    </a:lnTo>
                    <a:lnTo>
                      <a:pt x="1033" y="365"/>
                    </a:lnTo>
                    <a:lnTo>
                      <a:pt x="1036" y="379"/>
                    </a:lnTo>
                    <a:lnTo>
                      <a:pt x="1039" y="394"/>
                    </a:lnTo>
                    <a:lnTo>
                      <a:pt x="1039" y="408"/>
                    </a:lnTo>
                    <a:lnTo>
                      <a:pt x="1039" y="423"/>
                    </a:lnTo>
                    <a:lnTo>
                      <a:pt x="1038" y="436"/>
                    </a:lnTo>
                    <a:lnTo>
                      <a:pt x="1034" y="450"/>
                    </a:lnTo>
                    <a:lnTo>
                      <a:pt x="1034" y="450"/>
                    </a:lnTo>
                    <a:close/>
                  </a:path>
                </a:pathLst>
              </a:custGeom>
              <a:noFill/>
              <a:ln w="38160">
                <a:solidFill>
                  <a:srgbClr val="00007d"/>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Freeform 66"/>
              <p:cNvSpPr/>
              <p:nvPr/>
            </p:nvSpPr>
            <p:spPr>
              <a:xfrm>
                <a:off x="1433160" y="523080"/>
                <a:ext cx="282240" cy="279720"/>
              </a:xfrm>
              <a:custGeom>
                <a:avLst/>
                <a:gdLst/>
                <a:ahLst/>
                <a:rect l="l" t="t" r="r" b="b"/>
                <a:pathLst>
                  <a:path w="749" h="747">
                    <a:moveTo>
                      <a:pt x="12" y="0"/>
                    </a:moveTo>
                    <a:lnTo>
                      <a:pt x="12" y="0"/>
                    </a:lnTo>
                    <a:lnTo>
                      <a:pt x="5" y="25"/>
                    </a:lnTo>
                    <a:lnTo>
                      <a:pt x="2" y="51"/>
                    </a:lnTo>
                    <a:lnTo>
                      <a:pt x="0" y="78"/>
                    </a:lnTo>
                    <a:lnTo>
                      <a:pt x="0" y="105"/>
                    </a:lnTo>
                    <a:lnTo>
                      <a:pt x="3" y="130"/>
                    </a:lnTo>
                    <a:lnTo>
                      <a:pt x="9" y="158"/>
                    </a:lnTo>
                    <a:lnTo>
                      <a:pt x="15" y="185"/>
                    </a:lnTo>
                    <a:lnTo>
                      <a:pt x="26" y="212"/>
                    </a:lnTo>
                    <a:lnTo>
                      <a:pt x="36" y="239"/>
                    </a:lnTo>
                    <a:lnTo>
                      <a:pt x="49" y="266"/>
                    </a:lnTo>
                    <a:lnTo>
                      <a:pt x="65" y="293"/>
                    </a:lnTo>
                    <a:lnTo>
                      <a:pt x="82" y="319"/>
                    </a:lnTo>
                    <a:lnTo>
                      <a:pt x="100" y="346"/>
                    </a:lnTo>
                    <a:lnTo>
                      <a:pt x="122" y="372"/>
                    </a:lnTo>
                    <a:lnTo>
                      <a:pt x="145" y="399"/>
                    </a:lnTo>
                    <a:lnTo>
                      <a:pt x="168" y="424"/>
                    </a:lnTo>
                    <a:lnTo>
                      <a:pt x="194" y="450"/>
                    </a:lnTo>
                    <a:lnTo>
                      <a:pt x="223" y="474"/>
                    </a:lnTo>
                    <a:lnTo>
                      <a:pt x="252" y="497"/>
                    </a:lnTo>
                    <a:lnTo>
                      <a:pt x="282" y="521"/>
                    </a:lnTo>
                    <a:lnTo>
                      <a:pt x="313" y="545"/>
                    </a:lnTo>
                    <a:lnTo>
                      <a:pt x="347" y="567"/>
                    </a:lnTo>
                    <a:lnTo>
                      <a:pt x="382" y="589"/>
                    </a:lnTo>
                    <a:lnTo>
                      <a:pt x="418" y="609"/>
                    </a:lnTo>
                    <a:lnTo>
                      <a:pt x="455" y="630"/>
                    </a:lnTo>
                    <a:lnTo>
                      <a:pt x="494" y="650"/>
                    </a:lnTo>
                    <a:lnTo>
                      <a:pt x="534" y="669"/>
                    </a:lnTo>
                    <a:lnTo>
                      <a:pt x="574" y="686"/>
                    </a:lnTo>
                    <a:lnTo>
                      <a:pt x="617" y="703"/>
                    </a:lnTo>
                    <a:lnTo>
                      <a:pt x="659" y="718"/>
                    </a:lnTo>
                    <a:lnTo>
                      <a:pt x="703" y="733"/>
                    </a:lnTo>
                    <a:lnTo>
                      <a:pt x="749" y="747"/>
                    </a:lnTo>
                  </a:path>
                </a:pathLst>
              </a:custGeom>
              <a:noFill/>
              <a:ln w="38160">
                <a:solidFill>
                  <a:srgbClr val="00007d"/>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Freeform 67"/>
              <p:cNvSpPr/>
              <p:nvPr/>
            </p:nvSpPr>
            <p:spPr>
              <a:xfrm>
                <a:off x="1716120" y="698400"/>
                <a:ext cx="391680" cy="125640"/>
              </a:xfrm>
              <a:custGeom>
                <a:avLst/>
                <a:gdLst/>
                <a:ahLst/>
                <a:rect l="l" t="t" r="r" b="b"/>
                <a:pathLst>
                  <a:path w="1037" h="337">
                    <a:moveTo>
                      <a:pt x="1037" y="0"/>
                    </a:moveTo>
                    <a:lnTo>
                      <a:pt x="1037" y="0"/>
                    </a:lnTo>
                    <a:lnTo>
                      <a:pt x="1028" y="28"/>
                    </a:lnTo>
                    <a:lnTo>
                      <a:pt x="1016" y="53"/>
                    </a:lnTo>
                    <a:lnTo>
                      <a:pt x="1003" y="79"/>
                    </a:lnTo>
                    <a:lnTo>
                      <a:pt x="987" y="102"/>
                    </a:lnTo>
                    <a:lnTo>
                      <a:pt x="970" y="124"/>
                    </a:lnTo>
                    <a:lnTo>
                      <a:pt x="952" y="146"/>
                    </a:lnTo>
                    <a:lnTo>
                      <a:pt x="931" y="167"/>
                    </a:lnTo>
                    <a:lnTo>
                      <a:pt x="908" y="187"/>
                    </a:lnTo>
                    <a:lnTo>
                      <a:pt x="884" y="206"/>
                    </a:lnTo>
                    <a:lnTo>
                      <a:pt x="858" y="223"/>
                    </a:lnTo>
                    <a:lnTo>
                      <a:pt x="829" y="238"/>
                    </a:lnTo>
                    <a:lnTo>
                      <a:pt x="800" y="254"/>
                    </a:lnTo>
                    <a:lnTo>
                      <a:pt x="770" y="267"/>
                    </a:lnTo>
                    <a:lnTo>
                      <a:pt x="738" y="281"/>
                    </a:lnTo>
                    <a:lnTo>
                      <a:pt x="705" y="293"/>
                    </a:lnTo>
                    <a:lnTo>
                      <a:pt x="670" y="301"/>
                    </a:lnTo>
                    <a:lnTo>
                      <a:pt x="634" y="311"/>
                    </a:lnTo>
                    <a:lnTo>
                      <a:pt x="598" y="318"/>
                    </a:lnTo>
                    <a:lnTo>
                      <a:pt x="559" y="325"/>
                    </a:lnTo>
                    <a:lnTo>
                      <a:pt x="520" y="330"/>
                    </a:lnTo>
                    <a:lnTo>
                      <a:pt x="481" y="333"/>
                    </a:lnTo>
                    <a:lnTo>
                      <a:pt x="440" y="335"/>
                    </a:lnTo>
                    <a:lnTo>
                      <a:pt x="400" y="337"/>
                    </a:lnTo>
                    <a:lnTo>
                      <a:pt x="357" y="335"/>
                    </a:lnTo>
                    <a:lnTo>
                      <a:pt x="315" y="333"/>
                    </a:lnTo>
                    <a:lnTo>
                      <a:pt x="270" y="330"/>
                    </a:lnTo>
                    <a:lnTo>
                      <a:pt x="226" y="325"/>
                    </a:lnTo>
                    <a:lnTo>
                      <a:pt x="182" y="320"/>
                    </a:lnTo>
                    <a:lnTo>
                      <a:pt x="136" y="311"/>
                    </a:lnTo>
                    <a:lnTo>
                      <a:pt x="92" y="303"/>
                    </a:lnTo>
                    <a:lnTo>
                      <a:pt x="46" y="291"/>
                    </a:lnTo>
                    <a:lnTo>
                      <a:pt x="0" y="279"/>
                    </a:lnTo>
                  </a:path>
                </a:pathLst>
              </a:custGeom>
              <a:noFill/>
              <a:ln w="38160">
                <a:solidFill>
                  <a:srgbClr val="00007d"/>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Freeform 68"/>
              <p:cNvSpPr/>
              <p:nvPr/>
            </p:nvSpPr>
            <p:spPr>
              <a:xfrm>
                <a:off x="1326600" y="729720"/>
                <a:ext cx="338040" cy="263520"/>
              </a:xfrm>
              <a:custGeom>
                <a:avLst/>
                <a:gdLst/>
                <a:ahLst/>
                <a:rect l="l" t="t" r="r" b="b"/>
                <a:pathLst>
                  <a:path w="897" h="710">
                    <a:moveTo>
                      <a:pt x="7" y="0"/>
                    </a:moveTo>
                    <a:lnTo>
                      <a:pt x="7" y="0"/>
                    </a:lnTo>
                    <a:lnTo>
                      <a:pt x="1" y="22"/>
                    </a:lnTo>
                    <a:lnTo>
                      <a:pt x="0" y="44"/>
                    </a:lnTo>
                    <a:lnTo>
                      <a:pt x="0" y="68"/>
                    </a:lnTo>
                    <a:lnTo>
                      <a:pt x="3" y="90"/>
                    </a:lnTo>
                    <a:lnTo>
                      <a:pt x="8" y="113"/>
                    </a:lnTo>
                    <a:lnTo>
                      <a:pt x="15" y="137"/>
                    </a:lnTo>
                    <a:lnTo>
                      <a:pt x="25" y="163"/>
                    </a:lnTo>
                    <a:lnTo>
                      <a:pt x="39" y="187"/>
                    </a:lnTo>
                    <a:lnTo>
                      <a:pt x="54" y="210"/>
                    </a:lnTo>
                    <a:lnTo>
                      <a:pt x="71" y="236"/>
                    </a:lnTo>
                    <a:lnTo>
                      <a:pt x="90" y="260"/>
                    </a:lnTo>
                    <a:lnTo>
                      <a:pt x="112" y="285"/>
                    </a:lnTo>
                    <a:lnTo>
                      <a:pt x="134" y="309"/>
                    </a:lnTo>
                    <a:lnTo>
                      <a:pt x="159" y="334"/>
                    </a:lnTo>
                    <a:lnTo>
                      <a:pt x="188" y="358"/>
                    </a:lnTo>
                    <a:lnTo>
                      <a:pt x="217" y="382"/>
                    </a:lnTo>
                    <a:lnTo>
                      <a:pt x="248" y="407"/>
                    </a:lnTo>
                    <a:lnTo>
                      <a:pt x="280" y="431"/>
                    </a:lnTo>
                    <a:lnTo>
                      <a:pt x="316" y="453"/>
                    </a:lnTo>
                    <a:lnTo>
                      <a:pt x="351" y="477"/>
                    </a:lnTo>
                    <a:lnTo>
                      <a:pt x="389" y="499"/>
                    </a:lnTo>
                    <a:lnTo>
                      <a:pt x="430" y="521"/>
                    </a:lnTo>
                    <a:lnTo>
                      <a:pt x="470" y="543"/>
                    </a:lnTo>
                    <a:lnTo>
                      <a:pt x="513" y="565"/>
                    </a:lnTo>
                    <a:lnTo>
                      <a:pt x="555" y="586"/>
                    </a:lnTo>
                    <a:lnTo>
                      <a:pt x="601" y="606"/>
                    </a:lnTo>
                    <a:lnTo>
                      <a:pt x="647" y="625"/>
                    </a:lnTo>
                    <a:lnTo>
                      <a:pt x="695" y="643"/>
                    </a:lnTo>
                    <a:lnTo>
                      <a:pt x="744" y="662"/>
                    </a:lnTo>
                    <a:lnTo>
                      <a:pt x="793" y="679"/>
                    </a:lnTo>
                    <a:lnTo>
                      <a:pt x="844" y="694"/>
                    </a:lnTo>
                    <a:lnTo>
                      <a:pt x="897" y="710"/>
                    </a:lnTo>
                  </a:path>
                </a:pathLst>
              </a:custGeom>
              <a:noFill/>
              <a:ln w="38160">
                <a:solidFill>
                  <a:srgbClr val="00007d"/>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Freeform 69"/>
              <p:cNvSpPr/>
              <p:nvPr/>
            </p:nvSpPr>
            <p:spPr>
              <a:xfrm>
                <a:off x="1666440" y="944280"/>
                <a:ext cx="427320" cy="83880"/>
              </a:xfrm>
              <a:custGeom>
                <a:avLst/>
                <a:gdLst/>
                <a:ahLst/>
                <a:rect l="l" t="t" r="r" b="b"/>
                <a:pathLst>
                  <a:path w="1132" h="224">
                    <a:moveTo>
                      <a:pt x="1132" y="0"/>
                    </a:moveTo>
                    <a:lnTo>
                      <a:pt x="1132" y="0"/>
                    </a:lnTo>
                    <a:lnTo>
                      <a:pt x="1125" y="22"/>
                    </a:lnTo>
                    <a:lnTo>
                      <a:pt x="1115" y="43"/>
                    </a:lnTo>
                    <a:lnTo>
                      <a:pt x="1103" y="61"/>
                    </a:lnTo>
                    <a:lnTo>
                      <a:pt x="1087" y="80"/>
                    </a:lnTo>
                    <a:lnTo>
                      <a:pt x="1070" y="97"/>
                    </a:lnTo>
                    <a:lnTo>
                      <a:pt x="1050" y="114"/>
                    </a:lnTo>
                    <a:lnTo>
                      <a:pt x="1030" y="129"/>
                    </a:lnTo>
                    <a:lnTo>
                      <a:pt x="1006" y="143"/>
                    </a:lnTo>
                    <a:lnTo>
                      <a:pt x="980" y="155"/>
                    </a:lnTo>
                    <a:lnTo>
                      <a:pt x="953" y="167"/>
                    </a:lnTo>
                    <a:lnTo>
                      <a:pt x="923" y="179"/>
                    </a:lnTo>
                    <a:lnTo>
                      <a:pt x="892" y="187"/>
                    </a:lnTo>
                    <a:lnTo>
                      <a:pt x="860" y="196"/>
                    </a:lnTo>
                    <a:lnTo>
                      <a:pt x="824" y="204"/>
                    </a:lnTo>
                    <a:lnTo>
                      <a:pt x="788" y="209"/>
                    </a:lnTo>
                    <a:lnTo>
                      <a:pt x="751" y="214"/>
                    </a:lnTo>
                    <a:lnTo>
                      <a:pt x="712" y="219"/>
                    </a:lnTo>
                    <a:lnTo>
                      <a:pt x="671" y="221"/>
                    </a:lnTo>
                    <a:lnTo>
                      <a:pt x="629" y="223"/>
                    </a:lnTo>
                    <a:lnTo>
                      <a:pt x="586" y="224"/>
                    </a:lnTo>
                    <a:lnTo>
                      <a:pt x="542" y="223"/>
                    </a:lnTo>
                    <a:lnTo>
                      <a:pt x="498" y="221"/>
                    </a:lnTo>
                    <a:lnTo>
                      <a:pt x="450" y="218"/>
                    </a:lnTo>
                    <a:lnTo>
                      <a:pt x="405" y="214"/>
                    </a:lnTo>
                    <a:lnTo>
                      <a:pt x="355" y="207"/>
                    </a:lnTo>
                    <a:lnTo>
                      <a:pt x="306" y="202"/>
                    </a:lnTo>
                    <a:lnTo>
                      <a:pt x="257" y="194"/>
                    </a:lnTo>
                    <a:lnTo>
                      <a:pt x="207" y="184"/>
                    </a:lnTo>
                    <a:lnTo>
                      <a:pt x="156" y="173"/>
                    </a:lnTo>
                    <a:lnTo>
                      <a:pt x="106" y="162"/>
                    </a:lnTo>
                    <a:lnTo>
                      <a:pt x="53" y="150"/>
                    </a:lnTo>
                    <a:lnTo>
                      <a:pt x="0" y="134"/>
                    </a:lnTo>
                  </a:path>
                </a:pathLst>
              </a:custGeom>
              <a:noFill/>
              <a:ln w="38160">
                <a:solidFill>
                  <a:srgbClr val="00007d"/>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74" name="Freeform 70"/>
              <p:cNvSpPr/>
              <p:nvPr/>
            </p:nvSpPr>
            <p:spPr>
              <a:xfrm>
                <a:off x="1368000" y="965160"/>
                <a:ext cx="258840" cy="167760"/>
              </a:xfrm>
              <a:custGeom>
                <a:avLst/>
                <a:gdLst/>
                <a:ahLst/>
                <a:rect l="l" t="t" r="r" b="b"/>
                <a:pathLst>
                  <a:path w="688" h="450">
                    <a:moveTo>
                      <a:pt x="4" y="0"/>
                    </a:moveTo>
                    <a:lnTo>
                      <a:pt x="4" y="0"/>
                    </a:lnTo>
                    <a:lnTo>
                      <a:pt x="2" y="11"/>
                    </a:lnTo>
                    <a:lnTo>
                      <a:pt x="0" y="25"/>
                    </a:lnTo>
                    <a:lnTo>
                      <a:pt x="2" y="39"/>
                    </a:lnTo>
                    <a:lnTo>
                      <a:pt x="5" y="51"/>
                    </a:lnTo>
                    <a:lnTo>
                      <a:pt x="10" y="66"/>
                    </a:lnTo>
                    <a:lnTo>
                      <a:pt x="17" y="79"/>
                    </a:lnTo>
                    <a:lnTo>
                      <a:pt x="26" y="93"/>
                    </a:lnTo>
                    <a:lnTo>
                      <a:pt x="36" y="108"/>
                    </a:lnTo>
                    <a:lnTo>
                      <a:pt x="48" y="122"/>
                    </a:lnTo>
                    <a:lnTo>
                      <a:pt x="61" y="137"/>
                    </a:lnTo>
                    <a:lnTo>
                      <a:pt x="94" y="168"/>
                    </a:lnTo>
                    <a:lnTo>
                      <a:pt x="133" y="198"/>
                    </a:lnTo>
                    <a:lnTo>
                      <a:pt x="175" y="229"/>
                    </a:lnTo>
                    <a:lnTo>
                      <a:pt x="224" y="259"/>
                    </a:lnTo>
                    <a:lnTo>
                      <a:pt x="279" y="288"/>
                    </a:lnTo>
                    <a:lnTo>
                      <a:pt x="338" y="319"/>
                    </a:lnTo>
                    <a:lnTo>
                      <a:pt x="401" y="348"/>
                    </a:lnTo>
                    <a:lnTo>
                      <a:pt x="467" y="375"/>
                    </a:lnTo>
                    <a:lnTo>
                      <a:pt x="537" y="400"/>
                    </a:lnTo>
                    <a:lnTo>
                      <a:pt x="612" y="426"/>
                    </a:lnTo>
                    <a:lnTo>
                      <a:pt x="688" y="450"/>
                    </a:lnTo>
                  </a:path>
                </a:pathLst>
              </a:custGeom>
              <a:noFill/>
              <a:ln w="38160">
                <a:solidFill>
                  <a:srgbClr val="00007d"/>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Freeform 71"/>
              <p:cNvSpPr/>
              <p:nvPr/>
            </p:nvSpPr>
            <p:spPr>
              <a:xfrm>
                <a:off x="1625760" y="1131480"/>
                <a:ext cx="266400" cy="41400"/>
              </a:xfrm>
              <a:custGeom>
                <a:avLst/>
                <a:gdLst/>
                <a:ahLst/>
                <a:rect l="l" t="t" r="r" b="b"/>
                <a:pathLst>
                  <a:path w="707" h="107">
                    <a:moveTo>
                      <a:pt x="707" y="73"/>
                    </a:moveTo>
                    <a:lnTo>
                      <a:pt x="707" y="73"/>
                    </a:lnTo>
                    <a:lnTo>
                      <a:pt x="705" y="78"/>
                    </a:lnTo>
                    <a:lnTo>
                      <a:pt x="700" y="83"/>
                    </a:lnTo>
                    <a:lnTo>
                      <a:pt x="695" y="88"/>
                    </a:lnTo>
                    <a:lnTo>
                      <a:pt x="686" y="93"/>
                    </a:lnTo>
                    <a:lnTo>
                      <a:pt x="678" y="97"/>
                    </a:lnTo>
                    <a:lnTo>
                      <a:pt x="668" y="100"/>
                    </a:lnTo>
                    <a:lnTo>
                      <a:pt x="642" y="104"/>
                    </a:lnTo>
                    <a:lnTo>
                      <a:pt x="610" y="107"/>
                    </a:lnTo>
                    <a:lnTo>
                      <a:pt x="574" y="107"/>
                    </a:lnTo>
                    <a:lnTo>
                      <a:pt x="532" y="105"/>
                    </a:lnTo>
                    <a:lnTo>
                      <a:pt x="486" y="100"/>
                    </a:lnTo>
                    <a:lnTo>
                      <a:pt x="437" y="95"/>
                    </a:lnTo>
                    <a:lnTo>
                      <a:pt x="382" y="87"/>
                    </a:lnTo>
                    <a:lnTo>
                      <a:pt x="326" y="76"/>
                    </a:lnTo>
                    <a:lnTo>
                      <a:pt x="265" y="66"/>
                    </a:lnTo>
                    <a:lnTo>
                      <a:pt x="202" y="51"/>
                    </a:lnTo>
                    <a:lnTo>
                      <a:pt x="136" y="36"/>
                    </a:lnTo>
                    <a:lnTo>
                      <a:pt x="70" y="19"/>
                    </a:lnTo>
                    <a:lnTo>
                      <a:pt x="0" y="0"/>
                    </a:lnTo>
                  </a:path>
                </a:pathLst>
              </a:custGeom>
              <a:noFill/>
              <a:ln w="38160">
                <a:solidFill>
                  <a:srgbClr val="00007d"/>
                </a:solidFill>
                <a:round/>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276" name="Line 72"/>
              <p:cNvSpPr/>
              <p:nvPr/>
            </p:nvSpPr>
            <p:spPr>
              <a:xfrm flipH="1">
                <a:off x="1615680" y="420840"/>
                <a:ext cx="220320" cy="768600"/>
              </a:xfrm>
              <a:prstGeom prst="line">
                <a:avLst/>
              </a:prstGeom>
              <a:ln w="3816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Freeform 73"/>
              <p:cNvSpPr/>
              <p:nvPr/>
            </p:nvSpPr>
            <p:spPr>
              <a:xfrm>
                <a:off x="1322280" y="404640"/>
                <a:ext cx="800280" cy="795600"/>
              </a:xfrm>
              <a:custGeom>
                <a:avLst/>
                <a:gdLst/>
                <a:ahLst/>
                <a:rect l="l" t="t" r="r" b="b"/>
                <a:pathLst>
                  <a:path w="2117" h="2132">
                    <a:moveTo>
                      <a:pt x="2076" y="1357"/>
                    </a:moveTo>
                    <a:lnTo>
                      <a:pt x="2076" y="1357"/>
                    </a:lnTo>
                    <a:lnTo>
                      <a:pt x="2059" y="1410"/>
                    </a:lnTo>
                    <a:lnTo>
                      <a:pt x="2041" y="1461"/>
                    </a:lnTo>
                    <a:lnTo>
                      <a:pt x="2020" y="1510"/>
                    </a:lnTo>
                    <a:lnTo>
                      <a:pt x="1996" y="1558"/>
                    </a:lnTo>
                    <a:lnTo>
                      <a:pt x="1971" y="1604"/>
                    </a:lnTo>
                    <a:lnTo>
                      <a:pt x="1944" y="1650"/>
                    </a:lnTo>
                    <a:lnTo>
                      <a:pt x="1913" y="1692"/>
                    </a:lnTo>
                    <a:lnTo>
                      <a:pt x="1883" y="1733"/>
                    </a:lnTo>
                    <a:lnTo>
                      <a:pt x="1849" y="1774"/>
                    </a:lnTo>
                    <a:lnTo>
                      <a:pt x="1813" y="1811"/>
                    </a:lnTo>
                    <a:lnTo>
                      <a:pt x="1777" y="1847"/>
                    </a:lnTo>
                    <a:lnTo>
                      <a:pt x="1738" y="1881"/>
                    </a:lnTo>
                    <a:lnTo>
                      <a:pt x="1699" y="1913"/>
                    </a:lnTo>
                    <a:lnTo>
                      <a:pt x="1657" y="1944"/>
                    </a:lnTo>
                    <a:lnTo>
                      <a:pt x="1614" y="1971"/>
                    </a:lnTo>
                    <a:lnTo>
                      <a:pt x="1572" y="1998"/>
                    </a:lnTo>
                    <a:lnTo>
                      <a:pt x="1526" y="2022"/>
                    </a:lnTo>
                    <a:lnTo>
                      <a:pt x="1480" y="2042"/>
                    </a:lnTo>
                    <a:lnTo>
                      <a:pt x="1432" y="2062"/>
                    </a:lnTo>
                    <a:lnTo>
                      <a:pt x="1385" y="2079"/>
                    </a:lnTo>
                    <a:lnTo>
                      <a:pt x="1336" y="2095"/>
                    </a:lnTo>
                    <a:lnTo>
                      <a:pt x="1286" y="2107"/>
                    </a:lnTo>
                    <a:lnTo>
                      <a:pt x="1235" y="2117"/>
                    </a:lnTo>
                    <a:lnTo>
                      <a:pt x="1184" y="2125"/>
                    </a:lnTo>
                    <a:lnTo>
                      <a:pt x="1133" y="2130"/>
                    </a:lnTo>
                    <a:lnTo>
                      <a:pt x="1081" y="2132"/>
                    </a:lnTo>
                    <a:lnTo>
                      <a:pt x="1030" y="2132"/>
                    </a:lnTo>
                    <a:lnTo>
                      <a:pt x="977" y="2130"/>
                    </a:lnTo>
                    <a:lnTo>
                      <a:pt x="924" y="2125"/>
                    </a:lnTo>
                    <a:lnTo>
                      <a:pt x="872" y="2117"/>
                    </a:lnTo>
                    <a:lnTo>
                      <a:pt x="819" y="2107"/>
                    </a:lnTo>
                    <a:lnTo>
                      <a:pt x="766" y="2093"/>
                    </a:lnTo>
                    <a:lnTo>
                      <a:pt x="766" y="2093"/>
                    </a:lnTo>
                    <a:lnTo>
                      <a:pt x="714" y="2076"/>
                    </a:lnTo>
                    <a:lnTo>
                      <a:pt x="663" y="2057"/>
                    </a:lnTo>
                    <a:lnTo>
                      <a:pt x="613" y="2037"/>
                    </a:lnTo>
                    <a:lnTo>
                      <a:pt x="568" y="2013"/>
                    </a:lnTo>
                    <a:lnTo>
                      <a:pt x="520" y="1988"/>
                    </a:lnTo>
                    <a:lnTo>
                      <a:pt x="476" y="1961"/>
                    </a:lnTo>
                    <a:lnTo>
                      <a:pt x="433" y="1930"/>
                    </a:lnTo>
                    <a:lnTo>
                      <a:pt x="393" y="1899"/>
                    </a:lnTo>
                    <a:lnTo>
                      <a:pt x="354" y="1865"/>
                    </a:lnTo>
                    <a:lnTo>
                      <a:pt x="316" y="1830"/>
                    </a:lnTo>
                    <a:lnTo>
                      <a:pt x="281" y="1794"/>
                    </a:lnTo>
                    <a:lnTo>
                      <a:pt x="247" y="1755"/>
                    </a:lnTo>
                    <a:lnTo>
                      <a:pt x="216" y="1714"/>
                    </a:lnTo>
                    <a:lnTo>
                      <a:pt x="185" y="1673"/>
                    </a:lnTo>
                    <a:lnTo>
                      <a:pt x="158" y="1631"/>
                    </a:lnTo>
                    <a:lnTo>
                      <a:pt x="133" y="1587"/>
                    </a:lnTo>
                    <a:lnTo>
                      <a:pt x="109" y="1541"/>
                    </a:lnTo>
                    <a:lnTo>
                      <a:pt x="87" y="1495"/>
                    </a:lnTo>
                    <a:lnTo>
                      <a:pt x="68" y="1448"/>
                    </a:lnTo>
                    <a:lnTo>
                      <a:pt x="51" y="1400"/>
                    </a:lnTo>
                    <a:lnTo>
                      <a:pt x="38" y="1351"/>
                    </a:lnTo>
                    <a:lnTo>
                      <a:pt x="24" y="1300"/>
                    </a:lnTo>
                    <a:lnTo>
                      <a:pt x="15" y="1249"/>
                    </a:lnTo>
                    <a:lnTo>
                      <a:pt x="7" y="1198"/>
                    </a:lnTo>
                    <a:lnTo>
                      <a:pt x="2" y="1147"/>
                    </a:lnTo>
                    <a:lnTo>
                      <a:pt x="0" y="1094"/>
                    </a:lnTo>
                    <a:lnTo>
                      <a:pt x="0" y="1042"/>
                    </a:lnTo>
                    <a:lnTo>
                      <a:pt x="4" y="989"/>
                    </a:lnTo>
                    <a:lnTo>
                      <a:pt x="9" y="936"/>
                    </a:lnTo>
                    <a:lnTo>
                      <a:pt x="17" y="882"/>
                    </a:lnTo>
                    <a:lnTo>
                      <a:pt x="27" y="829"/>
                    </a:lnTo>
                    <a:lnTo>
                      <a:pt x="41" y="777"/>
                    </a:lnTo>
                    <a:lnTo>
                      <a:pt x="41" y="777"/>
                    </a:lnTo>
                    <a:lnTo>
                      <a:pt x="58" y="724"/>
                    </a:lnTo>
                    <a:lnTo>
                      <a:pt x="77" y="673"/>
                    </a:lnTo>
                    <a:lnTo>
                      <a:pt x="99" y="624"/>
                    </a:lnTo>
                    <a:lnTo>
                      <a:pt x="121" y="576"/>
                    </a:lnTo>
                    <a:lnTo>
                      <a:pt x="146" y="529"/>
                    </a:lnTo>
                    <a:lnTo>
                      <a:pt x="175" y="484"/>
                    </a:lnTo>
                    <a:lnTo>
                      <a:pt x="204" y="442"/>
                    </a:lnTo>
                    <a:lnTo>
                      <a:pt x="236" y="399"/>
                    </a:lnTo>
                    <a:lnTo>
                      <a:pt x="269" y="360"/>
                    </a:lnTo>
                    <a:lnTo>
                      <a:pt x="304" y="323"/>
                    </a:lnTo>
                    <a:lnTo>
                      <a:pt x="340" y="286"/>
                    </a:lnTo>
                    <a:lnTo>
                      <a:pt x="379" y="252"/>
                    </a:lnTo>
                    <a:lnTo>
                      <a:pt x="418" y="219"/>
                    </a:lnTo>
                    <a:lnTo>
                      <a:pt x="461" y="190"/>
                    </a:lnTo>
                    <a:lnTo>
                      <a:pt x="503" y="162"/>
                    </a:lnTo>
                    <a:lnTo>
                      <a:pt x="547" y="136"/>
                    </a:lnTo>
                    <a:lnTo>
                      <a:pt x="591" y="112"/>
                    </a:lnTo>
                    <a:lnTo>
                      <a:pt x="637" y="90"/>
                    </a:lnTo>
                    <a:lnTo>
                      <a:pt x="685" y="72"/>
                    </a:lnTo>
                    <a:lnTo>
                      <a:pt x="732" y="53"/>
                    </a:lnTo>
                    <a:lnTo>
                      <a:pt x="782" y="39"/>
                    </a:lnTo>
                    <a:lnTo>
                      <a:pt x="831" y="26"/>
                    </a:lnTo>
                    <a:lnTo>
                      <a:pt x="882" y="15"/>
                    </a:lnTo>
                    <a:lnTo>
                      <a:pt x="933" y="9"/>
                    </a:lnTo>
                    <a:lnTo>
                      <a:pt x="984" y="4"/>
                    </a:lnTo>
                    <a:lnTo>
                      <a:pt x="1037" y="0"/>
                    </a:lnTo>
                    <a:lnTo>
                      <a:pt x="1087" y="0"/>
                    </a:lnTo>
                    <a:lnTo>
                      <a:pt x="1140" y="4"/>
                    </a:lnTo>
                    <a:lnTo>
                      <a:pt x="1193" y="9"/>
                    </a:lnTo>
                    <a:lnTo>
                      <a:pt x="1245" y="17"/>
                    </a:lnTo>
                    <a:lnTo>
                      <a:pt x="1300" y="27"/>
                    </a:lnTo>
                    <a:lnTo>
                      <a:pt x="1353" y="41"/>
                    </a:lnTo>
                    <a:lnTo>
                      <a:pt x="1353" y="41"/>
                    </a:lnTo>
                    <a:lnTo>
                      <a:pt x="1403" y="56"/>
                    </a:lnTo>
                    <a:lnTo>
                      <a:pt x="1454" y="75"/>
                    </a:lnTo>
                    <a:lnTo>
                      <a:pt x="1504" y="97"/>
                    </a:lnTo>
                    <a:lnTo>
                      <a:pt x="1551" y="121"/>
                    </a:lnTo>
                    <a:lnTo>
                      <a:pt x="1597" y="146"/>
                    </a:lnTo>
                    <a:lnTo>
                      <a:pt x="1641" y="173"/>
                    </a:lnTo>
                    <a:lnTo>
                      <a:pt x="1684" y="202"/>
                    </a:lnTo>
                    <a:lnTo>
                      <a:pt x="1725" y="235"/>
                    </a:lnTo>
                    <a:lnTo>
                      <a:pt x="1764" y="269"/>
                    </a:lnTo>
                    <a:lnTo>
                      <a:pt x="1801" y="303"/>
                    </a:lnTo>
                    <a:lnTo>
                      <a:pt x="1837" y="340"/>
                    </a:lnTo>
                    <a:lnTo>
                      <a:pt x="1871" y="379"/>
                    </a:lnTo>
                    <a:lnTo>
                      <a:pt x="1903" y="418"/>
                    </a:lnTo>
                    <a:lnTo>
                      <a:pt x="1932" y="461"/>
                    </a:lnTo>
                    <a:lnTo>
                      <a:pt x="1959" y="503"/>
                    </a:lnTo>
                    <a:lnTo>
                      <a:pt x="1984" y="547"/>
                    </a:lnTo>
                    <a:lnTo>
                      <a:pt x="2008" y="591"/>
                    </a:lnTo>
                    <a:lnTo>
                      <a:pt x="2030" y="639"/>
                    </a:lnTo>
                    <a:lnTo>
                      <a:pt x="2049" y="685"/>
                    </a:lnTo>
                    <a:lnTo>
                      <a:pt x="2066" y="734"/>
                    </a:lnTo>
                    <a:lnTo>
                      <a:pt x="2081" y="783"/>
                    </a:lnTo>
                    <a:lnTo>
                      <a:pt x="2093" y="833"/>
                    </a:lnTo>
                    <a:lnTo>
                      <a:pt x="2103" y="884"/>
                    </a:lnTo>
                    <a:lnTo>
                      <a:pt x="2110" y="934"/>
                    </a:lnTo>
                    <a:lnTo>
                      <a:pt x="2115" y="987"/>
                    </a:lnTo>
                    <a:lnTo>
                      <a:pt x="2117" y="1038"/>
                    </a:lnTo>
                    <a:lnTo>
                      <a:pt x="2117" y="1091"/>
                    </a:lnTo>
                    <a:lnTo>
                      <a:pt x="2114" y="1145"/>
                    </a:lnTo>
                    <a:lnTo>
                      <a:pt x="2109" y="1198"/>
                    </a:lnTo>
                    <a:lnTo>
                      <a:pt x="2100" y="1250"/>
                    </a:lnTo>
                    <a:lnTo>
                      <a:pt x="2090" y="1303"/>
                    </a:lnTo>
                    <a:lnTo>
                      <a:pt x="2076" y="1357"/>
                    </a:lnTo>
                    <a:lnTo>
                      <a:pt x="2076" y="1357"/>
                    </a:lnTo>
                    <a:close/>
                  </a:path>
                </a:pathLst>
              </a:custGeom>
              <a:noFill/>
              <a:ln w="38160">
                <a:solidFill>
                  <a:srgbClr val="00007d"/>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Freeform 74"/>
              <p:cNvSpPr/>
              <p:nvPr/>
            </p:nvSpPr>
            <p:spPr>
              <a:xfrm>
                <a:off x="1323720" y="404640"/>
                <a:ext cx="800280" cy="795600"/>
              </a:xfrm>
              <a:custGeom>
                <a:avLst/>
                <a:gdLst/>
                <a:ahLst/>
                <a:rect l="l" t="t" r="r" b="b"/>
                <a:pathLst>
                  <a:path w="2117" h="2132">
                    <a:moveTo>
                      <a:pt x="2076" y="1357"/>
                    </a:moveTo>
                    <a:lnTo>
                      <a:pt x="2076" y="1357"/>
                    </a:lnTo>
                    <a:lnTo>
                      <a:pt x="2059" y="1408"/>
                    </a:lnTo>
                    <a:lnTo>
                      <a:pt x="2040" y="1459"/>
                    </a:lnTo>
                    <a:lnTo>
                      <a:pt x="2020" y="1510"/>
                    </a:lnTo>
                    <a:lnTo>
                      <a:pt x="1996" y="1558"/>
                    </a:lnTo>
                    <a:lnTo>
                      <a:pt x="1971" y="1604"/>
                    </a:lnTo>
                    <a:lnTo>
                      <a:pt x="1944" y="1648"/>
                    </a:lnTo>
                    <a:lnTo>
                      <a:pt x="1913" y="1692"/>
                    </a:lnTo>
                    <a:lnTo>
                      <a:pt x="1882" y="1733"/>
                    </a:lnTo>
                    <a:lnTo>
                      <a:pt x="1848" y="1773"/>
                    </a:lnTo>
                    <a:lnTo>
                      <a:pt x="1813" y="1811"/>
                    </a:lnTo>
                    <a:lnTo>
                      <a:pt x="1777" y="1846"/>
                    </a:lnTo>
                    <a:lnTo>
                      <a:pt x="1738" y="1880"/>
                    </a:lnTo>
                    <a:lnTo>
                      <a:pt x="1699" y="1913"/>
                    </a:lnTo>
                    <a:lnTo>
                      <a:pt x="1656" y="1943"/>
                    </a:lnTo>
                    <a:lnTo>
                      <a:pt x="1614" y="1970"/>
                    </a:lnTo>
                    <a:lnTo>
                      <a:pt x="1570" y="1998"/>
                    </a:lnTo>
                    <a:lnTo>
                      <a:pt x="1526" y="2021"/>
                    </a:lnTo>
                    <a:lnTo>
                      <a:pt x="1480" y="2042"/>
                    </a:lnTo>
                    <a:lnTo>
                      <a:pt x="1432" y="2062"/>
                    </a:lnTo>
                    <a:lnTo>
                      <a:pt x="1385" y="2079"/>
                    </a:lnTo>
                    <a:lnTo>
                      <a:pt x="1335" y="2094"/>
                    </a:lnTo>
                    <a:lnTo>
                      <a:pt x="1286" y="2106"/>
                    </a:lnTo>
                    <a:lnTo>
                      <a:pt x="1235" y="2117"/>
                    </a:lnTo>
                    <a:lnTo>
                      <a:pt x="1184" y="2125"/>
                    </a:lnTo>
                    <a:lnTo>
                      <a:pt x="1133" y="2130"/>
                    </a:lnTo>
                    <a:lnTo>
                      <a:pt x="1080" y="2132"/>
                    </a:lnTo>
                    <a:lnTo>
                      <a:pt x="1030" y="2132"/>
                    </a:lnTo>
                    <a:lnTo>
                      <a:pt x="977" y="2130"/>
                    </a:lnTo>
                    <a:lnTo>
                      <a:pt x="924" y="2125"/>
                    </a:lnTo>
                    <a:lnTo>
                      <a:pt x="872" y="2117"/>
                    </a:lnTo>
                    <a:lnTo>
                      <a:pt x="819" y="2105"/>
                    </a:lnTo>
                    <a:lnTo>
                      <a:pt x="766" y="2091"/>
                    </a:lnTo>
                    <a:lnTo>
                      <a:pt x="766" y="2091"/>
                    </a:lnTo>
                    <a:lnTo>
                      <a:pt x="714" y="2076"/>
                    </a:lnTo>
                    <a:lnTo>
                      <a:pt x="663" y="2057"/>
                    </a:lnTo>
                    <a:lnTo>
                      <a:pt x="613" y="2035"/>
                    </a:lnTo>
                    <a:lnTo>
                      <a:pt x="566" y="2013"/>
                    </a:lnTo>
                    <a:lnTo>
                      <a:pt x="520" y="1987"/>
                    </a:lnTo>
                    <a:lnTo>
                      <a:pt x="476" y="1959"/>
                    </a:lnTo>
                    <a:lnTo>
                      <a:pt x="433" y="1930"/>
                    </a:lnTo>
                    <a:lnTo>
                      <a:pt x="392" y="1897"/>
                    </a:lnTo>
                    <a:lnTo>
                      <a:pt x="353" y="1865"/>
                    </a:lnTo>
                    <a:lnTo>
                      <a:pt x="316" y="1829"/>
                    </a:lnTo>
                    <a:lnTo>
                      <a:pt x="280" y="1792"/>
                    </a:lnTo>
                    <a:lnTo>
                      <a:pt x="246" y="1755"/>
                    </a:lnTo>
                    <a:lnTo>
                      <a:pt x="216" y="1714"/>
                    </a:lnTo>
                    <a:lnTo>
                      <a:pt x="185" y="1673"/>
                    </a:lnTo>
                    <a:lnTo>
                      <a:pt x="158" y="1631"/>
                    </a:lnTo>
                    <a:lnTo>
                      <a:pt x="133" y="1587"/>
                    </a:lnTo>
                    <a:lnTo>
                      <a:pt x="109" y="1541"/>
                    </a:lnTo>
                    <a:lnTo>
                      <a:pt x="87" y="1495"/>
                    </a:lnTo>
                    <a:lnTo>
                      <a:pt x="68" y="1447"/>
                    </a:lnTo>
                    <a:lnTo>
                      <a:pt x="51" y="1398"/>
                    </a:lnTo>
                    <a:lnTo>
                      <a:pt x="37" y="1350"/>
                    </a:lnTo>
                    <a:lnTo>
                      <a:pt x="24" y="1299"/>
                    </a:lnTo>
                    <a:lnTo>
                      <a:pt x="15" y="1248"/>
                    </a:lnTo>
                    <a:lnTo>
                      <a:pt x="7" y="1198"/>
                    </a:lnTo>
                    <a:lnTo>
                      <a:pt x="2" y="1147"/>
                    </a:lnTo>
                    <a:lnTo>
                      <a:pt x="0" y="1094"/>
                    </a:lnTo>
                    <a:lnTo>
                      <a:pt x="0" y="1041"/>
                    </a:lnTo>
                    <a:lnTo>
                      <a:pt x="3" y="989"/>
                    </a:lnTo>
                    <a:lnTo>
                      <a:pt x="8" y="936"/>
                    </a:lnTo>
                    <a:lnTo>
                      <a:pt x="17" y="882"/>
                    </a:lnTo>
                    <a:lnTo>
                      <a:pt x="27" y="829"/>
                    </a:lnTo>
                    <a:lnTo>
                      <a:pt x="41" y="776"/>
                    </a:lnTo>
                    <a:lnTo>
                      <a:pt x="41" y="776"/>
                    </a:lnTo>
                    <a:lnTo>
                      <a:pt x="58" y="724"/>
                    </a:lnTo>
                    <a:lnTo>
                      <a:pt x="76" y="673"/>
                    </a:lnTo>
                    <a:lnTo>
                      <a:pt x="97" y="623"/>
                    </a:lnTo>
                    <a:lnTo>
                      <a:pt x="121" y="574"/>
                    </a:lnTo>
                    <a:lnTo>
                      <a:pt x="146" y="528"/>
                    </a:lnTo>
                    <a:lnTo>
                      <a:pt x="173" y="484"/>
                    </a:lnTo>
                    <a:lnTo>
                      <a:pt x="204" y="440"/>
                    </a:lnTo>
                    <a:lnTo>
                      <a:pt x="234" y="399"/>
                    </a:lnTo>
                    <a:lnTo>
                      <a:pt x="268" y="360"/>
                    </a:lnTo>
                    <a:lnTo>
                      <a:pt x="304" y="321"/>
                    </a:lnTo>
                    <a:lnTo>
                      <a:pt x="340" y="285"/>
                    </a:lnTo>
                    <a:lnTo>
                      <a:pt x="379" y="251"/>
                    </a:lnTo>
                    <a:lnTo>
                      <a:pt x="418" y="219"/>
                    </a:lnTo>
                    <a:lnTo>
                      <a:pt x="460" y="190"/>
                    </a:lnTo>
                    <a:lnTo>
                      <a:pt x="503" y="161"/>
                    </a:lnTo>
                    <a:lnTo>
                      <a:pt x="547" y="136"/>
                    </a:lnTo>
                    <a:lnTo>
                      <a:pt x="591" y="112"/>
                    </a:lnTo>
                    <a:lnTo>
                      <a:pt x="637" y="90"/>
                    </a:lnTo>
                    <a:lnTo>
                      <a:pt x="685" y="70"/>
                    </a:lnTo>
                    <a:lnTo>
                      <a:pt x="732" y="53"/>
                    </a:lnTo>
                    <a:lnTo>
                      <a:pt x="781" y="39"/>
                    </a:lnTo>
                    <a:lnTo>
                      <a:pt x="831" y="25"/>
                    </a:lnTo>
                    <a:lnTo>
                      <a:pt x="882" y="15"/>
                    </a:lnTo>
                    <a:lnTo>
                      <a:pt x="933" y="8"/>
                    </a:lnTo>
                    <a:lnTo>
                      <a:pt x="984" y="3"/>
                    </a:lnTo>
                    <a:lnTo>
                      <a:pt x="1036" y="0"/>
                    </a:lnTo>
                    <a:lnTo>
                      <a:pt x="1087" y="0"/>
                    </a:lnTo>
                    <a:lnTo>
                      <a:pt x="1140" y="3"/>
                    </a:lnTo>
                    <a:lnTo>
                      <a:pt x="1193" y="8"/>
                    </a:lnTo>
                    <a:lnTo>
                      <a:pt x="1245" y="15"/>
                    </a:lnTo>
                    <a:lnTo>
                      <a:pt x="1298" y="27"/>
                    </a:lnTo>
                    <a:lnTo>
                      <a:pt x="1351" y="41"/>
                    </a:lnTo>
                    <a:lnTo>
                      <a:pt x="1351" y="41"/>
                    </a:lnTo>
                    <a:lnTo>
                      <a:pt x="1403" y="56"/>
                    </a:lnTo>
                    <a:lnTo>
                      <a:pt x="1454" y="75"/>
                    </a:lnTo>
                    <a:lnTo>
                      <a:pt x="1504" y="97"/>
                    </a:lnTo>
                    <a:lnTo>
                      <a:pt x="1551" y="119"/>
                    </a:lnTo>
                    <a:lnTo>
                      <a:pt x="1597" y="144"/>
                    </a:lnTo>
                    <a:lnTo>
                      <a:pt x="1641" y="173"/>
                    </a:lnTo>
                    <a:lnTo>
                      <a:pt x="1684" y="202"/>
                    </a:lnTo>
                    <a:lnTo>
                      <a:pt x="1724" y="234"/>
                    </a:lnTo>
                    <a:lnTo>
                      <a:pt x="1763" y="267"/>
                    </a:lnTo>
                    <a:lnTo>
                      <a:pt x="1801" y="302"/>
                    </a:lnTo>
                    <a:lnTo>
                      <a:pt x="1836" y="340"/>
                    </a:lnTo>
                    <a:lnTo>
                      <a:pt x="1870" y="377"/>
                    </a:lnTo>
                    <a:lnTo>
                      <a:pt x="1901" y="418"/>
                    </a:lnTo>
                    <a:lnTo>
                      <a:pt x="1932" y="459"/>
                    </a:lnTo>
                    <a:lnTo>
                      <a:pt x="1959" y="503"/>
                    </a:lnTo>
                    <a:lnTo>
                      <a:pt x="1984" y="547"/>
                    </a:lnTo>
                    <a:lnTo>
                      <a:pt x="2008" y="591"/>
                    </a:lnTo>
                    <a:lnTo>
                      <a:pt x="2030" y="637"/>
                    </a:lnTo>
                    <a:lnTo>
                      <a:pt x="2049" y="684"/>
                    </a:lnTo>
                    <a:lnTo>
                      <a:pt x="2066" y="734"/>
                    </a:lnTo>
                    <a:lnTo>
                      <a:pt x="2079" y="783"/>
                    </a:lnTo>
                    <a:lnTo>
                      <a:pt x="2093" y="832"/>
                    </a:lnTo>
                    <a:lnTo>
                      <a:pt x="2102" y="883"/>
                    </a:lnTo>
                    <a:lnTo>
                      <a:pt x="2110" y="934"/>
                    </a:lnTo>
                    <a:lnTo>
                      <a:pt x="2115" y="987"/>
                    </a:lnTo>
                    <a:lnTo>
                      <a:pt x="2117" y="1038"/>
                    </a:lnTo>
                    <a:lnTo>
                      <a:pt x="2117" y="1090"/>
                    </a:lnTo>
                    <a:lnTo>
                      <a:pt x="2113" y="1143"/>
                    </a:lnTo>
                    <a:lnTo>
                      <a:pt x="2108" y="1198"/>
                    </a:lnTo>
                    <a:lnTo>
                      <a:pt x="2100" y="1250"/>
                    </a:lnTo>
                    <a:lnTo>
                      <a:pt x="2090" y="1303"/>
                    </a:lnTo>
                    <a:lnTo>
                      <a:pt x="2076" y="1357"/>
                    </a:lnTo>
                    <a:lnTo>
                      <a:pt x="2076" y="1357"/>
                    </a:lnTo>
                    <a:close/>
                  </a:path>
                </a:pathLst>
              </a:custGeom>
              <a:noFill/>
              <a:ln w="38160">
                <a:solidFill>
                  <a:srgbClr val="00007d"/>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Freeform 75"/>
              <p:cNvSpPr/>
              <p:nvPr/>
            </p:nvSpPr>
            <p:spPr>
              <a:xfrm>
                <a:off x="1368000" y="482400"/>
                <a:ext cx="606240" cy="494280"/>
              </a:xfrm>
              <a:custGeom>
                <a:avLst/>
                <a:gdLst/>
                <a:ahLst/>
                <a:rect l="l" t="t" r="r" b="b"/>
                <a:pathLst>
                  <a:path w="1609" h="1326">
                    <a:moveTo>
                      <a:pt x="0" y="1326"/>
                    </a:moveTo>
                    <a:lnTo>
                      <a:pt x="0" y="1326"/>
                    </a:lnTo>
                    <a:lnTo>
                      <a:pt x="26" y="1243"/>
                    </a:lnTo>
                    <a:lnTo>
                      <a:pt x="53" y="1162"/>
                    </a:lnTo>
                    <a:lnTo>
                      <a:pt x="83" y="1082"/>
                    </a:lnTo>
                    <a:lnTo>
                      <a:pt x="116" y="1005"/>
                    </a:lnTo>
                    <a:lnTo>
                      <a:pt x="151" y="931"/>
                    </a:lnTo>
                    <a:lnTo>
                      <a:pt x="189" y="858"/>
                    </a:lnTo>
                    <a:lnTo>
                      <a:pt x="228" y="786"/>
                    </a:lnTo>
                    <a:lnTo>
                      <a:pt x="269" y="718"/>
                    </a:lnTo>
                    <a:lnTo>
                      <a:pt x="311" y="654"/>
                    </a:lnTo>
                    <a:lnTo>
                      <a:pt x="357" y="591"/>
                    </a:lnTo>
                    <a:lnTo>
                      <a:pt x="403" y="531"/>
                    </a:lnTo>
                    <a:lnTo>
                      <a:pt x="452" y="474"/>
                    </a:lnTo>
                    <a:lnTo>
                      <a:pt x="501" y="419"/>
                    </a:lnTo>
                    <a:lnTo>
                      <a:pt x="552" y="367"/>
                    </a:lnTo>
                    <a:lnTo>
                      <a:pt x="605" y="319"/>
                    </a:lnTo>
                    <a:lnTo>
                      <a:pt x="658" y="273"/>
                    </a:lnTo>
                    <a:lnTo>
                      <a:pt x="714" y="231"/>
                    </a:lnTo>
                    <a:lnTo>
                      <a:pt x="768" y="192"/>
                    </a:lnTo>
                    <a:lnTo>
                      <a:pt x="826" y="156"/>
                    </a:lnTo>
                    <a:lnTo>
                      <a:pt x="884" y="124"/>
                    </a:lnTo>
                    <a:lnTo>
                      <a:pt x="941" y="97"/>
                    </a:lnTo>
                    <a:lnTo>
                      <a:pt x="1001" y="71"/>
                    </a:lnTo>
                    <a:lnTo>
                      <a:pt x="1060" y="49"/>
                    </a:lnTo>
                    <a:lnTo>
                      <a:pt x="1120" y="32"/>
                    </a:lnTo>
                    <a:lnTo>
                      <a:pt x="1181" y="17"/>
                    </a:lnTo>
                    <a:lnTo>
                      <a:pt x="1242" y="8"/>
                    </a:lnTo>
                    <a:lnTo>
                      <a:pt x="1303" y="1"/>
                    </a:lnTo>
                    <a:lnTo>
                      <a:pt x="1334" y="0"/>
                    </a:lnTo>
                    <a:lnTo>
                      <a:pt x="1364" y="0"/>
                    </a:lnTo>
                    <a:lnTo>
                      <a:pt x="1395" y="0"/>
                    </a:lnTo>
                    <a:lnTo>
                      <a:pt x="1425" y="1"/>
                    </a:lnTo>
                    <a:lnTo>
                      <a:pt x="1456" y="5"/>
                    </a:lnTo>
                    <a:lnTo>
                      <a:pt x="1487" y="8"/>
                    </a:lnTo>
                    <a:lnTo>
                      <a:pt x="1517" y="13"/>
                    </a:lnTo>
                    <a:lnTo>
                      <a:pt x="1548" y="18"/>
                    </a:lnTo>
                    <a:lnTo>
                      <a:pt x="1578" y="25"/>
                    </a:lnTo>
                    <a:lnTo>
                      <a:pt x="1609" y="34"/>
                    </a:lnTo>
                  </a:path>
                </a:pathLst>
              </a:custGeom>
              <a:noFill/>
              <a:ln w="38160">
                <a:solidFill>
                  <a:srgbClr val="00007d"/>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Freeform 76"/>
              <p:cNvSpPr/>
              <p:nvPr/>
            </p:nvSpPr>
            <p:spPr>
              <a:xfrm>
                <a:off x="1676160" y="407520"/>
                <a:ext cx="309240" cy="719280"/>
              </a:xfrm>
              <a:custGeom>
                <a:avLst/>
                <a:gdLst/>
                <a:ahLst/>
                <a:rect l="l" t="t" r="r" b="b"/>
                <a:pathLst>
                  <a:path w="817" h="1928">
                    <a:moveTo>
                      <a:pt x="730" y="1928"/>
                    </a:moveTo>
                    <a:lnTo>
                      <a:pt x="730" y="1928"/>
                    </a:lnTo>
                    <a:lnTo>
                      <a:pt x="752" y="1845"/>
                    </a:lnTo>
                    <a:lnTo>
                      <a:pt x="771" y="1762"/>
                    </a:lnTo>
                    <a:lnTo>
                      <a:pt x="786" y="1680"/>
                    </a:lnTo>
                    <a:lnTo>
                      <a:pt x="800" y="1599"/>
                    </a:lnTo>
                    <a:lnTo>
                      <a:pt x="808" y="1517"/>
                    </a:lnTo>
                    <a:lnTo>
                      <a:pt x="813" y="1436"/>
                    </a:lnTo>
                    <a:lnTo>
                      <a:pt x="817" y="1358"/>
                    </a:lnTo>
                    <a:lnTo>
                      <a:pt x="815" y="1278"/>
                    </a:lnTo>
                    <a:lnTo>
                      <a:pt x="812" y="1201"/>
                    </a:lnTo>
                    <a:lnTo>
                      <a:pt x="805" y="1125"/>
                    </a:lnTo>
                    <a:lnTo>
                      <a:pt x="796" y="1050"/>
                    </a:lnTo>
                    <a:lnTo>
                      <a:pt x="783" y="977"/>
                    </a:lnTo>
                    <a:lnTo>
                      <a:pt x="768" y="906"/>
                    </a:lnTo>
                    <a:lnTo>
                      <a:pt x="751" y="836"/>
                    </a:lnTo>
                    <a:lnTo>
                      <a:pt x="729" y="767"/>
                    </a:lnTo>
                    <a:lnTo>
                      <a:pt x="706" y="702"/>
                    </a:lnTo>
                    <a:lnTo>
                      <a:pt x="679" y="637"/>
                    </a:lnTo>
                    <a:lnTo>
                      <a:pt x="650" y="575"/>
                    </a:lnTo>
                    <a:lnTo>
                      <a:pt x="620" y="515"/>
                    </a:lnTo>
                    <a:lnTo>
                      <a:pt x="586" y="457"/>
                    </a:lnTo>
                    <a:lnTo>
                      <a:pt x="548" y="403"/>
                    </a:lnTo>
                    <a:lnTo>
                      <a:pt x="511" y="352"/>
                    </a:lnTo>
                    <a:lnTo>
                      <a:pt x="469" y="301"/>
                    </a:lnTo>
                    <a:lnTo>
                      <a:pt x="426" y="255"/>
                    </a:lnTo>
                    <a:lnTo>
                      <a:pt x="380" y="211"/>
                    </a:lnTo>
                    <a:lnTo>
                      <a:pt x="333" y="172"/>
                    </a:lnTo>
                    <a:lnTo>
                      <a:pt x="282" y="135"/>
                    </a:lnTo>
                    <a:lnTo>
                      <a:pt x="229" y="101"/>
                    </a:lnTo>
                    <a:lnTo>
                      <a:pt x="175" y="70"/>
                    </a:lnTo>
                    <a:lnTo>
                      <a:pt x="147" y="56"/>
                    </a:lnTo>
                    <a:lnTo>
                      <a:pt x="119" y="43"/>
                    </a:lnTo>
                    <a:lnTo>
                      <a:pt x="90" y="31"/>
                    </a:lnTo>
                    <a:lnTo>
                      <a:pt x="61" y="19"/>
                    </a:lnTo>
                    <a:lnTo>
                      <a:pt x="30" y="9"/>
                    </a:lnTo>
                    <a:lnTo>
                      <a:pt x="0" y="0"/>
                    </a:lnTo>
                  </a:path>
                </a:pathLst>
              </a:custGeom>
              <a:noFill/>
              <a:ln w="38160">
                <a:solidFill>
                  <a:srgbClr val="00007d"/>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2"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2CD09-39A2-4C15-8EA3-A7E95D2C097B}" type="slidenum">
              <a:rPr b="0" lang="tr-TR"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68360" y="1773000"/>
            <a:ext cx="7989840" cy="165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ff"/>
                </a:solidFill>
                <a:latin typeface="Arial"/>
              </a:rPr>
              <a:t>TCP/IP Protokolü</a:t>
            </a:r>
            <a:endParaRPr b="0" lang="en-US" sz="4400" spc="-1" strike="noStrike">
              <a:solidFill>
                <a:srgbClr val="ffffff"/>
              </a:solidFill>
              <a:latin typeface="Arial"/>
            </a:endParaRPr>
          </a:p>
        </p:txBody>
      </p:sp>
      <p:sp>
        <p:nvSpPr>
          <p:cNvPr id="330" name="PlaceHolder 2"/>
          <p:cNvSpPr>
            <a:spLocks noGrp="1"/>
          </p:cNvSpPr>
          <p:nvPr>
            <p:ph type="subTitle"/>
          </p:nvPr>
        </p:nvSpPr>
        <p:spPr>
          <a:xfrm>
            <a:off x="468000" y="3886200"/>
            <a:ext cx="7304040" cy="1752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ard. Doç. Dr. Şirin KARADENİZ</a:t>
            </a:r>
            <a:endParaRPr b="0" lang="en-US"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Uygulama Katmanı Protokolleri</a:t>
            </a:r>
            <a:endParaRPr b="0" lang="en-US" sz="4000" spc="-1" strike="noStrike">
              <a:solidFill>
                <a:srgbClr val="ffffff"/>
              </a:solidFill>
              <a:latin typeface="Arial"/>
            </a:endParaRPr>
          </a:p>
        </p:txBody>
      </p:sp>
      <p:sp>
        <p:nvSpPr>
          <p:cNvPr id="451" name="PlaceHolder 2"/>
          <p:cNvSpPr>
            <a:spLocks noGrp="1"/>
          </p:cNvSpPr>
          <p:nvPr>
            <p:ph/>
          </p:nvPr>
        </p:nvSpPr>
        <p:spPr>
          <a:xfrm>
            <a:off x="2124000" y="1412640"/>
            <a:ext cx="7020000" cy="494028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TTPS (</a:t>
            </a:r>
            <a:r>
              <a:rPr b="0" i="1" lang="tr-TR" sz="2400" spc="-1" strike="noStrike">
                <a:solidFill>
                  <a:srgbClr val="ffffff"/>
                </a:solidFill>
                <a:latin typeface="Arial"/>
              </a:rPr>
              <a:t>Secure HTTP-Güvenli HTTP</a:t>
            </a:r>
            <a:r>
              <a:rPr b="0" lang="tr-TR"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TTP'nin RSA (İki anahtarlı şifreleme veya asimetrik anahtarlı şifreleme) şifrelemesi ile güçlendirilmiş halidir. Örneğin bankaların internet siteleri.</a:t>
            </a:r>
            <a:endParaRPr b="0" lang="en-US" sz="20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TP (</a:t>
            </a:r>
            <a:r>
              <a:rPr b="0" i="1" lang="tr-TR" sz="2400" spc="-1" strike="noStrike">
                <a:solidFill>
                  <a:srgbClr val="ffffff"/>
                </a:solidFill>
                <a:latin typeface="Arial"/>
              </a:rPr>
              <a:t>File Transfer Protocol)</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FTP veya FTPS (</a:t>
            </a:r>
            <a:r>
              <a:rPr b="0" i="1" lang="tr-TR" sz="2400" spc="-1" strike="noStrike">
                <a:solidFill>
                  <a:srgbClr val="ffffff"/>
                </a:solidFill>
                <a:latin typeface="Arial"/>
              </a:rPr>
              <a:t>Secure FTP</a:t>
            </a:r>
            <a:r>
              <a:rPr b="0" lang="tr-TR"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TP'nin RSA ile güçlendirilmiş halidir.</a:t>
            </a: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Uygulama Katmanı Protokolleri</a:t>
            </a:r>
            <a:endParaRPr b="0" lang="en-US" sz="4000" spc="-1" strike="noStrike">
              <a:solidFill>
                <a:srgbClr val="ffffff"/>
              </a:solidFill>
              <a:latin typeface="Arial"/>
            </a:endParaRPr>
          </a:p>
        </p:txBody>
      </p:sp>
      <p:sp>
        <p:nvSpPr>
          <p:cNvPr id="453" name="PlaceHolder 2"/>
          <p:cNvSpPr>
            <a:spLocks noGrp="1"/>
          </p:cNvSpPr>
          <p:nvPr>
            <p:ph/>
          </p:nvPr>
        </p:nvSpPr>
        <p:spPr>
          <a:xfrm>
            <a:off x="2124000" y="1412640"/>
            <a:ext cx="7020000" cy="494028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NMP </a:t>
            </a:r>
            <a:r>
              <a:rPr b="0" i="1" lang="tr-TR" sz="2400" spc="-1" strike="noStrike">
                <a:solidFill>
                  <a:srgbClr val="ffffff"/>
                </a:solidFill>
                <a:latin typeface="Arial"/>
              </a:rPr>
              <a:t>(Simple Network Managment Protocol- Basit Ağ Yönetimi Protokolü)</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ğlar büyüdükçe bu ağlar üzerindeki birimleri denetlemek amacıyla tasarlanmıştır. </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PC’ye bağlı kullanıcılar, internet bağlantı hızı, sistem çalışma süresi vb. bilgiler tutulur.</a:t>
            </a:r>
            <a:endParaRPr b="0" lang="en-US" sz="2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Uygulama Katmanı Protokolleri</a:t>
            </a:r>
            <a:endParaRPr b="0" lang="en-US" sz="4000" spc="-1" strike="noStrike">
              <a:solidFill>
                <a:srgbClr val="ffffff"/>
              </a:solidFill>
              <a:latin typeface="Arial"/>
            </a:endParaRPr>
          </a:p>
        </p:txBody>
      </p:sp>
      <p:sp>
        <p:nvSpPr>
          <p:cNvPr id="455" name="PlaceHolder 2"/>
          <p:cNvSpPr>
            <a:spLocks noGrp="1"/>
          </p:cNvSpPr>
          <p:nvPr>
            <p:ph/>
          </p:nvPr>
        </p:nvSpPr>
        <p:spPr>
          <a:xfrm>
            <a:off x="2124000" y="1412640"/>
            <a:ext cx="7020000" cy="494028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HCP</a:t>
            </a:r>
            <a:r>
              <a:rPr b="0" i="1" lang="tr-TR" sz="2400" spc="-1" strike="noStrike">
                <a:solidFill>
                  <a:srgbClr val="ffffff"/>
                </a:solidFill>
                <a:latin typeface="Arial"/>
              </a:rPr>
              <a:t> (Dynamic Host Configuration Protocol)</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rminallere otomatik ip adresi dağıtır.</a:t>
            </a:r>
            <a:endParaRPr b="0"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NFS </a:t>
            </a:r>
            <a:r>
              <a:rPr b="0" i="1" lang="tr-TR" sz="2400" spc="-1" strike="noStrike">
                <a:solidFill>
                  <a:srgbClr val="ffffff"/>
                </a:solidFill>
                <a:latin typeface="Arial"/>
              </a:rPr>
              <a:t>(Network File System-Ağ Dosya Sistemi)</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ffff"/>
                </a:solidFill>
                <a:latin typeface="Arial"/>
              </a:rPr>
              <a:t>Ağdaki paylaştırılmış dosyalara ulaşmayı sağlar</a:t>
            </a:r>
            <a:endParaRPr b="0"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LPD</a:t>
            </a:r>
            <a:r>
              <a:rPr b="0" i="1" lang="tr-TR" sz="2400" spc="-1" strike="noStrike">
                <a:solidFill>
                  <a:srgbClr val="ffffff"/>
                </a:solidFill>
                <a:latin typeface="Arial"/>
              </a:rPr>
              <a:t> (Line Printer Daemon)</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ffff"/>
                </a:solidFill>
                <a:latin typeface="Arial"/>
              </a:rPr>
              <a:t>Ağdaki yazıcının kullanılmasını sağlar. </a:t>
            </a: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Uygulama Katmanı Protokolleri</a:t>
            </a:r>
            <a:endParaRPr b="0" lang="en-US" sz="4000" spc="-1" strike="noStrike">
              <a:solidFill>
                <a:srgbClr val="ffffff"/>
              </a:solidFill>
              <a:latin typeface="Arial"/>
            </a:endParaRPr>
          </a:p>
        </p:txBody>
      </p:sp>
      <p:sp>
        <p:nvSpPr>
          <p:cNvPr id="457"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MTP (</a:t>
            </a:r>
            <a:r>
              <a:rPr b="0" i="1" lang="tr-TR" sz="2800" spc="-1" strike="noStrike">
                <a:solidFill>
                  <a:srgbClr val="ffffff"/>
                </a:solidFill>
                <a:latin typeface="Arial"/>
              </a:rPr>
              <a:t>Simple Mail Transfer Protocol</a:t>
            </a:r>
            <a:r>
              <a:rPr b="0" lang="tr-TR" sz="2800" spc="-1" strike="noStrike">
                <a:solidFill>
                  <a:srgbClr val="ffffff"/>
                </a:solidFill>
                <a:latin typeface="Arial"/>
              </a:rPr>
              <a:t>, - </a:t>
            </a:r>
            <a:r>
              <a:rPr b="0" i="1" lang="tr-TR" sz="2800" spc="-1" strike="noStrike">
                <a:solidFill>
                  <a:srgbClr val="ffffff"/>
                </a:solidFill>
                <a:latin typeface="Arial"/>
              </a:rPr>
              <a:t>Basit Posta Gönderme Protokolü</a:t>
            </a:r>
            <a:r>
              <a:rPr b="0" lang="tr-TR" sz="2800" spc="-1" strike="noStrike">
                <a:solidFill>
                  <a:srgbClr val="ffffff"/>
                </a:solidFill>
                <a:latin typeface="Arial"/>
              </a:rPr>
              <a:t>)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E-posta göndermek için kullanılır. </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OP3 (</a:t>
            </a:r>
            <a:r>
              <a:rPr b="0" i="1" lang="tr-TR" sz="2800" spc="-1" strike="noStrike">
                <a:solidFill>
                  <a:srgbClr val="ffffff"/>
                </a:solidFill>
                <a:latin typeface="Arial"/>
              </a:rPr>
              <a:t>Post Office Protocol 3)</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E-posta almak için kullanılır.</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lnet (Telecommunication Network)</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Çok kullanıcılı bir makineye uzaktaki başka bir makineden bağlanmak için kullanılır.</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Fiziksel Katman Protokolleri </a:t>
            </a:r>
            <a:endParaRPr b="0" lang="en-US" sz="4000" spc="-1" strike="noStrike">
              <a:solidFill>
                <a:srgbClr val="ffffff"/>
              </a:solidFill>
              <a:latin typeface="Arial"/>
            </a:endParaRPr>
          </a:p>
        </p:txBody>
      </p:sp>
      <p:sp>
        <p:nvSpPr>
          <p:cNvPr id="459" name="PlaceHolder 2"/>
          <p:cNvSpPr>
            <a:spLocks noGrp="1"/>
          </p:cNvSpPr>
          <p:nvPr>
            <p:ph/>
          </p:nvPr>
        </p:nvSpPr>
        <p:spPr>
          <a:xfrm>
            <a:off x="1979640" y="1341000"/>
            <a:ext cx="6913440" cy="525636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LIP (</a:t>
            </a:r>
            <a:r>
              <a:rPr b="0" lang="en-US" sz="2800" spc="-1" strike="noStrike">
                <a:solidFill>
                  <a:srgbClr val="ffffff"/>
                </a:solidFill>
                <a:latin typeface="Arial"/>
              </a:rPr>
              <a:t>Serial Line Internet Protocol</a:t>
            </a:r>
            <a:r>
              <a:rPr b="0" lang="tr-TR" sz="2800" spc="-1" strike="noStrike">
                <a:solidFill>
                  <a:srgbClr val="ffffff"/>
                </a:solidFill>
                <a:latin typeface="Arial"/>
              </a:rPr>
              <a: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 verilerinin, seri iletişim teknikleri ile iletimini sağlayan protokoldür. Dial-up veya kiralık hat bağlantılarında kullanılır. Veriler seri iletişim teknikleri kullanılarak iletilir. </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PP (</a:t>
            </a:r>
            <a:r>
              <a:rPr b="0" lang="en-US" sz="2800" spc="-1" strike="noStrike">
                <a:solidFill>
                  <a:srgbClr val="ffffff"/>
                </a:solidFill>
                <a:latin typeface="Arial"/>
              </a:rPr>
              <a:t>Point-to-Point Protocol</a:t>
            </a:r>
            <a:r>
              <a:rPr b="0" lang="tr-TR" sz="2800" spc="-1" strike="noStrike">
                <a:solidFill>
                  <a:srgbClr val="ffffff"/>
                </a:solidFill>
                <a:latin typeface="Arial"/>
              </a:rPr>
              <a: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LIP’e benzer, yine dial-up bağlantıda kullanılır. Ancak PPP;</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Verileri sıkıştırır</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ir çok donanım çoğunlukla destekler</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ta düzeltme ve belirleme algoritmaları kullanır.</a:t>
            </a:r>
            <a:endParaRPr b="0" lang="en-US" sz="20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5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59">
                                            <p:txEl>
                                              <p:pRg st="1" end="1"/>
                                            </p:txEl>
                                          </p:spTgt>
                                        </p:tgtEl>
                                        <p:attrNameLst>
                                          <p:attrName>style.visibility</p:attrName>
                                        </p:attrNameLst>
                                      </p:cBhvr>
                                      <p:to>
                                        <p:strVal val="visible"/>
                                      </p:to>
                                    </p:set>
                                  </p:childTnLst>
                                </p:cTn>
                              </p:par>
                              <p:animClr clrSpc="rgb">
                                <p:cBhvr>
                                  <p:cTn id="11" dur="1" fill="hold">
                                    <p:stCondLst>
                                      <p:cond delay="0"/>
                                    </p:stCondLst>
                                  </p:cTn>
                                  <p:tgtEl>
                                    <p:spTgt spid="459">
                                      <p:txEl>
                                        <p:pRg st="0" end="0"/>
                                      </p:txEl>
                                    </p:spTgt>
                                  </p:tgtEl>
                                  <p:attrNameLst>
                                    <p:attrName>ppt_c</p:attrName>
                                  </p:attrNameLst>
                                </p:cBhvr>
                                <p:to>
                                  <a:srgbClr val="b3cce6"/>
                                </p:to>
                              </p:animCl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1">
                                  <p:stCondLst>
                                    <p:cond delay="0"/>
                                  </p:stCondLst>
                                  <p:childTnLst>
                                    <p:set>
                                      <p:cBhvr>
                                        <p:cTn id="15" dur="1" fill="hold">
                                          <p:stCondLst>
                                            <p:cond delay="0"/>
                                          </p:stCondLst>
                                        </p:cTn>
                                        <p:tgtEl>
                                          <p:spTgt spid="459">
                                            <p:txEl>
                                              <p:pRg st="2" end="2"/>
                                            </p:txEl>
                                          </p:spTgt>
                                        </p:tgtEl>
                                        <p:attrNameLst>
                                          <p:attrName>style.visibility</p:attrName>
                                        </p:attrNameLst>
                                      </p:cBhvr>
                                      <p:to>
                                        <p:strVal val="visible"/>
                                      </p:to>
                                    </p:set>
                                  </p:childTnLst>
                                </p:cTn>
                              </p:par>
                              <p:animClr clrSpc="rgb">
                                <p:cBhvr>
                                  <p:cTn id="16" dur="1" fill="hold">
                                    <p:stCondLst>
                                      <p:cond delay="0"/>
                                    </p:stCondLst>
                                  </p:cTn>
                                  <p:tgtEl>
                                    <p:spTgt spid="459">
                                      <p:txEl>
                                        <p:pRg st="1" end="1"/>
                                      </p:txEl>
                                    </p:spTgt>
                                  </p:tgtEl>
                                  <p:attrNameLst>
                                    <p:attrName>ppt_c</p:attrName>
                                  </p:attrNameLst>
                                </p:cBhvr>
                                <p:to>
                                  <a:srgbClr val="b3cce6"/>
                                </p:to>
                              </p:animCl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459">
                                            <p:txEl>
                                              <p:pRg st="3" end="3"/>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459">
                                            <p:txEl>
                                              <p:pRg st="4" end="4"/>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459">
                                            <p:txEl>
                                              <p:pRg st="5" end="5"/>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459">
                                            <p:txEl>
                                              <p:pRg st="6" end="6"/>
                                            </p:txEl>
                                          </p:spTgt>
                                        </p:tgtEl>
                                        <p:attrNameLst>
                                          <p:attrName>style.visibility</p:attrName>
                                        </p:attrNameLst>
                                      </p:cBhvr>
                                      <p:to>
                                        <p:strVal val="visible"/>
                                      </p:to>
                                    </p:set>
                                  </p:childTnLst>
                                </p:cTn>
                              </p:par>
                              <p:animClr clrSpc="rgb">
                                <p:cBhvr>
                                  <p:cTn id="27" dur="1" fill="hold">
                                    <p:stCondLst>
                                      <p:cond delay="0"/>
                                    </p:stCondLst>
                                  </p:cTn>
                                  <p:tgtEl>
                                    <p:spTgt spid="459">
                                      <p:txEl>
                                        <p:pRg st="2" end="2"/>
                                      </p:txEl>
                                    </p:spTgt>
                                  </p:tgtEl>
                                  <p:attrNameLst>
                                    <p:attrName>ppt_c</p:attrName>
                                  </p:attrNameLst>
                                </p:cBhvr>
                                <p:to>
                                  <a:srgbClr val="b3cce6"/>
                                </p:to>
                              </p:animClr>
                            </p:childTnLst>
                          </p:cTn>
                        </p:par>
                      </p:childTnLst>
                    </p:cTn>
                  </p:par>
                  <p:par>
                    <p:cTn id="28" fill="hold">
                      <p:stCondLst>
                        <p:cond delay="indefinite"/>
                      </p:stCondLst>
                      <p:childTnLst>
                        <p:par>
                          <p:cTn id="29" fill="hold">
                            <p:stCondLst>
                              <p:cond delay="0"/>
                            </p:stCondLst>
                            <p:childTnLst>
                              <p:animClr clrSpc="rgb">
                                <p:cBhvr>
                                  <p:cTn id="30" dur="1" fill="hold"/>
                                  <p:tgtEl>
                                    <p:spTgt spid="459">
                                      <p:txEl>
                                        <p:pRg st="3" end="3"/>
                                      </p:txEl>
                                    </p:spTgt>
                                  </p:tgtEl>
                                  <p:attrNameLst>
                                    <p:attrName>ppt_c</p:attrName>
                                  </p:attrNameLst>
                                </p:cBhvr>
                                <p:to>
                                  <a:srgbClr val="b3cce6"/>
                                </p:to>
                              </p:animClr>
                              <p:animClr clrSpc="rgb">
                                <p:cBhvr>
                                  <p:cTn id="31" dur="1" fill="hold"/>
                                  <p:tgtEl>
                                    <p:spTgt spid="459">
                                      <p:txEl>
                                        <p:pRg st="4" end="4"/>
                                      </p:txEl>
                                    </p:spTgt>
                                  </p:tgtEl>
                                  <p:attrNameLst>
                                    <p:attrName>ppt_c</p:attrName>
                                  </p:attrNameLst>
                                </p:cBhvr>
                                <p:to>
                                  <a:srgbClr val="b3cce6"/>
                                </p:to>
                              </p:animClr>
                              <p:animClr clrSpc="rgb">
                                <p:cBhvr>
                                  <p:cTn id="32" dur="1" fill="hold"/>
                                  <p:tgtEl>
                                    <p:spTgt spid="459">
                                      <p:txEl>
                                        <p:pRg st="5" end="5"/>
                                      </p:txEl>
                                    </p:spTgt>
                                  </p:tgtEl>
                                  <p:attrNameLst>
                                    <p:attrName>ppt_c</p:attrName>
                                  </p:attrNameLst>
                                </p:cBhvr>
                                <p:to>
                                  <a:srgbClr val="b3cce6"/>
                                </p:to>
                              </p:animClr>
                              <p:animClr clrSpc="rgb">
                                <p:cBhvr>
                                  <p:cTn id="33" dur="1" fill="hold"/>
                                  <p:tgtEl>
                                    <p:spTgt spid="459">
                                      <p:txEl>
                                        <p:pRg st="6" end="6"/>
                                      </p:txEl>
                                    </p:spTgt>
                                  </p:tgtEl>
                                  <p:attrNameLst>
                                    <p:attrName>ppt_c</p:attrName>
                                  </p:attrNameLst>
                                </p:cBhvr>
                                <p:to>
                                  <a:srgbClr val="b3cce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aşıma Katmanı Protokolleri</a:t>
            </a:r>
            <a:endParaRPr b="0" lang="en-US" sz="4000" spc="-1" strike="noStrike">
              <a:solidFill>
                <a:srgbClr val="ffffff"/>
              </a:solidFill>
              <a:latin typeface="Arial"/>
            </a:endParaRPr>
          </a:p>
        </p:txBody>
      </p:sp>
      <p:sp>
        <p:nvSpPr>
          <p:cNvPr id="461"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CP (</a:t>
            </a:r>
            <a:r>
              <a:rPr b="0" i="1" lang="tr-TR" sz="2800" spc="-1" strike="noStrike">
                <a:solidFill>
                  <a:srgbClr val="ffffff"/>
                </a:solidFill>
                <a:latin typeface="Times New Roman"/>
              </a:rPr>
              <a:t>Transmission Control Protocol-Transfer Kontrol Protokolü</a:t>
            </a:r>
            <a:r>
              <a:rPr b="0" lang="tr-TR" sz="2800" spc="-1" strike="noStrike">
                <a:solidFill>
                  <a:srgbClr val="ffffff"/>
                </a:solidFill>
                <a:latin typeface="Times New Roman"/>
              </a:rPr>
              <a:t>)</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Veri aktarımı yapılacak iki bilgisayar arasındaki bağlantıyı kurar</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Hata denetimi yapar. Paketler gitmediyse bir daha gönderir.</a:t>
            </a:r>
            <a:endParaRPr b="0" lang="en-US" sz="2400" spc="-1" strike="noStrike">
              <a:solidFill>
                <a:srgbClr val="ffffff"/>
              </a:solidFill>
              <a:latin typeface="Arial"/>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UDP (</a:t>
            </a:r>
            <a:r>
              <a:rPr b="0" i="1" lang="tr-TR" sz="2800" spc="-1" strike="noStrike">
                <a:solidFill>
                  <a:srgbClr val="ffffff"/>
                </a:solidFill>
                <a:latin typeface="Times New Roman"/>
              </a:rPr>
              <a:t>User Datagram Protocol</a:t>
            </a:r>
            <a:r>
              <a:rPr b="0" lang="tr-TR" sz="2800" spc="-1" strike="noStrike">
                <a:solidFill>
                  <a:srgbClr val="ffffff"/>
                </a:solidFill>
                <a:latin typeface="Times New Roman"/>
              </a:rPr>
              <a:t>)</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gibi ağ üzerinden paketi gönderir ama bu protokol paketin gidip gitmediğini takip etmez ve paketin yerine ulaşıp ulaşmayacağını garantilemez. Daha çok küçük paketlerin tüm PC’lere gönderilmesinde kullanılır.</a:t>
            </a:r>
            <a:endParaRPr b="0" lang="en-US" sz="24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 Başlığı (TCP Header)</a:t>
            </a:r>
            <a:endParaRPr b="0" lang="en-US" sz="4000" spc="-1" strike="noStrike">
              <a:solidFill>
                <a:srgbClr val="ffffff"/>
              </a:solidFill>
              <a:latin typeface="Arial"/>
            </a:endParaRPr>
          </a:p>
        </p:txBody>
      </p:sp>
      <p:graphicFrame>
        <p:nvGraphicFramePr>
          <p:cNvPr id="463" name=""/>
          <p:cNvGraphicFramePr/>
          <p:nvPr/>
        </p:nvGraphicFramePr>
        <p:xfrm>
          <a:off x="2050920" y="1557360"/>
          <a:ext cx="6588360" cy="4827600"/>
        </p:xfrm>
        <a:graphic>
          <a:graphicData uri="http://schemas.openxmlformats.org/drawingml/2006/table">
            <a:tbl>
              <a:tblPr/>
              <a:tblGrid>
                <a:gridCol w="1646280"/>
                <a:gridCol w="1648080"/>
                <a:gridCol w="1645920"/>
                <a:gridCol w="1648080"/>
              </a:tblGrid>
              <a:tr h="636480">
                <a:tc gridSpan="2">
                  <a:txBody>
                    <a:bodyPr lIns="90000" rIns="900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Kaynak portu (16 bit)</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edef portu (16 bit)</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5040">
                <a:tc gridSpan="4">
                  <a:txBody>
                    <a:bodyPr lIns="90000" rIns="900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ıra numarası (32 bit)</a:t>
                      </a:r>
                      <a:endParaRPr b="0" lang="en-US" sz="2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6480">
                <a:tc gridSpan="4">
                  <a:txBody>
                    <a:bodyPr lIns="90000" rIns="900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lındı bilgisi numarası (32 bit)</a:t>
                      </a:r>
                      <a:endParaRPr b="0" lang="en-US" sz="2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0000" rIns="900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Veri ofseti (4 bit)</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yrılmış (6 bit)</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ayraklar (6 bit)</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Pencere (16 bit)</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823320">
                <a:tc gridSpan="2">
                  <a:txBody>
                    <a:bodyPr lIns="90000" rIns="900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Checksum (Kontrol Toplamı – 16 bit)</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cil İşaretçiler (16 bit)</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6840">
                <a:tc gridSpan="4">
                  <a:txBody>
                    <a:bodyPr lIns="90000" rIns="900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Opsiyonlar – Değişkenler</a:t>
                      </a:r>
                      <a:endParaRPr b="0" lang="en-US" sz="2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5400">
                <a:tc gridSpan="4">
                  <a:txBody>
                    <a:bodyPr lIns="90000" rIns="900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Veri</a:t>
                      </a:r>
                      <a:endParaRPr b="0" lang="en-US" sz="2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IP Başlık</a:t>
            </a:r>
            <a:endParaRPr b="0" lang="en-US" sz="4000" spc="-1" strike="noStrike">
              <a:solidFill>
                <a:srgbClr val="ffffff"/>
              </a:solidFill>
              <a:latin typeface="Arial"/>
            </a:endParaRPr>
          </a:p>
        </p:txBody>
      </p:sp>
      <p:sp>
        <p:nvSpPr>
          <p:cNvPr id="465"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ynak ve hedef portu: Gönderici ve alıcı pc’lerin port numarası</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ıra numarası:Paketin hangi bölümü olduğunu gösteri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lındı bilgisi numarası: Bir sonraki gelecek olan paket bölüm numarası</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encere: Alıcının daha ne kadar paket bölümü alacağını belirle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Checksum: İletim biriminden geçen bit'lerin sayısı. </a:t>
            </a:r>
            <a:endParaRPr b="0" lang="en-US" sz="2800" spc="-1" strike="noStrike">
              <a:solidFill>
                <a:srgbClr val="ffffff"/>
              </a:solidFill>
              <a:latin typeface="Arial"/>
            </a:endParaRPr>
          </a:p>
        </p:txBody>
      </p:sp>
      <p:sp>
        <p:nvSpPr>
          <p:cNvPr id="466" name="AutoShape 4">
            <a:hlinkClick r:id="" action="ppaction://hlinkshowjump?jump=previousslide"/>
          </p:cNvPr>
          <p:cNvSpPr/>
          <p:nvPr/>
        </p:nvSpPr>
        <p:spPr>
          <a:xfrm>
            <a:off x="1692360" y="1052640"/>
            <a:ext cx="539640" cy="260280"/>
          </a:xfrm>
          <a:custGeom>
            <a:avLst/>
            <a:gdLst>
              <a:gd name="textAreaLeft" fmla="*/ 16560 w 539640"/>
              <a:gd name="textAreaRight" fmla="*/ 523080 w 539640"/>
              <a:gd name="textAreaTop" fmla="*/ 16560 h 260280"/>
              <a:gd name="textAreaBottom" fmla="*/ 243720 h 260280"/>
            </a:gdLst>
            <a:ahLst/>
            <a:rect l="textAreaLeft" t="textAreaTop" r="textAreaRight" b="textAreaBottom"/>
            <a:pathLst>
              <a:path w="44751" h="21600">
                <a:moveTo>
                  <a:pt x="0" y="0"/>
                </a:moveTo>
                <a:lnTo>
                  <a:pt x="44751" y="0"/>
                </a:lnTo>
                <a:lnTo>
                  <a:pt x="44751" y="21600"/>
                </a:lnTo>
                <a:lnTo>
                  <a:pt x="0" y="21600"/>
                </a:lnTo>
                <a:close/>
              </a:path>
              <a:path fill="lightenLess" w="44751" h="21600">
                <a:moveTo>
                  <a:pt x="0" y="0"/>
                </a:moveTo>
                <a:lnTo>
                  <a:pt x="44751" y="0"/>
                </a:lnTo>
                <a:lnTo>
                  <a:pt x="43351" y="1400"/>
                </a:lnTo>
                <a:lnTo>
                  <a:pt x="1400" y="1400"/>
                </a:lnTo>
                <a:close/>
              </a:path>
              <a:path fill="darken" w="44751" h="21600">
                <a:moveTo>
                  <a:pt x="44751" y="0"/>
                </a:moveTo>
                <a:lnTo>
                  <a:pt x="44751" y="21600"/>
                </a:lnTo>
                <a:lnTo>
                  <a:pt x="43351" y="20200"/>
                </a:lnTo>
                <a:lnTo>
                  <a:pt x="43351" y="1400"/>
                </a:lnTo>
                <a:close/>
              </a:path>
              <a:path fill="darkenLess" w="44751" h="21600">
                <a:moveTo>
                  <a:pt x="44751" y="21600"/>
                </a:moveTo>
                <a:lnTo>
                  <a:pt x="0" y="21600"/>
                </a:lnTo>
                <a:lnTo>
                  <a:pt x="1400" y="20200"/>
                </a:lnTo>
                <a:lnTo>
                  <a:pt x="43351" y="20200"/>
                </a:lnTo>
                <a:close/>
              </a:path>
              <a:path fill="lighten" w="44751" h="21600">
                <a:moveTo>
                  <a:pt x="0" y="21600"/>
                </a:moveTo>
                <a:lnTo>
                  <a:pt x="0" y="0"/>
                </a:lnTo>
                <a:lnTo>
                  <a:pt x="1400" y="1400"/>
                </a:lnTo>
                <a:lnTo>
                  <a:pt x="1400" y="20200"/>
                </a:lnTo>
                <a:close/>
              </a:path>
              <a:path fill="darken" w="44751" h="21600">
                <a:moveTo>
                  <a:pt x="15369" y="10800"/>
                </a:moveTo>
                <a:lnTo>
                  <a:pt x="29382" y="3794"/>
                </a:lnTo>
                <a:lnTo>
                  <a:pt x="29382" y="17806"/>
                </a:lnTo>
                <a:close/>
              </a:path>
            </a:pathLst>
          </a:cu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IP Portları</a:t>
            </a:r>
            <a:endParaRPr b="0" lang="en-US" sz="4000" spc="-1" strike="noStrike">
              <a:solidFill>
                <a:srgbClr val="ffffff"/>
              </a:solidFill>
              <a:latin typeface="Arial"/>
            </a:endParaRPr>
          </a:p>
        </p:txBody>
      </p:sp>
      <p:graphicFrame>
        <p:nvGraphicFramePr>
          <p:cNvPr id="468" name=""/>
          <p:cNvGraphicFramePr/>
          <p:nvPr/>
        </p:nvGraphicFramePr>
        <p:xfrm>
          <a:off x="2160720" y="1484280"/>
          <a:ext cx="6732360" cy="4446720"/>
        </p:xfrm>
        <a:graphic>
          <a:graphicData uri="http://schemas.openxmlformats.org/drawingml/2006/table">
            <a:tbl>
              <a:tblPr/>
              <a:tblGrid>
                <a:gridCol w="3563640"/>
                <a:gridCol w="3168720"/>
              </a:tblGrid>
              <a:tr h="49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ğ Servisi</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Port No</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93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TP veri transferi</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Port 2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5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TP kontrol</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Port 2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3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elne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Port 23</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MTP</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Port 2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3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N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UDP port 53</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3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TTP</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UDP Port 8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5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POP3</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Port 11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HTTP</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UDP Port 443</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69" name="AutoShape 58">
            <a:hlinkClick r:id="" action="ppaction://hlinkshowjump?jump=previousslide"/>
          </p:cNvPr>
          <p:cNvSpPr/>
          <p:nvPr/>
        </p:nvSpPr>
        <p:spPr>
          <a:xfrm>
            <a:off x="1692360" y="1052640"/>
            <a:ext cx="539640" cy="260280"/>
          </a:xfrm>
          <a:custGeom>
            <a:avLst/>
            <a:gdLst>
              <a:gd name="textAreaLeft" fmla="*/ 16560 w 539640"/>
              <a:gd name="textAreaRight" fmla="*/ 523080 w 539640"/>
              <a:gd name="textAreaTop" fmla="*/ 16560 h 260280"/>
              <a:gd name="textAreaBottom" fmla="*/ 243720 h 260280"/>
            </a:gdLst>
            <a:ahLst/>
            <a:rect l="textAreaLeft" t="textAreaTop" r="textAreaRight" b="textAreaBottom"/>
            <a:pathLst>
              <a:path w="44751" h="21600">
                <a:moveTo>
                  <a:pt x="0" y="0"/>
                </a:moveTo>
                <a:lnTo>
                  <a:pt x="44751" y="0"/>
                </a:lnTo>
                <a:lnTo>
                  <a:pt x="44751" y="21600"/>
                </a:lnTo>
                <a:lnTo>
                  <a:pt x="0" y="21600"/>
                </a:lnTo>
                <a:close/>
              </a:path>
              <a:path fill="lightenLess" w="44751" h="21600">
                <a:moveTo>
                  <a:pt x="0" y="0"/>
                </a:moveTo>
                <a:lnTo>
                  <a:pt x="44751" y="0"/>
                </a:lnTo>
                <a:lnTo>
                  <a:pt x="43351" y="1400"/>
                </a:lnTo>
                <a:lnTo>
                  <a:pt x="1400" y="1400"/>
                </a:lnTo>
                <a:close/>
              </a:path>
              <a:path fill="darken" w="44751" h="21600">
                <a:moveTo>
                  <a:pt x="44751" y="0"/>
                </a:moveTo>
                <a:lnTo>
                  <a:pt x="44751" y="21600"/>
                </a:lnTo>
                <a:lnTo>
                  <a:pt x="43351" y="20200"/>
                </a:lnTo>
                <a:lnTo>
                  <a:pt x="43351" y="1400"/>
                </a:lnTo>
                <a:close/>
              </a:path>
              <a:path fill="darkenLess" w="44751" h="21600">
                <a:moveTo>
                  <a:pt x="44751" y="21600"/>
                </a:moveTo>
                <a:lnTo>
                  <a:pt x="0" y="21600"/>
                </a:lnTo>
                <a:lnTo>
                  <a:pt x="1400" y="20200"/>
                </a:lnTo>
                <a:lnTo>
                  <a:pt x="43351" y="20200"/>
                </a:lnTo>
                <a:close/>
              </a:path>
              <a:path fill="lighten" w="44751" h="21600">
                <a:moveTo>
                  <a:pt x="0" y="21600"/>
                </a:moveTo>
                <a:lnTo>
                  <a:pt x="0" y="0"/>
                </a:lnTo>
                <a:lnTo>
                  <a:pt x="1400" y="1400"/>
                </a:lnTo>
                <a:lnTo>
                  <a:pt x="1400" y="20200"/>
                </a:lnTo>
                <a:close/>
              </a:path>
              <a:path fill="darken" w="44751" h="21600">
                <a:moveTo>
                  <a:pt x="15369" y="10800"/>
                </a:moveTo>
                <a:lnTo>
                  <a:pt x="29382" y="3794"/>
                </a:lnTo>
                <a:lnTo>
                  <a:pt x="29382" y="17806"/>
                </a:lnTo>
                <a:close/>
              </a:path>
            </a:pathLst>
          </a:cu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UDP Başlığı</a:t>
            </a:r>
            <a:endParaRPr b="0" lang="en-US" sz="4000" spc="-1" strike="noStrike">
              <a:solidFill>
                <a:srgbClr val="ffffff"/>
              </a:solidFill>
              <a:latin typeface="Arial"/>
            </a:endParaRPr>
          </a:p>
        </p:txBody>
      </p:sp>
      <p:graphicFrame>
        <p:nvGraphicFramePr>
          <p:cNvPr id="471" name=""/>
          <p:cNvGraphicFramePr/>
          <p:nvPr/>
        </p:nvGraphicFramePr>
        <p:xfrm>
          <a:off x="2268360" y="1679400"/>
          <a:ext cx="6588360" cy="2470320"/>
        </p:xfrm>
        <a:graphic>
          <a:graphicData uri="http://schemas.openxmlformats.org/drawingml/2006/table">
            <a:tbl>
              <a:tblPr/>
              <a:tblGrid>
                <a:gridCol w="3294360"/>
                <a:gridCol w="3294000"/>
              </a:tblGrid>
              <a:tr h="7509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Kaynak portu (16 bit)</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edef portu (16 bit)</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96840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Uzunluk</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Checksum (Kontrol Toplamı – 16 bit)</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750960">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Veri</a:t>
                      </a:r>
                      <a:endParaRPr b="0" lang="en-US" sz="2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IP</a:t>
            </a:r>
            <a:endParaRPr b="0" lang="en-US" sz="4000" spc="-1" strike="noStrike">
              <a:solidFill>
                <a:srgbClr val="ffffff"/>
              </a:solidFill>
              <a:latin typeface="Arial"/>
            </a:endParaRPr>
          </a:p>
        </p:txBody>
      </p:sp>
      <p:sp>
        <p:nvSpPr>
          <p:cNvPr id="332"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TCP/IP’nin tarihi ARPANET ile başlayan Internetin tarihidir.</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Adreslerin dağıtımı NIC (Network Information Center) tarafından yapılır.</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Türkiye’de ise bunu ODTÜ-TUBİTAK yapmaktadır.</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RFC (Request for Comments): TCP/IP standartlarını anlatan dokümanların genel adı.</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Çeşitli gönüllü kuruluşlar :</a:t>
            </a:r>
            <a:r>
              <a:rPr b="1" lang="tr-TR" sz="2400" spc="-1" strike="noStrike">
                <a:solidFill>
                  <a:srgbClr val="ffffff"/>
                </a:solidFill>
                <a:latin typeface="Times New Roman"/>
              </a:rPr>
              <a:t> </a:t>
            </a:r>
            <a:r>
              <a:rPr b="0" lang="tr-TR" sz="2400" spc="-1" strike="noStrike">
                <a:solidFill>
                  <a:srgbClr val="ffffff"/>
                </a:solidFill>
                <a:latin typeface="Times New Roman"/>
              </a:rPr>
              <a:t>ISOC (İnternetSociety : İnternet Derneği), IAB (İnternet Architecture Board : İnternet Mimarisi Kurulu)</a:t>
            </a:r>
            <a:endParaRPr b="0"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ğ Katmanı Protokolleri </a:t>
            </a:r>
            <a:endParaRPr b="0" lang="en-US" sz="4000" spc="-1" strike="noStrike">
              <a:solidFill>
                <a:srgbClr val="ffffff"/>
              </a:solidFill>
              <a:latin typeface="Arial"/>
            </a:endParaRPr>
          </a:p>
        </p:txBody>
      </p:sp>
      <p:sp>
        <p:nvSpPr>
          <p:cNvPr id="473" name="PlaceHolder 2"/>
          <p:cNvSpPr>
            <a:spLocks noGrp="1"/>
          </p:cNvSpPr>
          <p:nvPr>
            <p:ph/>
          </p:nvPr>
        </p:nvSpPr>
        <p:spPr>
          <a:xfrm>
            <a:off x="1979640" y="1341000"/>
            <a:ext cx="6913440" cy="525636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CMP (Internet Control Message Protocol): </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Paketin gönderilmesi sırasında hata oluştuğunda mesaj veya rapor gönderir.</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Ping komutu</a:t>
            </a:r>
            <a:endParaRPr b="0" lang="en-US" sz="18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RP (Address Resolution Protocol)</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Yerel ağdaki adresleri veya donanım adreslerini (MAC adres) ön bellekler. </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MAC adresi ağ adresine ve ağ adresini de MAC adresine çevirir.</a:t>
            </a:r>
            <a:endParaRPr b="0" lang="en-US" sz="18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GMP (Internet Group Management Protocol)</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elli bir gruptaki hostları, multicast (Bir gönderici ile ağ üzerinde birden fazla alıcı arasında kurulan iletişim</a:t>
            </a:r>
            <a:r>
              <a:rPr b="0" lang="tr-TR" sz="2000" spc="-1" strike="noStrike">
                <a:solidFill>
                  <a:srgbClr val="ffffff"/>
                </a:solidFill>
                <a:latin typeface="Wingdings"/>
                <a:ea typeface="Wingdings"/>
              </a:rPr>
              <a:t></a:t>
            </a:r>
            <a:r>
              <a:rPr b="0" lang="tr-TR" sz="2000" spc="-1" strike="noStrike">
                <a:solidFill>
                  <a:srgbClr val="ffffff"/>
                </a:solidFill>
                <a:latin typeface="Arial"/>
              </a:rPr>
              <a:t>bir grup) router’a bildirir. </a:t>
            </a:r>
            <a:endParaRPr b="0" lang="en-US" sz="2000" spc="-1" strike="noStrike">
              <a:solidFill>
                <a:srgbClr val="ffffff"/>
              </a:solidFill>
              <a:latin typeface="Arial"/>
            </a:endParaRPr>
          </a:p>
        </p:txBody>
      </p:sp>
    </p:spTree>
  </p:cSld>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1">
                                  <p:stCondLst>
                                    <p:cond delay="0"/>
                                  </p:stCondLst>
                                  <p:childTnLst>
                                    <p:set>
                                      <p:cBhvr>
                                        <p:cTn id="39" dur="1" fill="hold">
                                          <p:stCondLst>
                                            <p:cond delay="0"/>
                                          </p:stCondLst>
                                        </p:cTn>
                                        <p:tgtEl>
                                          <p:spTgt spid="473">
                                            <p:txEl>
                                              <p:pRg st="0" end="0"/>
                                            </p:txEl>
                                          </p:spTgt>
                                        </p:tgtEl>
                                        <p:attrNameLst>
                                          <p:attrName>style.visibility</p:attrName>
                                        </p:attrNameLst>
                                      </p:cBhvr>
                                      <p:to>
                                        <p:strVal val="visible"/>
                                      </p:to>
                                    </p:se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
                                  <p:stCondLst>
                                    <p:cond delay="0"/>
                                  </p:stCondLst>
                                  <p:childTnLst>
                                    <p:set>
                                      <p:cBhvr>
                                        <p:cTn id="43" dur="1" fill="hold">
                                          <p:stCondLst>
                                            <p:cond delay="0"/>
                                          </p:stCondLst>
                                        </p:cTn>
                                        <p:tgtEl>
                                          <p:spTgt spid="473">
                                            <p:txEl>
                                              <p:pRg st="1" end="1"/>
                                            </p:txEl>
                                          </p:spTgt>
                                        </p:tgtEl>
                                        <p:attrNameLst>
                                          <p:attrName>style.visibility</p:attrName>
                                        </p:attrNameLst>
                                      </p:cBhvr>
                                      <p:to>
                                        <p:strVal val="visible"/>
                                      </p:to>
                                    </p:set>
                                  </p:childTnLst>
                                </p:cTn>
                              </p:par>
                              <p:par>
                                <p:cTn id="44" nodeType="withEffect" fill="hold" presetClass="entr" presetID="1">
                                  <p:stCondLst>
                                    <p:cond delay="0"/>
                                  </p:stCondLst>
                                  <p:childTnLst>
                                    <p:set>
                                      <p:cBhvr>
                                        <p:cTn id="45" dur="1" fill="hold">
                                          <p:stCondLst>
                                            <p:cond delay="0"/>
                                          </p:stCondLst>
                                        </p:cTn>
                                        <p:tgtEl>
                                          <p:spTgt spid="473">
                                            <p:txEl>
                                              <p:pRg st="2" end="2"/>
                                            </p:txEl>
                                          </p:spTgt>
                                        </p:tgtEl>
                                        <p:attrNameLst>
                                          <p:attrName>style.visibility</p:attrName>
                                        </p:attrNameLst>
                                      </p:cBhvr>
                                      <p:to>
                                        <p:strVal val="visible"/>
                                      </p:to>
                                    </p:set>
                                  </p:childTnLst>
                                </p:cTn>
                              </p:par>
                              <p:animClr clrSpc="rgb">
                                <p:cBhvr>
                                  <p:cTn id="46" dur="1" fill="hold">
                                    <p:stCondLst>
                                      <p:cond delay="0"/>
                                    </p:stCondLst>
                                  </p:cTn>
                                  <p:tgtEl>
                                    <p:spTgt spid="473">
                                      <p:txEl>
                                        <p:pRg st="0" end="0"/>
                                      </p:txEl>
                                    </p:spTgt>
                                  </p:tgtEl>
                                  <p:attrNameLst>
                                    <p:attrName>ppt_c</p:attrName>
                                  </p:attrNameLst>
                                </p:cBhvr>
                                <p:to>
                                  <a:srgbClr val="b3cce6"/>
                                </p:to>
                              </p:animCl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473">
                                            <p:txEl>
                                              <p:pRg st="3" end="3"/>
                                            </p:txEl>
                                          </p:spTgt>
                                        </p:tgtEl>
                                        <p:attrNameLst>
                                          <p:attrName>style.visibility</p:attrName>
                                        </p:attrNameLst>
                                      </p:cBhvr>
                                      <p:to>
                                        <p:strVal val="visible"/>
                                      </p:to>
                                    </p:set>
                                  </p:childTnLst>
                                </p:cTn>
                              </p:par>
                              <p:animClr clrSpc="rgb">
                                <p:cBhvr>
                                  <p:cTn id="51" dur="1" fill="hold">
                                    <p:stCondLst>
                                      <p:cond delay="0"/>
                                    </p:stCondLst>
                                  </p:cTn>
                                  <p:tgtEl>
                                    <p:spTgt spid="473">
                                      <p:txEl>
                                        <p:pRg st="1" end="1"/>
                                      </p:txEl>
                                    </p:spTgt>
                                  </p:tgtEl>
                                  <p:attrNameLst>
                                    <p:attrName>ppt_c</p:attrName>
                                  </p:attrNameLst>
                                </p:cBhvr>
                                <p:to>
                                  <a:srgbClr val="b3cce6"/>
                                </p:to>
                              </p:animClr>
                              <p:animClr clrSpc="rgb">
                                <p:cBhvr>
                                  <p:cTn id="52" dur="1" fill="hold">
                                    <p:stCondLst>
                                      <p:cond delay="0"/>
                                    </p:stCondLst>
                                  </p:cTn>
                                  <p:tgtEl>
                                    <p:spTgt spid="473">
                                      <p:txEl>
                                        <p:pRg st="2" end="2"/>
                                      </p:txEl>
                                    </p:spTgt>
                                  </p:tgtEl>
                                  <p:attrNameLst>
                                    <p:attrName>ppt_c</p:attrName>
                                  </p:attrNameLst>
                                </p:cBhvr>
                                <p:to>
                                  <a:srgbClr val="b3cce6"/>
                                </p:to>
                              </p:animCl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473">
                                            <p:txEl>
                                              <p:pRg st="4" end="4"/>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73">
                                            <p:txEl>
                                              <p:pRg st="5" end="5"/>
                                            </p:txEl>
                                          </p:spTgt>
                                        </p:tgtEl>
                                        <p:attrNameLst>
                                          <p:attrName>style.visibility</p:attrName>
                                        </p:attrNameLst>
                                      </p:cBhvr>
                                      <p:to>
                                        <p:strVal val="visible"/>
                                      </p:to>
                                    </p:set>
                                  </p:childTnLst>
                                </p:cTn>
                              </p:par>
                              <p:animClr clrSpc="rgb">
                                <p:cBhvr>
                                  <p:cTn id="59" dur="1" fill="hold">
                                    <p:stCondLst>
                                      <p:cond delay="0"/>
                                    </p:stCondLst>
                                  </p:cTn>
                                  <p:tgtEl>
                                    <p:spTgt spid="473">
                                      <p:txEl>
                                        <p:pRg st="3" end="3"/>
                                      </p:txEl>
                                    </p:spTgt>
                                  </p:tgtEl>
                                  <p:attrNameLst>
                                    <p:attrName>ppt_c</p:attrName>
                                  </p:attrNameLst>
                                </p:cBhvr>
                                <p:to>
                                  <a:srgbClr val="b3cce6"/>
                                </p:to>
                              </p:animCl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
                                  <p:stCondLst>
                                    <p:cond delay="0"/>
                                  </p:stCondLst>
                                  <p:childTnLst>
                                    <p:set>
                                      <p:cBhvr>
                                        <p:cTn id="63" dur="1" fill="hold">
                                          <p:stCondLst>
                                            <p:cond delay="0"/>
                                          </p:stCondLst>
                                        </p:cTn>
                                        <p:tgtEl>
                                          <p:spTgt spid="473">
                                            <p:txEl>
                                              <p:pRg st="6" end="6"/>
                                            </p:txEl>
                                          </p:spTgt>
                                        </p:tgtEl>
                                        <p:attrNameLst>
                                          <p:attrName>style.visibility</p:attrName>
                                        </p:attrNameLst>
                                      </p:cBhvr>
                                      <p:to>
                                        <p:strVal val="visible"/>
                                      </p:to>
                                    </p:set>
                                  </p:childTnLst>
                                </p:cTn>
                              </p:par>
                              <p:animClr clrSpc="rgb">
                                <p:cBhvr>
                                  <p:cTn id="64" dur="1" fill="hold">
                                    <p:stCondLst>
                                      <p:cond delay="0"/>
                                    </p:stCondLst>
                                  </p:cTn>
                                  <p:tgtEl>
                                    <p:spTgt spid="473">
                                      <p:txEl>
                                        <p:pRg st="4" end="4"/>
                                      </p:txEl>
                                    </p:spTgt>
                                  </p:tgtEl>
                                  <p:attrNameLst>
                                    <p:attrName>ppt_c</p:attrName>
                                  </p:attrNameLst>
                                </p:cBhvr>
                                <p:to>
                                  <a:srgbClr val="b3cce6"/>
                                </p:to>
                              </p:animClr>
                              <p:animClr clrSpc="rgb">
                                <p:cBhvr>
                                  <p:cTn id="65" dur="1" fill="hold">
                                    <p:stCondLst>
                                      <p:cond delay="0"/>
                                    </p:stCondLst>
                                  </p:cTn>
                                  <p:tgtEl>
                                    <p:spTgt spid="473">
                                      <p:txEl>
                                        <p:pRg st="5" end="5"/>
                                      </p:txEl>
                                    </p:spTgt>
                                  </p:tgtEl>
                                  <p:attrNameLst>
                                    <p:attrName>ppt_c</p:attrName>
                                  </p:attrNameLst>
                                </p:cBhvr>
                                <p:to>
                                  <a:srgbClr val="b3cce6"/>
                                </p:to>
                              </p:animCl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0"/>
                                          </p:stCondLst>
                                        </p:cTn>
                                        <p:tgtEl>
                                          <p:spTgt spid="473">
                                            <p:txEl>
                                              <p:pRg st="7" end="7"/>
                                            </p:txEl>
                                          </p:spTgt>
                                        </p:tgtEl>
                                        <p:attrNameLst>
                                          <p:attrName>style.visibility</p:attrName>
                                        </p:attrNameLst>
                                      </p:cBhvr>
                                      <p:to>
                                        <p:strVal val="visible"/>
                                      </p:to>
                                    </p:set>
                                  </p:childTnLst>
                                </p:cTn>
                              </p:par>
                              <p:animClr clrSpc="rgb">
                                <p:cBhvr>
                                  <p:cTn id="70" dur="1" fill="hold">
                                    <p:stCondLst>
                                      <p:cond delay="0"/>
                                    </p:stCondLst>
                                  </p:cTn>
                                  <p:tgtEl>
                                    <p:spTgt spid="473">
                                      <p:txEl>
                                        <p:pRg st="6" end="6"/>
                                      </p:txEl>
                                    </p:spTgt>
                                  </p:tgtEl>
                                  <p:attrNameLst>
                                    <p:attrName>ppt_c</p:attrName>
                                  </p:attrNameLst>
                                </p:cBhvr>
                                <p:to>
                                  <a:srgbClr val="b3cce6"/>
                                </p:to>
                              </p:animClr>
                            </p:childTnLst>
                          </p:cTn>
                        </p:par>
                      </p:childTnLst>
                    </p:cTn>
                  </p:par>
                  <p:par>
                    <p:cTn id="71" fill="hold">
                      <p:stCondLst>
                        <p:cond delay="indefinite"/>
                      </p:stCondLst>
                      <p:childTnLst>
                        <p:par>
                          <p:cTn id="72" fill="hold">
                            <p:stCondLst>
                              <p:cond delay="0"/>
                            </p:stCondLst>
                            <p:childTnLst>
                              <p:animClr clrSpc="rgb">
                                <p:cBhvr>
                                  <p:cTn id="73" dur="1" fill="hold"/>
                                  <p:tgtEl>
                                    <p:spTgt spid="473">
                                      <p:txEl>
                                        <p:pRg st="7" end="7"/>
                                      </p:txEl>
                                    </p:spTgt>
                                  </p:tgtEl>
                                  <p:attrNameLst>
                                    <p:attrName>ppt_c</p:attrName>
                                  </p:attrNameLst>
                                </p:cBhvr>
                                <p:to>
                                  <a:srgbClr val="b3cce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ğ Katmanı Protokolleri </a:t>
            </a:r>
            <a:endParaRPr b="0" lang="en-US" sz="4000" spc="-1" strike="noStrike">
              <a:solidFill>
                <a:srgbClr val="ffffff"/>
              </a:solidFill>
              <a:latin typeface="Arial"/>
            </a:endParaRPr>
          </a:p>
        </p:txBody>
      </p:sp>
      <p:sp>
        <p:nvSpPr>
          <p:cNvPr id="475" name="PlaceHolder 2"/>
          <p:cNvSpPr>
            <a:spLocks noGrp="1"/>
          </p:cNvSpPr>
          <p:nvPr>
            <p:ph/>
          </p:nvPr>
        </p:nvSpPr>
        <p:spPr>
          <a:xfrm>
            <a:off x="2160360" y="1341360"/>
            <a:ext cx="6732360" cy="151128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 (</a:t>
            </a:r>
            <a:r>
              <a:rPr b="0" lang="tr-TR" sz="2400" spc="-1" strike="noStrike">
                <a:solidFill>
                  <a:srgbClr val="ffffff"/>
                </a:solidFill>
                <a:latin typeface="Times New Roman"/>
              </a:rPr>
              <a:t>Internet Protocol)</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P adresi bir ağa bağlı bilgisayarların ağ üzerinden birbirlerine veri yollamak için kullandıkları adrestir. </a:t>
            </a:r>
            <a:endParaRPr b="0" lang="en-US" sz="20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 Başlığı:</a:t>
            </a:r>
            <a:endParaRPr b="0" lang="en-US" sz="2400" spc="-1" strike="noStrike">
              <a:solidFill>
                <a:srgbClr val="ffffff"/>
              </a:solidFill>
              <a:latin typeface="Arial"/>
            </a:endParaRPr>
          </a:p>
        </p:txBody>
      </p:sp>
      <p:graphicFrame>
        <p:nvGraphicFramePr>
          <p:cNvPr id="476" name=""/>
          <p:cNvGraphicFramePr/>
          <p:nvPr/>
        </p:nvGraphicFramePr>
        <p:xfrm>
          <a:off x="2124000" y="3003480"/>
          <a:ext cx="6264360" cy="3452760"/>
        </p:xfrm>
        <a:graphic>
          <a:graphicData uri="http://schemas.openxmlformats.org/drawingml/2006/table">
            <a:tbl>
              <a:tblPr/>
              <a:tblGrid>
                <a:gridCol w="1481040"/>
                <a:gridCol w="1481400"/>
                <a:gridCol w="349200"/>
                <a:gridCol w="216000"/>
                <a:gridCol w="1106280"/>
                <a:gridCol w="182520"/>
                <a:gridCol w="1447920"/>
              </a:tblGrid>
              <a:tr h="640440">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versiyon</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başlık uzunluğu</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gridSpan="3">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izmet türü</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oplam uzunluk</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40800">
                <a:tc gridSpan="3">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Kimlik</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Parçalanma durumu</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Parçalanma Ofseti</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705600">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TL</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3">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Protokol</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aşlık kontrol toplamı (Checksum)</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7920">
                <a:tc gridSpan="7">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Kaynak Adresi</a:t>
                      </a:r>
                      <a:endParaRPr b="0" lang="en-US" sz="18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6120">
                <a:tc gridSpan="7">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edef Adresi</a:t>
                      </a:r>
                      <a:endParaRPr b="0" lang="en-US" sz="18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6480">
                <a:tc gridSpan="7">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Opsiyonlar </a:t>
                      </a:r>
                      <a:endParaRPr b="0" lang="en-US" sz="18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6120">
                <a:tc gridSpan="7">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Veri</a:t>
                      </a:r>
                      <a:endParaRPr b="0" lang="en-US" sz="18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 Başlığı</a:t>
            </a:r>
            <a:endParaRPr b="0" lang="en-US" sz="4000" spc="-1" strike="noStrike">
              <a:solidFill>
                <a:srgbClr val="ffffff"/>
              </a:solidFill>
              <a:latin typeface="Arial"/>
            </a:endParaRPr>
          </a:p>
        </p:txBody>
      </p:sp>
      <p:sp>
        <p:nvSpPr>
          <p:cNvPr id="478"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Hizmet türü: Host’un ne tür bir hizmet istediği: Hızlı (örneğin ses), hatasız (örneğin dosya) veya güvenli iletim gibi.</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imlik: Paket bölümünün bağlı olduğu bölümün kimliği, o pakete ait olan bölümlerin hepsinde aynı tanım yaza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TL (Time to Live): Paketin ömrü.</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lık kontrol toplamı: Sadece paketin kontrolünü sağla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9" name="AutoShape 4">
            <a:hlinkClick r:id="" action="ppaction://hlinkshowjump?jump=previousslide"/>
          </p:cNvPr>
          <p:cNvSpPr/>
          <p:nvPr/>
        </p:nvSpPr>
        <p:spPr>
          <a:xfrm>
            <a:off x="1692360" y="1052640"/>
            <a:ext cx="539640" cy="260280"/>
          </a:xfrm>
          <a:custGeom>
            <a:avLst/>
            <a:gdLst>
              <a:gd name="textAreaLeft" fmla="*/ 16560 w 539640"/>
              <a:gd name="textAreaRight" fmla="*/ 523080 w 539640"/>
              <a:gd name="textAreaTop" fmla="*/ 16560 h 260280"/>
              <a:gd name="textAreaBottom" fmla="*/ 243720 h 260280"/>
            </a:gdLst>
            <a:ahLst/>
            <a:rect l="textAreaLeft" t="textAreaTop" r="textAreaRight" b="textAreaBottom"/>
            <a:pathLst>
              <a:path w="44751" h="21600">
                <a:moveTo>
                  <a:pt x="0" y="0"/>
                </a:moveTo>
                <a:lnTo>
                  <a:pt x="44751" y="0"/>
                </a:lnTo>
                <a:lnTo>
                  <a:pt x="44751" y="21600"/>
                </a:lnTo>
                <a:lnTo>
                  <a:pt x="0" y="21600"/>
                </a:lnTo>
                <a:close/>
              </a:path>
              <a:path fill="lightenLess" w="44751" h="21600">
                <a:moveTo>
                  <a:pt x="0" y="0"/>
                </a:moveTo>
                <a:lnTo>
                  <a:pt x="44751" y="0"/>
                </a:lnTo>
                <a:lnTo>
                  <a:pt x="43351" y="1400"/>
                </a:lnTo>
                <a:lnTo>
                  <a:pt x="1400" y="1400"/>
                </a:lnTo>
                <a:close/>
              </a:path>
              <a:path fill="darken" w="44751" h="21600">
                <a:moveTo>
                  <a:pt x="44751" y="0"/>
                </a:moveTo>
                <a:lnTo>
                  <a:pt x="44751" y="21600"/>
                </a:lnTo>
                <a:lnTo>
                  <a:pt x="43351" y="20200"/>
                </a:lnTo>
                <a:lnTo>
                  <a:pt x="43351" y="1400"/>
                </a:lnTo>
                <a:close/>
              </a:path>
              <a:path fill="darkenLess" w="44751" h="21600">
                <a:moveTo>
                  <a:pt x="44751" y="21600"/>
                </a:moveTo>
                <a:lnTo>
                  <a:pt x="0" y="21600"/>
                </a:lnTo>
                <a:lnTo>
                  <a:pt x="1400" y="20200"/>
                </a:lnTo>
                <a:lnTo>
                  <a:pt x="43351" y="20200"/>
                </a:lnTo>
                <a:close/>
              </a:path>
              <a:path fill="lighten" w="44751" h="21600">
                <a:moveTo>
                  <a:pt x="0" y="21600"/>
                </a:moveTo>
                <a:lnTo>
                  <a:pt x="0" y="0"/>
                </a:lnTo>
                <a:lnTo>
                  <a:pt x="1400" y="1400"/>
                </a:lnTo>
                <a:lnTo>
                  <a:pt x="1400" y="20200"/>
                </a:lnTo>
                <a:close/>
              </a:path>
              <a:path fill="darken" w="44751" h="21600">
                <a:moveTo>
                  <a:pt x="15369" y="10800"/>
                </a:moveTo>
                <a:lnTo>
                  <a:pt x="29382" y="3794"/>
                </a:lnTo>
                <a:lnTo>
                  <a:pt x="29382" y="17806"/>
                </a:lnTo>
                <a:close/>
              </a:path>
            </a:pathLst>
          </a:cu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 (</a:t>
            </a:r>
            <a:r>
              <a:rPr b="0" lang="tr-TR" sz="4000" spc="-1" strike="noStrike">
                <a:solidFill>
                  <a:srgbClr val="ffffff"/>
                </a:solidFill>
                <a:latin typeface="Times New Roman"/>
              </a:rPr>
              <a:t>Internet Protocol)</a:t>
            </a:r>
            <a:endParaRPr b="0" lang="en-US" sz="4000" spc="-1" strike="noStrike">
              <a:solidFill>
                <a:srgbClr val="ffffff"/>
              </a:solidFill>
              <a:latin typeface="Arial"/>
            </a:endParaRPr>
          </a:p>
        </p:txBody>
      </p:sp>
      <p:sp>
        <p:nvSpPr>
          <p:cNvPr id="481" name="PlaceHolder 2"/>
          <p:cNvSpPr>
            <a:spLocks noGrp="1"/>
          </p:cNvSpPr>
          <p:nvPr>
            <p:ph/>
          </p:nvPr>
        </p:nvSpPr>
        <p:spPr>
          <a:xfrm>
            <a:off x="1908000" y="1341000"/>
            <a:ext cx="7236000" cy="5256360"/>
          </a:xfrm>
          <a:prstGeom prst="rect">
            <a:avLst/>
          </a:prstGeom>
          <a:noFill/>
          <a:ln w="0">
            <a:noFill/>
          </a:ln>
        </p:spPr>
        <p:txBody>
          <a:bodyPr anchor="t">
            <a:normAutofit fontScale="99000"/>
          </a:bodyPr>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aygın olarak IPv4 adresler kullanılıyor.</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oplam 32 bit ve noktalarla ayrılmış 4 adet 8 bitlik sayı. </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Örnek bir IP adresi: </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00000 10011100 00001110 00000111</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w.x.y.z</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8.156.14.7</a:t>
            </a:r>
            <a:endParaRPr b="0" lang="en-US" sz="24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p adresleri dünyada 2</a:t>
            </a:r>
            <a:r>
              <a:rPr b="0" lang="tr-TR" sz="2800" spc="-1" strike="noStrike" baseline="30000">
                <a:solidFill>
                  <a:srgbClr val="ffffff"/>
                </a:solidFill>
                <a:latin typeface="Arial"/>
              </a:rPr>
              <a:t>32</a:t>
            </a:r>
            <a:r>
              <a:rPr b="0" lang="tr-TR" sz="2800" spc="-1" strike="noStrike">
                <a:solidFill>
                  <a:srgbClr val="ffffff"/>
                </a:solidFill>
                <a:latin typeface="Arial"/>
              </a:rPr>
              <a:t> = 4 milyardır. </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namik ip adresleri : Evden modem ile bağlanma</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tatik ip adresleri: IIS</a:t>
            </a:r>
            <a:endParaRPr b="0" lang="en-US" sz="2800" spc="-1" strike="noStrike">
              <a:solidFill>
                <a:srgbClr val="ffffff"/>
              </a:solidFill>
              <a:latin typeface="Arial"/>
            </a:endParaRPr>
          </a:p>
        </p:txBody>
      </p:sp>
    </p:spTree>
  </p:cSld>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481">
                                            <p:txEl>
                                              <p:pRg st="0" end="0"/>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481">
                                            <p:txEl>
                                              <p:pRg st="1" end="1"/>
                                            </p:txEl>
                                          </p:spTgt>
                                        </p:tgtEl>
                                        <p:attrNameLst>
                                          <p:attrName>style.visibility</p:attrName>
                                        </p:attrNameLst>
                                      </p:cBhvr>
                                      <p:to>
                                        <p:strVal val="visible"/>
                                      </p:to>
                                    </p:set>
                                  </p:childTnLst>
                                </p:cTn>
                              </p:par>
                              <p:animClr clrSpc="rgb">
                                <p:cBhvr>
                                  <p:cTn id="84" dur="1" fill="hold">
                                    <p:stCondLst>
                                      <p:cond delay="0"/>
                                    </p:stCondLst>
                                  </p:cTn>
                                  <p:tgtEl>
                                    <p:spTgt spid="481">
                                      <p:txEl>
                                        <p:pRg st="0" end="0"/>
                                      </p:txEl>
                                    </p:spTgt>
                                  </p:tgtEl>
                                  <p:attrNameLst>
                                    <p:attrName>ppt_c</p:attrName>
                                  </p:attrNameLst>
                                </p:cBhvr>
                                <p:to>
                                  <a:srgbClr val="b3cce6"/>
                                </p:to>
                              </p:animCl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481">
                                            <p:txEl>
                                              <p:pRg st="2" end="2"/>
                                            </p:txEl>
                                          </p:spTgt>
                                        </p:tgtEl>
                                        <p:attrNameLst>
                                          <p:attrName>style.visibility</p:attrName>
                                        </p:attrNameLst>
                                      </p:cBhvr>
                                      <p:to>
                                        <p:strVal val="visible"/>
                                      </p:to>
                                    </p:set>
                                  </p:childTnLst>
                                </p:cTn>
                              </p:par>
                              <p:animClr clrSpc="rgb">
                                <p:cBhvr>
                                  <p:cTn id="89" dur="1" fill="hold">
                                    <p:stCondLst>
                                      <p:cond delay="0"/>
                                    </p:stCondLst>
                                  </p:cTn>
                                  <p:tgtEl>
                                    <p:spTgt spid="481">
                                      <p:txEl>
                                        <p:pRg st="1" end="1"/>
                                      </p:txEl>
                                    </p:spTgt>
                                  </p:tgtEl>
                                  <p:attrNameLst>
                                    <p:attrName>ppt_c</p:attrName>
                                  </p:attrNameLst>
                                </p:cBhvr>
                                <p:to>
                                  <a:srgbClr val="b3cce6"/>
                                </p:to>
                              </p:animCl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1">
                                  <p:stCondLst>
                                    <p:cond delay="0"/>
                                  </p:stCondLst>
                                  <p:childTnLst>
                                    <p:set>
                                      <p:cBhvr>
                                        <p:cTn id="93" dur="1" fill="hold">
                                          <p:stCondLst>
                                            <p:cond delay="0"/>
                                          </p:stCondLst>
                                        </p:cTn>
                                        <p:tgtEl>
                                          <p:spTgt spid="481">
                                            <p:txEl>
                                              <p:pRg st="3" end="3"/>
                                            </p:txEl>
                                          </p:spTgt>
                                        </p:tgtEl>
                                        <p:attrNameLst>
                                          <p:attrName>style.visibility</p:attrName>
                                        </p:attrNameLst>
                                      </p:cBhvr>
                                      <p:to>
                                        <p:strVal val="visible"/>
                                      </p:to>
                                    </p:set>
                                  </p:childTnLst>
                                </p:cTn>
                              </p:par>
                              <p:animClr clrSpc="rgb">
                                <p:cBhvr>
                                  <p:cTn id="94" dur="1" fill="hold">
                                    <p:stCondLst>
                                      <p:cond delay="0"/>
                                    </p:stCondLst>
                                  </p:cTn>
                                  <p:tgtEl>
                                    <p:spTgt spid="481">
                                      <p:txEl>
                                        <p:pRg st="2" end="2"/>
                                      </p:txEl>
                                    </p:spTgt>
                                  </p:tgtEl>
                                  <p:attrNameLst>
                                    <p:attrName>ppt_c</p:attrName>
                                  </p:attrNameLst>
                                </p:cBhvr>
                                <p:to>
                                  <a:srgbClr val="b3cce6"/>
                                </p:to>
                              </p:animCl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481">
                                            <p:txEl>
                                              <p:pRg st="4" end="4"/>
                                            </p:txEl>
                                          </p:spTgt>
                                        </p:tgtEl>
                                        <p:attrNameLst>
                                          <p:attrName>style.visibility</p:attrName>
                                        </p:attrNameLst>
                                      </p:cBhvr>
                                      <p:to>
                                        <p:strVal val="visible"/>
                                      </p:to>
                                    </p:set>
                                  </p:childTnLst>
                                </p:cTn>
                              </p:par>
                              <p:animClr clrSpc="rgb">
                                <p:cBhvr>
                                  <p:cTn id="99" dur="1" fill="hold">
                                    <p:stCondLst>
                                      <p:cond delay="0"/>
                                    </p:stCondLst>
                                  </p:cTn>
                                  <p:tgtEl>
                                    <p:spTgt spid="481">
                                      <p:txEl>
                                        <p:pRg st="3" end="3"/>
                                      </p:txEl>
                                    </p:spTgt>
                                  </p:tgtEl>
                                  <p:attrNameLst>
                                    <p:attrName>ppt_c</p:attrName>
                                  </p:attrNameLst>
                                </p:cBhvr>
                                <p:to>
                                  <a:srgbClr val="b3cce6"/>
                                </p:to>
                              </p:animCl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childTnLst>
                                    <p:set>
                                      <p:cBhvr>
                                        <p:cTn id="103" dur="1" fill="hold">
                                          <p:stCondLst>
                                            <p:cond delay="0"/>
                                          </p:stCondLst>
                                        </p:cTn>
                                        <p:tgtEl>
                                          <p:spTgt spid="481">
                                            <p:txEl>
                                              <p:pRg st="5" end="5"/>
                                            </p:txEl>
                                          </p:spTgt>
                                        </p:tgtEl>
                                        <p:attrNameLst>
                                          <p:attrName>style.visibility</p:attrName>
                                        </p:attrNameLst>
                                      </p:cBhvr>
                                      <p:to>
                                        <p:strVal val="visible"/>
                                      </p:to>
                                    </p:set>
                                  </p:childTnLst>
                                </p:cTn>
                              </p:par>
                              <p:animClr clrSpc="rgb">
                                <p:cBhvr>
                                  <p:cTn id="104" dur="1" fill="hold">
                                    <p:stCondLst>
                                      <p:cond delay="0"/>
                                    </p:stCondLst>
                                  </p:cTn>
                                  <p:tgtEl>
                                    <p:spTgt spid="481">
                                      <p:txEl>
                                        <p:pRg st="4" end="4"/>
                                      </p:txEl>
                                    </p:spTgt>
                                  </p:tgtEl>
                                  <p:attrNameLst>
                                    <p:attrName>ppt_c</p:attrName>
                                  </p:attrNameLst>
                                </p:cBhvr>
                                <p:to>
                                  <a:srgbClr val="b3cce6"/>
                                </p:to>
                              </p:animCl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481">
                                            <p:txEl>
                                              <p:pRg st="6" end="6"/>
                                            </p:txEl>
                                          </p:spTgt>
                                        </p:tgtEl>
                                        <p:attrNameLst>
                                          <p:attrName>style.visibility</p:attrName>
                                        </p:attrNameLst>
                                      </p:cBhvr>
                                      <p:to>
                                        <p:strVal val="visible"/>
                                      </p:to>
                                    </p:set>
                                  </p:childTnLst>
                                </p:cTn>
                              </p:par>
                              <p:animClr clrSpc="rgb">
                                <p:cBhvr>
                                  <p:cTn id="109" dur="1" fill="hold">
                                    <p:stCondLst>
                                      <p:cond delay="0"/>
                                    </p:stCondLst>
                                  </p:cTn>
                                  <p:tgtEl>
                                    <p:spTgt spid="481">
                                      <p:txEl>
                                        <p:pRg st="5" end="5"/>
                                      </p:txEl>
                                    </p:spTgt>
                                  </p:tgtEl>
                                  <p:attrNameLst>
                                    <p:attrName>ppt_c</p:attrName>
                                  </p:attrNameLst>
                                </p:cBhvr>
                                <p:to>
                                  <a:srgbClr val="b3cce6"/>
                                </p:to>
                              </p:animCl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1">
                                  <p:stCondLst>
                                    <p:cond delay="0"/>
                                  </p:stCondLst>
                                  <p:childTnLst>
                                    <p:set>
                                      <p:cBhvr>
                                        <p:cTn id="113" dur="1" fill="hold">
                                          <p:stCondLst>
                                            <p:cond delay="0"/>
                                          </p:stCondLst>
                                        </p:cTn>
                                        <p:tgtEl>
                                          <p:spTgt spid="481">
                                            <p:txEl>
                                              <p:pRg st="7" end="7"/>
                                            </p:txEl>
                                          </p:spTgt>
                                        </p:tgtEl>
                                        <p:attrNameLst>
                                          <p:attrName>style.visibility</p:attrName>
                                        </p:attrNameLst>
                                      </p:cBhvr>
                                      <p:to>
                                        <p:strVal val="visible"/>
                                      </p:to>
                                    </p:set>
                                  </p:childTnLst>
                                </p:cTn>
                              </p:par>
                              <p:animClr clrSpc="rgb">
                                <p:cBhvr>
                                  <p:cTn id="114" dur="1" fill="hold">
                                    <p:stCondLst>
                                      <p:cond delay="0"/>
                                    </p:stCondLst>
                                  </p:cTn>
                                  <p:tgtEl>
                                    <p:spTgt spid="481">
                                      <p:txEl>
                                        <p:pRg st="6" end="6"/>
                                      </p:txEl>
                                    </p:spTgt>
                                  </p:tgtEl>
                                  <p:attrNameLst>
                                    <p:attrName>ppt_c</p:attrName>
                                  </p:attrNameLst>
                                </p:cBhvr>
                                <p:to>
                                  <a:srgbClr val="b3cce6"/>
                                </p:to>
                              </p:animCl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481">
                                            <p:txEl>
                                              <p:pRg st="8" end="8"/>
                                            </p:txEl>
                                          </p:spTgt>
                                        </p:tgtEl>
                                        <p:attrNameLst>
                                          <p:attrName>style.visibility</p:attrName>
                                        </p:attrNameLst>
                                      </p:cBhvr>
                                      <p:to>
                                        <p:strVal val="visible"/>
                                      </p:to>
                                    </p:set>
                                  </p:childTnLst>
                                </p:cTn>
                              </p:par>
                              <p:animClr clrSpc="rgb">
                                <p:cBhvr>
                                  <p:cTn id="119" dur="1" fill="hold">
                                    <p:stCondLst>
                                      <p:cond delay="0"/>
                                    </p:stCondLst>
                                  </p:cTn>
                                  <p:tgtEl>
                                    <p:spTgt spid="481">
                                      <p:txEl>
                                        <p:pRg st="7" end="7"/>
                                      </p:txEl>
                                    </p:spTgt>
                                  </p:tgtEl>
                                  <p:attrNameLst>
                                    <p:attrName>ppt_c</p:attrName>
                                  </p:attrNameLst>
                                </p:cBhvr>
                                <p:to>
                                  <a:srgbClr val="b3cce6"/>
                                </p:to>
                              </p:animClr>
                            </p:childTnLst>
                          </p:cTn>
                        </p:par>
                      </p:childTnLst>
                    </p:cTn>
                  </p:par>
                  <p:par>
                    <p:cTn id="120" fill="hold">
                      <p:stCondLst>
                        <p:cond delay="indefinite"/>
                      </p:stCondLst>
                      <p:childTnLst>
                        <p:par>
                          <p:cTn id="121" fill="hold">
                            <p:stCondLst>
                              <p:cond delay="0"/>
                            </p:stCondLst>
                            <p:childTnLst>
                              <p:animClr clrSpc="rgb">
                                <p:cBhvr>
                                  <p:cTn id="122" dur="1" fill="hold"/>
                                  <p:tgtEl>
                                    <p:spTgt spid="481">
                                      <p:txEl>
                                        <p:pRg st="8" end="8"/>
                                      </p:txEl>
                                    </p:spTgt>
                                  </p:tgtEl>
                                  <p:attrNameLst>
                                    <p:attrName>ppt_c</p:attrName>
                                  </p:attrNameLst>
                                </p:cBhvr>
                                <p:to>
                                  <a:srgbClr val="b3cce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v4 Adresleme</a:t>
            </a:r>
            <a:endParaRPr b="0" lang="en-US" sz="4000" spc="-1" strike="noStrike">
              <a:solidFill>
                <a:srgbClr val="ffffff"/>
              </a:solidFill>
              <a:latin typeface="Arial"/>
            </a:endParaRPr>
          </a:p>
        </p:txBody>
      </p:sp>
      <p:graphicFrame>
        <p:nvGraphicFramePr>
          <p:cNvPr id="483" name=""/>
          <p:cNvGraphicFramePr/>
          <p:nvPr/>
        </p:nvGraphicFramePr>
        <p:xfrm>
          <a:off x="2028960" y="1413000"/>
          <a:ext cx="7115040" cy="2184120"/>
        </p:xfrm>
        <a:graphic>
          <a:graphicData uri="http://schemas.openxmlformats.org/drawingml/2006/table">
            <a:tbl>
              <a:tblPr/>
              <a:tblGrid>
                <a:gridCol w="758520"/>
                <a:gridCol w="1040040"/>
                <a:gridCol w="743040"/>
                <a:gridCol w="771480"/>
                <a:gridCol w="792000"/>
                <a:gridCol w="1008000"/>
                <a:gridCol w="2001960"/>
              </a:tblGrid>
              <a:tr h="640440">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Sınıf</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adres</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No</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ost No</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bit sayısı</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ost bit sayısı</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daki PC Sayısı</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42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12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x.y.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imes New Roman"/>
                        </a:rPr>
                        <a:t>2</a:t>
                      </a:r>
                      <a:r>
                        <a:rPr b="0" lang="tr-TR" sz="1800" spc="-1" strike="noStrike" baseline="30000">
                          <a:solidFill>
                            <a:srgbClr val="ffffff"/>
                          </a:solidFill>
                          <a:latin typeface="Times New Roman"/>
                        </a:rPr>
                        <a:t>24</a:t>
                      </a:r>
                      <a:r>
                        <a:rPr b="0" lang="tr-TR" sz="1800" spc="-1" strike="noStrike">
                          <a:solidFill>
                            <a:srgbClr val="ffffff"/>
                          </a:solidFill>
                          <a:latin typeface="Times New Roman"/>
                        </a:rPr>
                        <a:t> = 16,777,214</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4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28-19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x</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y.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2</a:t>
                      </a:r>
                      <a:r>
                        <a:rPr b="1" lang="tr-TR" sz="1800" spc="-1" strike="noStrike" baseline="30000">
                          <a:solidFill>
                            <a:srgbClr val="ffffff"/>
                          </a:solidFill>
                          <a:latin typeface="Times New Roman"/>
                        </a:rPr>
                        <a:t>16</a:t>
                      </a:r>
                      <a:r>
                        <a:rPr b="1" lang="tr-TR" sz="1800" spc="-1" strike="noStrike">
                          <a:solidFill>
                            <a:srgbClr val="ffffff"/>
                          </a:solidFill>
                          <a:latin typeface="Times New Roman"/>
                        </a:rPr>
                        <a:t> =65534</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46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C</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92-22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x.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2</a:t>
                      </a:r>
                      <a:r>
                        <a:rPr b="1" lang="tr-TR" sz="1800" spc="-1" strike="noStrike" baseline="30000">
                          <a:solidFill>
                            <a:srgbClr val="ffffff"/>
                          </a:solidFill>
                          <a:latin typeface="Times New Roman"/>
                        </a:rPr>
                        <a:t>8</a:t>
                      </a:r>
                      <a:r>
                        <a:rPr b="1" lang="tr-TR" sz="1800" spc="-1" strike="noStrike">
                          <a:solidFill>
                            <a:srgbClr val="ffffff"/>
                          </a:solidFill>
                          <a:latin typeface="Times New Roman"/>
                        </a:rPr>
                        <a:t> = 254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84" name="Text Box 129"/>
          <p:cNvSpPr/>
          <p:nvPr/>
        </p:nvSpPr>
        <p:spPr>
          <a:xfrm>
            <a:off x="2124000" y="3727440"/>
            <a:ext cx="6048360" cy="2541960"/>
          </a:xfrm>
          <a:prstGeom prst="rect">
            <a:avLst/>
          </a:prstGeom>
          <a:noFill/>
          <a:ln w="9360">
            <a:solidFill>
              <a:srgbClr val="b3cce6"/>
            </a:solidFill>
            <a:miter/>
          </a:ln>
        </p:spPr>
        <p:style>
          <a:lnRef idx="0"/>
          <a:fillRef idx="0"/>
          <a:effectRef idx="0"/>
          <a:fontRef idx="minor"/>
        </p:style>
        <p:txBody>
          <a:bodyPr lIns="90000" rIns="90000" tIns="46800" bIns="46800" anchor="t">
            <a:spAutoFit/>
          </a:bodyPr>
          <a:p>
            <a:pPr>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D sınıfı 224-239 ve ağ 28 bit ile gösterilir.</a:t>
            </a:r>
            <a:endParaRPr b="0" lang="en-US" sz="2000" spc="-1" strike="noStrike">
              <a:solidFill>
                <a:srgbClr val="ffffff"/>
              </a:solidFill>
              <a:latin typeface="Arial"/>
            </a:endParaRPr>
          </a:p>
          <a:p>
            <a:pPr>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240 ve üzeri E sınıfı</a:t>
            </a:r>
            <a:endParaRPr b="0" lang="en-US" sz="2000" spc="-1" strike="noStrike">
              <a:solidFill>
                <a:srgbClr val="ffffff"/>
              </a:solidFill>
              <a:latin typeface="Arial"/>
            </a:endParaRPr>
          </a:p>
          <a:p>
            <a:pPr>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27 ile başlayan adresler : Bir makinenin kendisi ile konuşması (loopback) </a:t>
            </a:r>
            <a:endParaRPr b="0" lang="en-US" sz="2000" spc="-1" strike="noStrike">
              <a:solidFill>
                <a:srgbClr val="ffffff"/>
              </a:solidFill>
              <a:latin typeface="Arial"/>
            </a:endParaRPr>
          </a:p>
          <a:p>
            <a:pPr lvl="1" marL="457200">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Arial"/>
              </a:rPr>
              <a:t>Localhost: 127.0.0.1</a:t>
            </a:r>
            <a:endParaRPr b="0" lang="en-US" sz="2000" spc="-1" strike="noStrike">
              <a:solidFill>
                <a:srgbClr val="ffffff"/>
              </a:solidFill>
              <a:latin typeface="Arial"/>
            </a:endParaRPr>
          </a:p>
          <a:p>
            <a:pPr>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lk oktet 0 veya 255 olamaz.</a:t>
            </a: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yrılmış IP Adresler</a:t>
            </a:r>
            <a:endParaRPr b="0" lang="en-US" sz="4000" spc="-1" strike="noStrike">
              <a:solidFill>
                <a:srgbClr val="ffffff"/>
              </a:solidFill>
              <a:latin typeface="Arial"/>
            </a:endParaRPr>
          </a:p>
        </p:txBody>
      </p:sp>
      <p:sp>
        <p:nvSpPr>
          <p:cNvPr id="486"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Bazı IP adresleri bazı kullanımlar için ayrılmıştır. Yerel ağlar için ayrılmış adresler: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10.0.0.0 - 10.255.255.255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172.16.0.0 - 172.31.255.255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192.168.0.0 - 192.168.255.255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169.254.0.0 - 169.254.255.255</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0 </a:t>
            </a:r>
            <a:r>
              <a:rPr b="0" lang="tr-TR" sz="2800" spc="-1" strike="noStrike">
                <a:solidFill>
                  <a:srgbClr val="ffffff"/>
                </a:solidFill>
                <a:latin typeface="Wingdings"/>
                <a:ea typeface="Wingdings"/>
              </a:rPr>
              <a:t></a:t>
            </a:r>
            <a:r>
              <a:rPr b="0" lang="tr-TR" sz="2800" spc="-1" strike="noStrike">
                <a:solidFill>
                  <a:srgbClr val="ffffff"/>
                </a:solidFill>
                <a:latin typeface="Arial"/>
              </a:rPr>
              <a:t> bir ağı göstermektedi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255 </a:t>
            </a:r>
            <a:r>
              <a:rPr b="0" lang="tr-TR" sz="2800" spc="-1" strike="noStrike">
                <a:solidFill>
                  <a:srgbClr val="ffffff"/>
                </a:solidFill>
                <a:latin typeface="Wingdings"/>
                <a:ea typeface="Wingdings"/>
              </a:rPr>
              <a:t></a:t>
            </a:r>
            <a:r>
              <a:rPr b="0" lang="tr-TR" sz="2800" spc="-1" strike="noStrike">
                <a:solidFill>
                  <a:srgbClr val="ffffff"/>
                </a:solidFill>
                <a:latin typeface="Arial"/>
              </a:rPr>
              <a:t> broadcast adres; bir ağ içerisindeki tüm PC’ler</a:t>
            </a:r>
            <a:endParaRPr b="0" lang="en-US" sz="2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ğ ve Broadcast Numaraları</a:t>
            </a:r>
            <a:endParaRPr b="0" lang="en-US" sz="4000" spc="-1" strike="noStrike">
              <a:solidFill>
                <a:srgbClr val="ffffff"/>
              </a:solidFill>
              <a:latin typeface="Arial"/>
            </a:endParaRPr>
          </a:p>
        </p:txBody>
      </p:sp>
      <p:sp>
        <p:nvSpPr>
          <p:cNvPr id="488"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C sınıfı 129.23.123.2 adres için;</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ğ numarası: 129.23.123.0</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ağdaki tüm PC’lere mesaj göndermek isteyen bir cihaz şu adrese mesajı atacaktır;</a:t>
            </a:r>
            <a:endParaRPr b="0" lang="en-US" sz="24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29.23.123.255</a:t>
            </a:r>
            <a:endParaRPr b="0" lang="en-US" sz="20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 sınıfı 124.50.120.2 adres için;</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ğ numarası: 124.50.0.0</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ağdaki tüm PC’lere mesaj göndermek isteyen bir cihaz şu adrese mesajı atacaktır;</a:t>
            </a:r>
            <a:endParaRPr b="0" lang="en-US" sz="24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24.50.255.255</a:t>
            </a:r>
            <a:endParaRPr b="0" lang="en-US" sz="20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lt Ağ Maskesi (Subnet Mask)</a:t>
            </a:r>
            <a:endParaRPr b="0" lang="en-US" sz="4000" spc="-1" strike="noStrike">
              <a:solidFill>
                <a:srgbClr val="ffffff"/>
              </a:solidFill>
              <a:latin typeface="Arial"/>
            </a:endParaRPr>
          </a:p>
        </p:txBody>
      </p:sp>
      <p:sp>
        <p:nvSpPr>
          <p:cNvPr id="490" name="PlaceHolder 2"/>
          <p:cNvSpPr>
            <a:spLocks noGrp="1"/>
          </p:cNvSpPr>
          <p:nvPr>
            <p:ph/>
          </p:nvPr>
        </p:nvSpPr>
        <p:spPr>
          <a:xfrm>
            <a:off x="2160720" y="1483920"/>
            <a:ext cx="6804000" cy="1081080"/>
          </a:xfrm>
          <a:prstGeom prst="rect">
            <a:avLst/>
          </a:prstGeom>
          <a:noFill/>
          <a:ln w="0">
            <a:noFill/>
          </a:ln>
        </p:spPr>
        <p:txBody>
          <a:bodyPr anchor="t">
            <a:normAutofit/>
          </a:bodyPr>
          <a:p>
            <a:pPr marL="343080" indent="-34308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Ağdaki iki bilgisayarın veya cihazın aynı ağda olduklarını anlamalarını sağlar.</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491" name=""/>
          <p:cNvGraphicFramePr/>
          <p:nvPr/>
        </p:nvGraphicFramePr>
        <p:xfrm>
          <a:off x="2050920" y="2421000"/>
          <a:ext cx="7058160" cy="2185920"/>
        </p:xfrm>
        <a:graphic>
          <a:graphicData uri="http://schemas.openxmlformats.org/drawingml/2006/table">
            <a:tbl>
              <a:tblPr/>
              <a:tblGrid>
                <a:gridCol w="720720"/>
                <a:gridCol w="1152720"/>
                <a:gridCol w="718920"/>
                <a:gridCol w="720720"/>
                <a:gridCol w="1079640"/>
                <a:gridCol w="1081080"/>
                <a:gridCol w="1584360"/>
              </a:tblGrid>
              <a:tr h="640440">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Sınıf</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adres</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No</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ost No</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bit sayısı</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ost bit sayısı</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Maskesi</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392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12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x.y.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255.0.0.0</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436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28-19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x</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y.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255.255.0.0</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756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C</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92-22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x.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255.255.255.0</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92" name="Text Box 57"/>
          <p:cNvSpPr/>
          <p:nvPr/>
        </p:nvSpPr>
        <p:spPr>
          <a:xfrm>
            <a:off x="1981080" y="5261040"/>
            <a:ext cx="6551640" cy="1202760"/>
          </a:xfrm>
          <a:prstGeom prst="rect">
            <a:avLst/>
          </a:prstGeom>
          <a:noFill/>
          <a:ln w="9360">
            <a:solidFill>
              <a:srgbClr val="b3cce6"/>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55.0.0.0 </a:t>
            </a:r>
            <a:r>
              <a:rPr b="0" lang="tr-TR" sz="1800" spc="-1" strike="noStrike">
                <a:solidFill>
                  <a:srgbClr val="ffffff"/>
                </a:solidFill>
                <a:latin typeface="Wingdings"/>
                <a:ea typeface="Wingdings"/>
              </a:rPr>
              <a:t></a:t>
            </a:r>
            <a:r>
              <a:rPr b="0" lang="tr-TR" sz="1800" spc="-1" strike="noStrike">
                <a:solidFill>
                  <a:srgbClr val="ffffff"/>
                </a:solidFill>
                <a:latin typeface="Arial"/>
              </a:rPr>
              <a:t> (11111111.00000000.00000000.000000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55.255.0.0 </a:t>
            </a:r>
            <a:r>
              <a:rPr b="0" lang="tr-TR" sz="1800" spc="-1" strike="noStrike">
                <a:solidFill>
                  <a:srgbClr val="ffffff"/>
                </a:solidFill>
                <a:latin typeface="Wingdings"/>
                <a:ea typeface="Wingdings"/>
              </a:rPr>
              <a:t></a:t>
            </a:r>
            <a:r>
              <a:rPr b="0" lang="tr-TR" sz="1800" spc="-1" strike="noStrike">
                <a:solidFill>
                  <a:srgbClr val="ffffff"/>
                </a:solidFill>
                <a:latin typeface="Arial"/>
              </a:rPr>
              <a:t> (11111111. 11111111.00000000.000000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55.255.255.0 </a:t>
            </a:r>
            <a:r>
              <a:rPr b="0" lang="tr-TR" sz="1800" spc="-1" strike="noStrike">
                <a:solidFill>
                  <a:srgbClr val="ffffff"/>
                </a:solidFill>
                <a:latin typeface="Wingdings"/>
                <a:ea typeface="Wingdings"/>
              </a:rPr>
              <a:t></a:t>
            </a:r>
            <a:r>
              <a:rPr b="0" lang="tr-TR" sz="1800" spc="-1" strike="noStrike">
                <a:solidFill>
                  <a:srgbClr val="ffffff"/>
                </a:solidFill>
                <a:latin typeface="Arial"/>
              </a:rPr>
              <a:t> (11111111. 11111111. 11111111.00000000</a:t>
            </a:r>
            <a:endParaRPr b="0" lang="en-US" sz="1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 Sınıfı (1-126)</a:t>
            </a:r>
            <a:endParaRPr b="0" lang="en-US" sz="4000" spc="-1" strike="noStrike">
              <a:solidFill>
                <a:srgbClr val="ffffff"/>
              </a:solidFill>
              <a:latin typeface="Arial"/>
            </a:endParaRPr>
          </a:p>
        </p:txBody>
      </p:sp>
      <p:sp>
        <p:nvSpPr>
          <p:cNvPr id="494" name="Text Box 4"/>
          <p:cNvSpPr/>
          <p:nvPr/>
        </p:nvSpPr>
        <p:spPr>
          <a:xfrm>
            <a:off x="-361800" y="5532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95" name="Group 36"/>
          <p:cNvGrpSpPr/>
          <p:nvPr/>
        </p:nvGrpSpPr>
        <p:grpSpPr>
          <a:xfrm>
            <a:off x="2175480" y="1557360"/>
            <a:ext cx="2669400" cy="1278720"/>
            <a:chOff x="2175480" y="1557360"/>
            <a:chExt cx="2669400" cy="1278720"/>
          </a:xfrm>
        </p:grpSpPr>
        <p:sp>
          <p:nvSpPr>
            <p:cNvPr id="496" name="Text Box 7"/>
            <p:cNvSpPr/>
            <p:nvPr/>
          </p:nvSpPr>
          <p:spPr>
            <a:xfrm>
              <a:off x="2175480" y="1698480"/>
              <a:ext cx="21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     </a:t>
              </a:r>
              <a:r>
                <a:rPr b="0" lang="tr-TR" sz="2400" spc="-1" strike="noStrike">
                  <a:solidFill>
                    <a:srgbClr val="ffff00"/>
                  </a:solidFill>
                  <a:latin typeface="Comic Sans MS"/>
                </a:rPr>
                <a:t>ağ</a:t>
              </a:r>
              <a:r>
                <a:rPr b="0" lang="en-US" sz="2400" spc="-1" strike="noStrike">
                  <a:solidFill>
                    <a:srgbClr val="d1e4ff"/>
                  </a:solidFill>
                  <a:latin typeface="Comic Sans MS"/>
                </a:rPr>
                <a:t>       </a:t>
              </a:r>
              <a:r>
                <a:rPr b="0" lang="en-US" sz="2400" spc="-1" strike="noStrike">
                  <a:solidFill>
                    <a:srgbClr val="ff0000"/>
                  </a:solidFill>
                  <a:latin typeface="Comic Sans MS"/>
                </a:rPr>
                <a:t>host</a:t>
              </a:r>
              <a:endParaRPr b="0" lang="en-US" sz="2400" spc="-1" strike="noStrike">
                <a:solidFill>
                  <a:srgbClr val="ffffff"/>
                </a:solidFill>
                <a:latin typeface="Arial"/>
              </a:endParaRPr>
            </a:p>
          </p:txBody>
        </p:sp>
        <p:sp>
          <p:nvSpPr>
            <p:cNvPr id="497" name="Rectangle 8"/>
            <p:cNvSpPr/>
            <p:nvPr/>
          </p:nvSpPr>
          <p:spPr>
            <a:xfrm>
              <a:off x="2604960" y="1562040"/>
              <a:ext cx="1973160" cy="704880"/>
            </a:xfrm>
            <a:prstGeom prst="rect">
              <a:avLst/>
            </a:pr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8" name="Line 10"/>
            <p:cNvSpPr/>
            <p:nvPr/>
          </p:nvSpPr>
          <p:spPr>
            <a:xfrm>
              <a:off x="3244680" y="1557360"/>
              <a:ext cx="0" cy="7045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9" name="Text Box 11"/>
            <p:cNvSpPr/>
            <p:nvPr/>
          </p:nvSpPr>
          <p:spPr>
            <a:xfrm>
              <a:off x="2755800" y="2376360"/>
              <a:ext cx="171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8</a:t>
              </a:r>
              <a:r>
                <a:rPr b="0" lang="en-US" sz="2400" spc="-1" strike="noStrike">
                  <a:solidFill>
                    <a:srgbClr val="d1e4ff"/>
                  </a:solidFill>
                  <a:latin typeface="Comic Sans MS"/>
                </a:rPr>
                <a:t>       </a:t>
              </a:r>
              <a:r>
                <a:rPr b="0" lang="en-US" sz="2400" spc="-1" strike="noStrike">
                  <a:solidFill>
                    <a:srgbClr val="ff0000"/>
                  </a:solidFill>
                  <a:latin typeface="Comic Sans MS"/>
                </a:rPr>
                <a:t>24 bit</a:t>
              </a:r>
              <a:endParaRPr b="0" lang="en-US" sz="2400" spc="-1" strike="noStrike">
                <a:solidFill>
                  <a:srgbClr val="ffffff"/>
                </a:solidFill>
                <a:latin typeface="Arial"/>
              </a:endParaRPr>
            </a:p>
          </p:txBody>
        </p:sp>
        <p:sp>
          <p:nvSpPr>
            <p:cNvPr id="500" name="Text Box 22"/>
            <p:cNvSpPr/>
            <p:nvPr/>
          </p:nvSpPr>
          <p:spPr>
            <a:xfrm>
              <a:off x="4660560" y="18698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01" name="Group 35"/>
          <p:cNvGrpSpPr/>
          <p:nvPr/>
        </p:nvGrpSpPr>
        <p:grpSpPr>
          <a:xfrm>
            <a:off x="1964880" y="3068640"/>
            <a:ext cx="6198840" cy="2018520"/>
            <a:chOff x="1964880" y="3068640"/>
            <a:chExt cx="6198840" cy="2018520"/>
          </a:xfrm>
        </p:grpSpPr>
        <p:sp>
          <p:nvSpPr>
            <p:cNvPr id="502" name="Rectangle 27"/>
            <p:cNvSpPr/>
            <p:nvPr/>
          </p:nvSpPr>
          <p:spPr>
            <a:xfrm>
              <a:off x="2855880" y="3846600"/>
              <a:ext cx="17146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18.</a:t>
              </a:r>
              <a:r>
                <a:rPr b="0" lang="en-US" sz="2400" spc="-1" strike="noStrike">
                  <a:solidFill>
                    <a:srgbClr val="ff0000"/>
                  </a:solidFill>
                  <a:latin typeface="Comic Sans MS"/>
                </a:rPr>
                <a:t>26.0.1</a:t>
              </a:r>
              <a:endParaRPr b="0" lang="en-US" sz="2400" spc="-1" strike="noStrike">
                <a:solidFill>
                  <a:srgbClr val="ffffff"/>
                </a:solidFill>
                <a:latin typeface="Arial"/>
              </a:endParaRPr>
            </a:p>
          </p:txBody>
        </p:sp>
        <p:sp>
          <p:nvSpPr>
            <p:cNvPr id="503" name="AutoShape 28"/>
            <p:cNvSpPr/>
            <p:nvPr/>
          </p:nvSpPr>
          <p:spPr>
            <a:xfrm flipV="1" rot="5400000">
              <a:off x="3508560" y="3055680"/>
              <a:ext cx="475920" cy="1218960"/>
            </a:xfrm>
            <a:custGeom>
              <a:avLst/>
              <a:gdLst>
                <a:gd name="textAreaLeft" fmla="*/ 304200 w 475920"/>
                <a:gd name="textAreaRight" fmla="*/ 476280 w 475920"/>
                <a:gd name="textAreaTop" fmla="*/ 31680 h 1218960"/>
                <a:gd name="textAreaBottom" fmla="*/ 1187280 h 1218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4" name="Text Box 29"/>
            <p:cNvSpPr/>
            <p:nvPr/>
          </p:nvSpPr>
          <p:spPr>
            <a:xfrm>
              <a:off x="1964880" y="4627440"/>
              <a:ext cx="53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ağ</a:t>
              </a:r>
              <a:endParaRPr b="0" lang="en-US" sz="2400" spc="-1" strike="noStrike">
                <a:solidFill>
                  <a:srgbClr val="ffffff"/>
                </a:solidFill>
                <a:latin typeface="Arial"/>
              </a:endParaRPr>
            </a:p>
          </p:txBody>
        </p:sp>
        <p:sp>
          <p:nvSpPr>
            <p:cNvPr id="505" name="Line 30"/>
            <p:cNvSpPr/>
            <p:nvPr/>
          </p:nvSpPr>
          <p:spPr>
            <a:xfrm flipV="1">
              <a:off x="2290680" y="4200120"/>
              <a:ext cx="762120" cy="5137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6" name="Text Box 31"/>
            <p:cNvSpPr/>
            <p:nvPr/>
          </p:nvSpPr>
          <p:spPr>
            <a:xfrm>
              <a:off x="3253320" y="3068640"/>
              <a:ext cx="100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32-bit</a:t>
              </a:r>
              <a:endParaRPr b="0" lang="en-US" sz="2400" spc="-1" strike="noStrike">
                <a:solidFill>
                  <a:srgbClr val="ffffff"/>
                </a:solidFill>
                <a:latin typeface="Arial"/>
              </a:endParaRPr>
            </a:p>
          </p:txBody>
        </p:sp>
        <p:sp>
          <p:nvSpPr>
            <p:cNvPr id="507" name="Text Box 32"/>
            <p:cNvSpPr/>
            <p:nvPr/>
          </p:nvSpPr>
          <p:spPr>
            <a:xfrm>
              <a:off x="5183280" y="4589280"/>
              <a:ext cx="29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ost</a:t>
              </a:r>
              <a:r>
                <a:rPr b="0" lang="tr-TR" sz="2400" spc="-1" strike="noStrike">
                  <a:solidFill>
                    <a:srgbClr val="ff0000"/>
                  </a:solidFill>
                  <a:latin typeface="Comic Sans MS"/>
                </a:rPr>
                <a:t> (Pc veya cihaz)</a:t>
              </a:r>
              <a:endParaRPr b="0" lang="en-US" sz="2400" spc="-1" strike="noStrike">
                <a:solidFill>
                  <a:srgbClr val="ffffff"/>
                </a:solidFill>
                <a:latin typeface="Arial"/>
              </a:endParaRPr>
            </a:p>
          </p:txBody>
        </p:sp>
        <p:sp>
          <p:nvSpPr>
            <p:cNvPr id="508" name="Line 33"/>
            <p:cNvSpPr/>
            <p:nvPr/>
          </p:nvSpPr>
          <p:spPr>
            <a:xfrm flipH="1" flipV="1">
              <a:off x="3909600" y="4219200"/>
              <a:ext cx="1352520" cy="4568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509" name="Text Box 37"/>
          <p:cNvSpPr/>
          <p:nvPr/>
        </p:nvSpPr>
        <p:spPr>
          <a:xfrm>
            <a:off x="5364000" y="1628640"/>
            <a:ext cx="378000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adres: 18.26.0.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adresi: 18.0.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lt Ağ maskesi: 255.0.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roadcast adres: 18.255.255.255</a:t>
            </a:r>
            <a:endParaRPr b="0" lang="en-US" sz="1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B Sınıfı (128-191)</a:t>
            </a:r>
            <a:endParaRPr b="0" lang="en-US" sz="4000" spc="-1" strike="noStrike">
              <a:solidFill>
                <a:srgbClr val="ffffff"/>
              </a:solidFill>
              <a:latin typeface="Arial"/>
            </a:endParaRPr>
          </a:p>
        </p:txBody>
      </p:sp>
      <p:sp>
        <p:nvSpPr>
          <p:cNvPr id="511" name="Text Box 3"/>
          <p:cNvSpPr/>
          <p:nvPr/>
        </p:nvSpPr>
        <p:spPr>
          <a:xfrm>
            <a:off x="-361800" y="5532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12" name="Group 29"/>
          <p:cNvGrpSpPr/>
          <p:nvPr/>
        </p:nvGrpSpPr>
        <p:grpSpPr>
          <a:xfrm>
            <a:off x="2189880" y="1557360"/>
            <a:ext cx="2669400" cy="1278720"/>
            <a:chOff x="2189880" y="1557360"/>
            <a:chExt cx="2669400" cy="1278720"/>
          </a:xfrm>
        </p:grpSpPr>
        <p:sp>
          <p:nvSpPr>
            <p:cNvPr id="513" name="Text Box 6"/>
            <p:cNvSpPr/>
            <p:nvPr/>
          </p:nvSpPr>
          <p:spPr>
            <a:xfrm>
              <a:off x="2189880" y="1698480"/>
              <a:ext cx="21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     </a:t>
              </a:r>
              <a:r>
                <a:rPr b="0" lang="tr-TR" sz="2400" spc="-1" strike="noStrike">
                  <a:solidFill>
                    <a:srgbClr val="ffff00"/>
                  </a:solidFill>
                  <a:latin typeface="Comic Sans MS"/>
                </a:rPr>
                <a:t>ağ</a:t>
              </a:r>
              <a:r>
                <a:rPr b="0" lang="en-US" sz="2400" spc="-1" strike="noStrike">
                  <a:solidFill>
                    <a:srgbClr val="d1e4ff"/>
                  </a:solidFill>
                  <a:latin typeface="Comic Sans MS"/>
                </a:rPr>
                <a:t>       </a:t>
              </a:r>
              <a:r>
                <a:rPr b="0" lang="en-US" sz="2400" spc="-1" strike="noStrike">
                  <a:solidFill>
                    <a:srgbClr val="ff0000"/>
                  </a:solidFill>
                  <a:latin typeface="Comic Sans MS"/>
                </a:rPr>
                <a:t>host</a:t>
              </a:r>
              <a:endParaRPr b="0" lang="en-US" sz="2400" spc="-1" strike="noStrike">
                <a:solidFill>
                  <a:srgbClr val="ffffff"/>
                </a:solidFill>
                <a:latin typeface="Arial"/>
              </a:endParaRPr>
            </a:p>
          </p:txBody>
        </p:sp>
        <p:sp>
          <p:nvSpPr>
            <p:cNvPr id="514" name="Rectangle 7"/>
            <p:cNvSpPr/>
            <p:nvPr/>
          </p:nvSpPr>
          <p:spPr>
            <a:xfrm>
              <a:off x="2619360" y="1562040"/>
              <a:ext cx="1973160" cy="704880"/>
            </a:xfrm>
            <a:prstGeom prst="rect">
              <a:avLst/>
            </a:pr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5" name="Line 8"/>
            <p:cNvSpPr/>
            <p:nvPr/>
          </p:nvSpPr>
          <p:spPr>
            <a:xfrm>
              <a:off x="3419640" y="1557360"/>
              <a:ext cx="0" cy="704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6" name="Text Box 9"/>
            <p:cNvSpPr/>
            <p:nvPr/>
          </p:nvSpPr>
          <p:spPr>
            <a:xfrm>
              <a:off x="2727000" y="2376360"/>
              <a:ext cx="188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16</a:t>
              </a:r>
              <a:r>
                <a:rPr b="0" lang="en-US" sz="2400" spc="-1" strike="noStrike">
                  <a:solidFill>
                    <a:srgbClr val="d1e4ff"/>
                  </a:solidFill>
                  <a:latin typeface="Comic Sans MS"/>
                </a:rPr>
                <a:t>       </a:t>
              </a:r>
              <a:r>
                <a:rPr b="0" lang="tr-TR" sz="2400" spc="-1" strike="noStrike">
                  <a:solidFill>
                    <a:srgbClr val="ff0000"/>
                  </a:solidFill>
                  <a:latin typeface="Comic Sans MS"/>
                </a:rPr>
                <a:t>16</a:t>
              </a:r>
              <a:r>
                <a:rPr b="0" lang="en-US" sz="2400" spc="-1" strike="noStrike">
                  <a:solidFill>
                    <a:srgbClr val="ff0000"/>
                  </a:solidFill>
                  <a:latin typeface="Comic Sans MS"/>
                </a:rPr>
                <a:t> bit</a:t>
              </a:r>
              <a:endParaRPr b="0" lang="en-US" sz="2400" spc="-1" strike="noStrike">
                <a:solidFill>
                  <a:srgbClr val="ffffff"/>
                </a:solidFill>
                <a:latin typeface="Arial"/>
              </a:endParaRPr>
            </a:p>
          </p:txBody>
        </p:sp>
        <p:sp>
          <p:nvSpPr>
            <p:cNvPr id="517" name="Text Box 10"/>
            <p:cNvSpPr/>
            <p:nvPr/>
          </p:nvSpPr>
          <p:spPr>
            <a:xfrm>
              <a:off x="4675320" y="18702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18" name="Group 28"/>
          <p:cNvGrpSpPr/>
          <p:nvPr/>
        </p:nvGrpSpPr>
        <p:grpSpPr>
          <a:xfrm>
            <a:off x="1964880" y="3068640"/>
            <a:ext cx="6199200" cy="2018520"/>
            <a:chOff x="1964880" y="3068640"/>
            <a:chExt cx="6199200" cy="2018520"/>
          </a:xfrm>
        </p:grpSpPr>
        <p:sp>
          <p:nvSpPr>
            <p:cNvPr id="519" name="Rectangle 13"/>
            <p:cNvSpPr/>
            <p:nvPr/>
          </p:nvSpPr>
          <p:spPr>
            <a:xfrm>
              <a:off x="2855880" y="3846960"/>
              <a:ext cx="17146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18</a:t>
              </a:r>
              <a:r>
                <a:rPr b="0" lang="tr-TR" sz="2400" spc="-1" strike="noStrike">
                  <a:solidFill>
                    <a:srgbClr val="ffff00"/>
                  </a:solidFill>
                  <a:latin typeface="Comic Sans MS"/>
                </a:rPr>
                <a:t>1</a:t>
              </a:r>
              <a:r>
                <a:rPr b="0" lang="en-US" sz="2400" spc="-1" strike="noStrike">
                  <a:solidFill>
                    <a:srgbClr val="ffff00"/>
                  </a:solidFill>
                  <a:latin typeface="Comic Sans MS"/>
                </a:rPr>
                <a:t>.</a:t>
              </a:r>
              <a:r>
                <a:rPr b="0" lang="en-US" sz="2400" spc="-1" strike="noStrike">
                  <a:solidFill>
                    <a:srgbClr val="ffff66"/>
                  </a:solidFill>
                  <a:latin typeface="Comic Sans MS"/>
                </a:rPr>
                <a:t>26.</a:t>
              </a:r>
              <a:r>
                <a:rPr b="0" lang="en-US" sz="2400" spc="-1" strike="noStrike">
                  <a:solidFill>
                    <a:srgbClr val="ff0000"/>
                  </a:solidFill>
                  <a:latin typeface="Comic Sans MS"/>
                </a:rPr>
                <a:t>0.1</a:t>
              </a:r>
              <a:endParaRPr b="0" lang="en-US" sz="2400" spc="-1" strike="noStrike">
                <a:solidFill>
                  <a:srgbClr val="ffffff"/>
                </a:solidFill>
                <a:latin typeface="Arial"/>
              </a:endParaRPr>
            </a:p>
          </p:txBody>
        </p:sp>
        <p:sp>
          <p:nvSpPr>
            <p:cNvPr id="520" name="AutoShape 14"/>
            <p:cNvSpPr/>
            <p:nvPr/>
          </p:nvSpPr>
          <p:spPr>
            <a:xfrm flipV="1" rot="5400000">
              <a:off x="3508200" y="3054960"/>
              <a:ext cx="476280" cy="1218960"/>
            </a:xfrm>
            <a:custGeom>
              <a:avLst/>
              <a:gdLst>
                <a:gd name="textAreaLeft" fmla="*/ 304200 w 476280"/>
                <a:gd name="textAreaRight" fmla="*/ 476640 w 476280"/>
                <a:gd name="textAreaTop" fmla="*/ 31680 h 1218960"/>
                <a:gd name="textAreaBottom" fmla="*/ 1187280 h 1218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1" name="Text Box 15"/>
            <p:cNvSpPr/>
            <p:nvPr/>
          </p:nvSpPr>
          <p:spPr>
            <a:xfrm>
              <a:off x="1964880" y="4627440"/>
              <a:ext cx="53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ağ</a:t>
              </a:r>
              <a:endParaRPr b="0" lang="en-US" sz="2400" spc="-1" strike="noStrike">
                <a:solidFill>
                  <a:srgbClr val="ffffff"/>
                </a:solidFill>
                <a:latin typeface="Arial"/>
              </a:endParaRPr>
            </a:p>
          </p:txBody>
        </p:sp>
        <p:sp>
          <p:nvSpPr>
            <p:cNvPr id="522" name="Line 16"/>
            <p:cNvSpPr/>
            <p:nvPr/>
          </p:nvSpPr>
          <p:spPr>
            <a:xfrm flipV="1">
              <a:off x="2290680" y="4200120"/>
              <a:ext cx="762120" cy="5144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3" name="Text Box 17"/>
            <p:cNvSpPr/>
            <p:nvPr/>
          </p:nvSpPr>
          <p:spPr>
            <a:xfrm>
              <a:off x="3253320" y="3068640"/>
              <a:ext cx="100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32-bit</a:t>
              </a:r>
              <a:endParaRPr b="0" lang="en-US" sz="2400" spc="-1" strike="noStrike">
                <a:solidFill>
                  <a:srgbClr val="ffffff"/>
                </a:solidFill>
                <a:latin typeface="Arial"/>
              </a:endParaRPr>
            </a:p>
          </p:txBody>
        </p:sp>
        <p:sp>
          <p:nvSpPr>
            <p:cNvPr id="524" name="Text Box 18"/>
            <p:cNvSpPr/>
            <p:nvPr/>
          </p:nvSpPr>
          <p:spPr>
            <a:xfrm>
              <a:off x="5183640" y="4589640"/>
              <a:ext cx="29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ost</a:t>
              </a:r>
              <a:r>
                <a:rPr b="0" lang="tr-TR" sz="2400" spc="-1" strike="noStrike">
                  <a:solidFill>
                    <a:srgbClr val="ff0000"/>
                  </a:solidFill>
                  <a:latin typeface="Comic Sans MS"/>
                </a:rPr>
                <a:t> (Pc veya cihaz)</a:t>
              </a:r>
              <a:endParaRPr b="0" lang="en-US" sz="2400" spc="-1" strike="noStrike">
                <a:solidFill>
                  <a:srgbClr val="ffffff"/>
                </a:solidFill>
                <a:latin typeface="Arial"/>
              </a:endParaRPr>
            </a:p>
          </p:txBody>
        </p:sp>
        <p:sp>
          <p:nvSpPr>
            <p:cNvPr id="525" name="Line 19"/>
            <p:cNvSpPr/>
            <p:nvPr/>
          </p:nvSpPr>
          <p:spPr>
            <a:xfrm flipH="1" flipV="1">
              <a:off x="4155840" y="4219560"/>
              <a:ext cx="1352520" cy="457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526" name="Text Box 20"/>
          <p:cNvSpPr/>
          <p:nvPr/>
        </p:nvSpPr>
        <p:spPr>
          <a:xfrm>
            <a:off x="5435640" y="1628640"/>
            <a:ext cx="370836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adres: 181.26.0.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adresi: 181.26.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lt Ağ maskesi: 255.255.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roadcast adres: 181.26.255.255</a:t>
            </a: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IP</a:t>
            </a:r>
            <a:endParaRPr b="0" lang="en-US" sz="4000" spc="-1" strike="noStrike">
              <a:solidFill>
                <a:srgbClr val="ffffff"/>
              </a:solidFill>
              <a:latin typeface="Arial"/>
            </a:endParaRPr>
          </a:p>
        </p:txBody>
      </p:sp>
      <p:sp>
        <p:nvSpPr>
          <p:cNvPr id="334" name="PlaceHolder 2"/>
          <p:cNvSpPr>
            <a:spLocks noGrp="1"/>
          </p:cNvSpPr>
          <p:nvPr>
            <p:ph/>
          </p:nvPr>
        </p:nvSpPr>
        <p:spPr>
          <a:xfrm>
            <a:off x="2052720" y="3500280"/>
            <a:ext cx="3024000" cy="2059200"/>
          </a:xfrm>
          <a:prstGeom prst="rect">
            <a:avLst/>
          </a:prstGeom>
          <a:noFill/>
          <a:ln w="0">
            <a:noFill/>
          </a:ln>
        </p:spPr>
        <p:txBody>
          <a:bodyPr anchor="t">
            <a:normAutofit/>
          </a:bodyPr>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TCP (Transmission Control Protocol) </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Paketlerin iletimi</a:t>
            </a:r>
            <a:endParaRPr b="0" lang="en-US" sz="2400" spc="-1" strike="noStrike">
              <a:solidFill>
                <a:srgbClr val="ffffff"/>
              </a:solidFill>
              <a:latin typeface="Arial"/>
            </a:endParaRPr>
          </a:p>
        </p:txBody>
      </p:sp>
      <p:sp>
        <p:nvSpPr>
          <p:cNvPr id="335" name="Rectangle 4"/>
          <p:cNvSpPr/>
          <p:nvPr/>
        </p:nvSpPr>
        <p:spPr>
          <a:xfrm>
            <a:off x="3995640" y="1557360"/>
            <a:ext cx="3095640" cy="647640"/>
          </a:xfrm>
          <a:prstGeom prst="rect">
            <a:avLst/>
          </a:prstGeom>
          <a:solidFill>
            <a:srgbClr val="3365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CP / IP</a:t>
            </a:r>
            <a:endParaRPr b="0" lang="en-US" sz="1800" spc="-1" strike="noStrike">
              <a:solidFill>
                <a:srgbClr val="ffffff"/>
              </a:solidFill>
              <a:latin typeface="Arial"/>
            </a:endParaRPr>
          </a:p>
        </p:txBody>
      </p:sp>
      <p:sp>
        <p:nvSpPr>
          <p:cNvPr id="336" name="Rectangle 5"/>
          <p:cNvSpPr/>
          <p:nvPr/>
        </p:nvSpPr>
        <p:spPr>
          <a:xfrm>
            <a:off x="6012000" y="2709720"/>
            <a:ext cx="1944720" cy="648000"/>
          </a:xfrm>
          <a:prstGeom prst="rect">
            <a:avLst/>
          </a:prstGeom>
          <a:solidFill>
            <a:srgbClr val="3365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a:t>
            </a:r>
            <a:endParaRPr b="0" lang="en-US" sz="1800" spc="-1" strike="noStrike">
              <a:solidFill>
                <a:srgbClr val="ffffff"/>
              </a:solidFill>
              <a:latin typeface="Arial"/>
            </a:endParaRPr>
          </a:p>
        </p:txBody>
      </p:sp>
      <p:sp>
        <p:nvSpPr>
          <p:cNvPr id="337" name="Rectangle 6"/>
          <p:cNvSpPr/>
          <p:nvPr/>
        </p:nvSpPr>
        <p:spPr>
          <a:xfrm>
            <a:off x="2843280" y="2708280"/>
            <a:ext cx="2158920" cy="647640"/>
          </a:xfrm>
          <a:prstGeom prst="rect">
            <a:avLst/>
          </a:prstGeom>
          <a:solidFill>
            <a:srgbClr val="3365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CP</a:t>
            </a:r>
            <a:endParaRPr b="0" lang="en-US" sz="1800" spc="-1" strike="noStrike">
              <a:solidFill>
                <a:srgbClr val="ffffff"/>
              </a:solidFill>
              <a:latin typeface="Arial"/>
            </a:endParaRPr>
          </a:p>
        </p:txBody>
      </p:sp>
      <p:sp>
        <p:nvSpPr>
          <p:cNvPr id="338" name="Line 7"/>
          <p:cNvSpPr/>
          <p:nvPr/>
        </p:nvSpPr>
        <p:spPr>
          <a:xfrm>
            <a:off x="5435640" y="2205000"/>
            <a:ext cx="0" cy="287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Line 8"/>
          <p:cNvSpPr/>
          <p:nvPr/>
        </p:nvSpPr>
        <p:spPr>
          <a:xfrm>
            <a:off x="3924360" y="2492280"/>
            <a:ext cx="302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Line 9"/>
          <p:cNvSpPr/>
          <p:nvPr/>
        </p:nvSpPr>
        <p:spPr>
          <a:xfrm>
            <a:off x="3924360" y="249228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Line 10"/>
          <p:cNvSpPr/>
          <p:nvPr/>
        </p:nvSpPr>
        <p:spPr>
          <a:xfrm>
            <a:off x="6948360" y="249228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Rectangle 11"/>
          <p:cNvSpPr/>
          <p:nvPr/>
        </p:nvSpPr>
        <p:spPr>
          <a:xfrm>
            <a:off x="5580000" y="3645000"/>
            <a:ext cx="338472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IP (Internet Protocol) </a:t>
            </a:r>
            <a:endParaRPr b="0" lang="en-US" sz="2400" spc="-1" strike="noStrike">
              <a:solidFill>
                <a:srgbClr val="ffffff"/>
              </a:solidFill>
              <a:latin typeface="Arial"/>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Paketlerin  yönlendirmesi</a:t>
            </a:r>
            <a:endParaRPr b="0" lang="en-US" sz="2400" spc="-1" strike="noStrike">
              <a:solidFill>
                <a:srgbClr val="ffffff"/>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C Sınıfı (192-223)</a:t>
            </a:r>
            <a:endParaRPr b="0" lang="en-US" sz="4000" spc="-1" strike="noStrike">
              <a:solidFill>
                <a:srgbClr val="ffffff"/>
              </a:solidFill>
              <a:latin typeface="Arial"/>
            </a:endParaRPr>
          </a:p>
        </p:txBody>
      </p:sp>
      <p:sp>
        <p:nvSpPr>
          <p:cNvPr id="528" name="Text Box 3"/>
          <p:cNvSpPr/>
          <p:nvPr/>
        </p:nvSpPr>
        <p:spPr>
          <a:xfrm>
            <a:off x="-361800" y="5532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9" name="Text Box 6"/>
          <p:cNvSpPr/>
          <p:nvPr/>
        </p:nvSpPr>
        <p:spPr>
          <a:xfrm>
            <a:off x="2201040" y="1698480"/>
            <a:ext cx="227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     </a:t>
            </a:r>
            <a:r>
              <a:rPr b="0" lang="tr-TR" sz="2400" spc="-1" strike="noStrike">
                <a:solidFill>
                  <a:srgbClr val="ffff00"/>
                </a:solidFill>
                <a:latin typeface="Comic Sans MS"/>
              </a:rPr>
              <a:t>ağ</a:t>
            </a:r>
            <a:r>
              <a:rPr b="0" lang="en-US" sz="2400" spc="-1" strike="noStrike">
                <a:solidFill>
                  <a:srgbClr val="d1e4ff"/>
                </a:solidFill>
                <a:latin typeface="Comic Sans MS"/>
              </a:rPr>
              <a:t>       </a:t>
            </a:r>
            <a:r>
              <a:rPr b="0" lang="tr-TR" sz="2400" spc="-1" strike="noStrike">
                <a:solidFill>
                  <a:srgbClr val="d1e4ff"/>
                </a:solidFill>
                <a:latin typeface="Comic Sans MS"/>
              </a:rPr>
              <a:t>  </a:t>
            </a:r>
            <a:r>
              <a:rPr b="0" lang="en-US" sz="2400" spc="-1" strike="noStrike">
                <a:solidFill>
                  <a:srgbClr val="ff0000"/>
                </a:solidFill>
                <a:latin typeface="Comic Sans MS"/>
              </a:rPr>
              <a:t>host</a:t>
            </a:r>
            <a:endParaRPr b="0" lang="en-US" sz="2400" spc="-1" strike="noStrike">
              <a:solidFill>
                <a:srgbClr val="ffffff"/>
              </a:solidFill>
              <a:latin typeface="Arial"/>
            </a:endParaRPr>
          </a:p>
        </p:txBody>
      </p:sp>
      <p:sp>
        <p:nvSpPr>
          <p:cNvPr id="530" name="Rectangle 7"/>
          <p:cNvSpPr/>
          <p:nvPr/>
        </p:nvSpPr>
        <p:spPr>
          <a:xfrm>
            <a:off x="2619360" y="1562040"/>
            <a:ext cx="1973160" cy="704880"/>
          </a:xfrm>
          <a:prstGeom prst="rect">
            <a:avLst/>
          </a:pr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1" name="Line 8"/>
          <p:cNvSpPr/>
          <p:nvPr/>
        </p:nvSpPr>
        <p:spPr>
          <a:xfrm>
            <a:off x="3780000" y="1557360"/>
            <a:ext cx="0" cy="704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2" name="Text Box 9"/>
          <p:cNvSpPr/>
          <p:nvPr/>
        </p:nvSpPr>
        <p:spPr>
          <a:xfrm>
            <a:off x="2775960" y="2376360"/>
            <a:ext cx="179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24</a:t>
            </a:r>
            <a:r>
              <a:rPr b="0" lang="en-US" sz="2400" spc="-1" strike="noStrike">
                <a:solidFill>
                  <a:srgbClr val="d1e4ff"/>
                </a:solidFill>
                <a:latin typeface="Comic Sans MS"/>
              </a:rPr>
              <a:t>       </a:t>
            </a:r>
            <a:r>
              <a:rPr b="0" lang="tr-TR" sz="2400" spc="-1" strike="noStrike">
                <a:solidFill>
                  <a:srgbClr val="d1e4ff"/>
                </a:solidFill>
                <a:latin typeface="Comic Sans MS"/>
              </a:rPr>
              <a:t> </a:t>
            </a:r>
            <a:r>
              <a:rPr b="0" lang="tr-TR" sz="2400" spc="-1" strike="noStrike">
                <a:solidFill>
                  <a:srgbClr val="ff0000"/>
                </a:solidFill>
                <a:latin typeface="Comic Sans MS"/>
              </a:rPr>
              <a:t>8</a:t>
            </a:r>
            <a:r>
              <a:rPr b="0" lang="en-US" sz="2400" spc="-1" strike="noStrike">
                <a:solidFill>
                  <a:srgbClr val="ff0000"/>
                </a:solidFill>
                <a:latin typeface="Comic Sans MS"/>
              </a:rPr>
              <a:t> bit</a:t>
            </a:r>
            <a:endParaRPr b="0" lang="en-US" sz="2400" spc="-1" strike="noStrike">
              <a:solidFill>
                <a:srgbClr val="ffffff"/>
              </a:solidFill>
              <a:latin typeface="Arial"/>
            </a:endParaRPr>
          </a:p>
        </p:txBody>
      </p:sp>
      <p:sp>
        <p:nvSpPr>
          <p:cNvPr id="533" name="Text Box 10"/>
          <p:cNvSpPr/>
          <p:nvPr/>
        </p:nvSpPr>
        <p:spPr>
          <a:xfrm>
            <a:off x="4675320" y="18702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4" name="Rectangle 13"/>
          <p:cNvSpPr/>
          <p:nvPr/>
        </p:nvSpPr>
        <p:spPr>
          <a:xfrm>
            <a:off x="2855880" y="3846960"/>
            <a:ext cx="17146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1</a:t>
            </a:r>
            <a:r>
              <a:rPr b="0" lang="tr-TR" sz="2400" spc="-1" strike="noStrike">
                <a:solidFill>
                  <a:srgbClr val="ffff00"/>
                </a:solidFill>
                <a:latin typeface="Comic Sans MS"/>
              </a:rPr>
              <a:t>94</a:t>
            </a:r>
            <a:r>
              <a:rPr b="0" lang="en-US" sz="2400" spc="-1" strike="noStrike">
                <a:solidFill>
                  <a:srgbClr val="ffff00"/>
                </a:solidFill>
                <a:latin typeface="Comic Sans MS"/>
              </a:rPr>
              <a:t>.26.</a:t>
            </a:r>
            <a:r>
              <a:rPr b="0" lang="tr-TR" sz="2400" spc="-1" strike="noStrike">
                <a:solidFill>
                  <a:srgbClr val="ffff00"/>
                </a:solidFill>
                <a:latin typeface="Comic Sans MS"/>
              </a:rPr>
              <a:t>5</a:t>
            </a:r>
            <a:r>
              <a:rPr b="0" lang="en-US" sz="2400" spc="-1" strike="noStrike">
                <a:solidFill>
                  <a:srgbClr val="ffff00"/>
                </a:solidFill>
                <a:latin typeface="Comic Sans MS"/>
              </a:rPr>
              <a:t>.</a:t>
            </a:r>
            <a:r>
              <a:rPr b="0" lang="en-US" sz="2400" spc="-1" strike="noStrike">
                <a:solidFill>
                  <a:srgbClr val="ff0000"/>
                </a:solidFill>
                <a:latin typeface="Comic Sans MS"/>
              </a:rPr>
              <a:t>1</a:t>
            </a:r>
            <a:endParaRPr b="0" lang="en-US" sz="2400" spc="-1" strike="noStrike">
              <a:solidFill>
                <a:srgbClr val="ffffff"/>
              </a:solidFill>
              <a:latin typeface="Arial"/>
            </a:endParaRPr>
          </a:p>
        </p:txBody>
      </p:sp>
      <p:sp>
        <p:nvSpPr>
          <p:cNvPr id="535" name="AutoShape 14"/>
          <p:cNvSpPr/>
          <p:nvPr/>
        </p:nvSpPr>
        <p:spPr>
          <a:xfrm flipV="1" rot="5400000">
            <a:off x="3508200" y="3054960"/>
            <a:ext cx="476280" cy="1218960"/>
          </a:xfrm>
          <a:custGeom>
            <a:avLst/>
            <a:gdLst>
              <a:gd name="textAreaLeft" fmla="*/ 304200 w 476280"/>
              <a:gd name="textAreaRight" fmla="*/ 476640 w 476280"/>
              <a:gd name="textAreaTop" fmla="*/ 31680 h 1218960"/>
              <a:gd name="textAreaBottom" fmla="*/ 1187280 h 1218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6" name="Text Box 15"/>
          <p:cNvSpPr/>
          <p:nvPr/>
        </p:nvSpPr>
        <p:spPr>
          <a:xfrm>
            <a:off x="1964880" y="4627440"/>
            <a:ext cx="53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ağ</a:t>
            </a:r>
            <a:endParaRPr b="0" lang="en-US" sz="2400" spc="-1" strike="noStrike">
              <a:solidFill>
                <a:srgbClr val="ffffff"/>
              </a:solidFill>
              <a:latin typeface="Arial"/>
            </a:endParaRPr>
          </a:p>
        </p:txBody>
      </p:sp>
      <p:sp>
        <p:nvSpPr>
          <p:cNvPr id="537" name="Line 16"/>
          <p:cNvSpPr/>
          <p:nvPr/>
        </p:nvSpPr>
        <p:spPr>
          <a:xfrm flipV="1">
            <a:off x="2290680" y="4200120"/>
            <a:ext cx="762120" cy="5144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8" name="Text Box 17"/>
          <p:cNvSpPr/>
          <p:nvPr/>
        </p:nvSpPr>
        <p:spPr>
          <a:xfrm>
            <a:off x="3253320" y="3068640"/>
            <a:ext cx="100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32-bit</a:t>
            </a:r>
            <a:endParaRPr b="0" lang="en-US" sz="2400" spc="-1" strike="noStrike">
              <a:solidFill>
                <a:srgbClr val="ffffff"/>
              </a:solidFill>
              <a:latin typeface="Arial"/>
            </a:endParaRPr>
          </a:p>
        </p:txBody>
      </p:sp>
      <p:sp>
        <p:nvSpPr>
          <p:cNvPr id="539" name="Text Box 18"/>
          <p:cNvSpPr/>
          <p:nvPr/>
        </p:nvSpPr>
        <p:spPr>
          <a:xfrm>
            <a:off x="5183640" y="4589640"/>
            <a:ext cx="29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ost</a:t>
            </a:r>
            <a:r>
              <a:rPr b="0" lang="tr-TR" sz="2400" spc="-1" strike="noStrike">
                <a:solidFill>
                  <a:srgbClr val="ff0000"/>
                </a:solidFill>
                <a:latin typeface="Comic Sans MS"/>
              </a:rPr>
              <a:t> (Pc veya cihaz)</a:t>
            </a:r>
            <a:endParaRPr b="0" lang="en-US" sz="2400" spc="-1" strike="noStrike">
              <a:solidFill>
                <a:srgbClr val="ffffff"/>
              </a:solidFill>
              <a:latin typeface="Arial"/>
            </a:endParaRPr>
          </a:p>
        </p:txBody>
      </p:sp>
      <p:sp>
        <p:nvSpPr>
          <p:cNvPr id="540" name="Line 19"/>
          <p:cNvSpPr/>
          <p:nvPr/>
        </p:nvSpPr>
        <p:spPr>
          <a:xfrm flipH="1" flipV="1">
            <a:off x="4443120" y="4219560"/>
            <a:ext cx="1352520" cy="457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1" name="Text Box 20"/>
          <p:cNvSpPr/>
          <p:nvPr/>
        </p:nvSpPr>
        <p:spPr>
          <a:xfrm>
            <a:off x="5651640" y="1628640"/>
            <a:ext cx="349236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adres: 194.26.5.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adresi: 194.26.5.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lt Ağ maskesi: 255.255.255.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roadcast adres: 194.26.5.255</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lıştırma</a:t>
            </a:r>
            <a:endParaRPr b="0" lang="en-US" sz="4000" spc="-1" strike="noStrike">
              <a:solidFill>
                <a:srgbClr val="ffffff"/>
              </a:solidFill>
              <a:latin typeface="Arial"/>
            </a:endParaRPr>
          </a:p>
        </p:txBody>
      </p:sp>
      <p:sp>
        <p:nvSpPr>
          <p:cNvPr id="543" name="PlaceHolder 2"/>
          <p:cNvSpPr>
            <a:spLocks noGrp="1"/>
          </p:cNvSpPr>
          <p:nvPr>
            <p:ph/>
          </p:nvPr>
        </p:nvSpPr>
        <p:spPr>
          <a:xfrm>
            <a:off x="2160720" y="1483920"/>
            <a:ext cx="6588000" cy="4940280"/>
          </a:xfrm>
          <a:prstGeom prst="rect">
            <a:avLst/>
          </a:prstGeom>
          <a:noFill/>
          <a:ln w="0">
            <a:noFill/>
          </a:ln>
        </p:spPr>
        <p:txBody>
          <a:bodyPr anchor="t">
            <a:normAutofit/>
          </a:bodyPr>
          <a:p>
            <a:pPr marL="533520" indent="-533520">
              <a:spcBef>
                <a:spcPts val="7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131.107.20.4</a:t>
            </a:r>
            <a:endParaRPr b="0" lang="en-US" sz="2800" spc="-1" strike="noStrike">
              <a:solidFill>
                <a:srgbClr val="ffffff"/>
              </a:solidFill>
              <a:latin typeface="Arial"/>
            </a:endParaRPr>
          </a:p>
          <a:p>
            <a:pPr marL="533520" indent="-533520">
              <a:spcBef>
                <a:spcPts val="7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208.234.23.4</a:t>
            </a:r>
            <a:endParaRPr b="0" lang="en-US" sz="2800" spc="-1" strike="noStrike">
              <a:solidFill>
                <a:srgbClr val="ffffff"/>
              </a:solidFill>
              <a:latin typeface="Arial"/>
            </a:endParaRPr>
          </a:p>
          <a:p>
            <a:pPr marL="533520" indent="-533520">
              <a:spcBef>
                <a:spcPts val="7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108.15.45.4</a:t>
            </a:r>
            <a:endParaRPr b="0" lang="en-US" sz="2800" spc="-1" strike="noStrike">
              <a:solidFill>
                <a:srgbClr val="ffffff"/>
              </a:solidFill>
              <a:latin typeface="Arial"/>
            </a:endParaRPr>
          </a:p>
          <a:p>
            <a:pPr marL="533520" indent="-533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ukarıdaki adreslerin</a:t>
            </a:r>
            <a:endParaRPr b="0" lang="en-US" sz="28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 sınıfını</a:t>
            </a:r>
            <a:endParaRPr b="0" lang="en-US" sz="24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lt ağ maske numarasını</a:t>
            </a:r>
            <a:endParaRPr b="0" lang="en-US" sz="24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ağlı olduğu ağ numarasını </a:t>
            </a:r>
            <a:endParaRPr b="0" lang="en-US" sz="24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roadcast adreslerini yazınız.</a:t>
            </a:r>
            <a:endParaRPr b="0" lang="en-US" sz="2400" spc="-1" strike="noStrike">
              <a:solidFill>
                <a:srgbClr val="ffffff"/>
              </a:solidFill>
              <a:latin typeface="Arial"/>
            </a:endParaRPr>
          </a:p>
        </p:txBody>
      </p:sp>
    </p:spTree>
  </p:cSld>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543"/>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animClr clrSpc="rgb">
                                <p:cBhvr>
                                  <p:cTn id="131" dur="1" fill="hold"/>
                                  <p:tgtEl>
                                    <p:spTgt spid="543"/>
                                  </p:tgtEl>
                                  <p:attrNameLst>
                                    <p:attrName>ppt_c</p:attrName>
                                  </p:attrNameLst>
                                </p:cBhvr>
                                <p:to>
                                  <a:srgbClr val="b3cce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v6 </a:t>
            </a:r>
            <a:endParaRPr b="0" lang="en-US" sz="4000" spc="-1" strike="noStrike">
              <a:solidFill>
                <a:srgbClr val="ffffff"/>
              </a:solidFill>
              <a:latin typeface="Arial"/>
            </a:endParaRPr>
          </a:p>
        </p:txBody>
      </p:sp>
      <p:sp>
        <p:nvSpPr>
          <p:cNvPr id="545" name="PlaceHolder 2"/>
          <p:cNvSpPr>
            <a:spLocks noGrp="1"/>
          </p:cNvSpPr>
          <p:nvPr>
            <p:ph/>
          </p:nvPr>
        </p:nvSpPr>
        <p:spPr>
          <a:xfrm>
            <a:off x="1979280" y="1484280"/>
            <a:ext cx="3529080" cy="20160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4: 32 bit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4: 2</a:t>
            </a:r>
            <a:r>
              <a:rPr b="0" lang="tr-TR" sz="2400" spc="-1" strike="noStrike" baseline="30000">
                <a:solidFill>
                  <a:srgbClr val="ffffff"/>
                </a:solidFill>
                <a:latin typeface="Arial"/>
              </a:rPr>
              <a:t>32</a:t>
            </a:r>
            <a:r>
              <a:rPr b="0" lang="tr-TR" sz="2400" spc="-1" strike="noStrike">
                <a:solidFill>
                  <a:srgbClr val="ffffff"/>
                </a:solidFill>
                <a:latin typeface="Arial"/>
              </a:rPr>
              <a:t> = 4,3 10</a:t>
            </a:r>
            <a:r>
              <a:rPr b="0" lang="tr-TR" sz="2400" spc="-1" strike="noStrike" baseline="30000">
                <a:solidFill>
                  <a:srgbClr val="ffffff"/>
                </a:solidFill>
                <a:latin typeface="Arial"/>
              </a:rPr>
              <a:t>9 </a:t>
            </a:r>
            <a:r>
              <a:rPr b="0" lang="tr-TR" sz="2400" spc="-1" strike="noStrike">
                <a:solidFill>
                  <a:srgbClr val="ffffff"/>
                </a:solidFill>
                <a:latin typeface="Arial"/>
              </a:rPr>
              <a:t> IPv4:10’luk sayı sistemi</a:t>
            </a:r>
            <a:endParaRPr b="0" lang="en-US" sz="24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6" name="PlaceHolder 3"/>
          <p:cNvSpPr>
            <a:spLocks noGrp="1"/>
          </p:cNvSpPr>
          <p:nvPr>
            <p:ph/>
          </p:nvPr>
        </p:nvSpPr>
        <p:spPr>
          <a:xfrm>
            <a:off x="5530320" y="1484280"/>
            <a:ext cx="3434040" cy="20160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6:128 bit</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6: 2</a:t>
            </a:r>
            <a:r>
              <a:rPr b="0" lang="tr-TR" sz="2400" spc="-1" strike="noStrike" baseline="30000">
                <a:solidFill>
                  <a:srgbClr val="ffffff"/>
                </a:solidFill>
                <a:latin typeface="Arial"/>
              </a:rPr>
              <a:t>128</a:t>
            </a:r>
            <a:r>
              <a:rPr b="0" lang="tr-TR" sz="2400" spc="-1" strike="noStrike">
                <a:solidFill>
                  <a:srgbClr val="ffffff"/>
                </a:solidFill>
                <a:latin typeface="Arial"/>
              </a:rPr>
              <a:t> = 3,4 10</a:t>
            </a:r>
            <a:r>
              <a:rPr b="0" lang="tr-TR" sz="2400" spc="-1" strike="noStrike" baseline="30000">
                <a:solidFill>
                  <a:srgbClr val="ffffff"/>
                </a:solidFill>
                <a:latin typeface="Arial"/>
              </a:rPr>
              <a:t>38</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6:16’lık sayı sistemi</a:t>
            </a:r>
            <a:endParaRPr b="0" lang="en-US" sz="2400" spc="-1" strike="noStrike">
              <a:solidFill>
                <a:srgbClr val="ffffff"/>
              </a:solidFill>
              <a:latin typeface="Arial"/>
            </a:endParaRPr>
          </a:p>
        </p:txBody>
      </p:sp>
      <p:sp>
        <p:nvSpPr>
          <p:cNvPr id="547" name="Rectangle 5"/>
          <p:cNvSpPr/>
          <p:nvPr/>
        </p:nvSpPr>
        <p:spPr>
          <a:xfrm>
            <a:off x="2627280" y="3645000"/>
            <a:ext cx="60483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Eski adı: IPng: IP next generation</a:t>
            </a:r>
            <a:endParaRPr b="0" lang="en-US" sz="1800" spc="-1" strike="noStrike">
              <a:solidFill>
                <a:srgbClr val="ffffff"/>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azı ülkeler (Amerika, Japonya…)  kullanıyor.</a:t>
            </a:r>
            <a:endParaRPr b="0" lang="en-US" sz="1800" spc="-1" strike="noStrike">
              <a:solidFill>
                <a:srgbClr val="ffffff"/>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Uygulama ve fiziksel katman değişmedi.</a:t>
            </a:r>
            <a:endParaRPr b="0" lang="en-US" sz="1800" spc="-1" strike="noStrike">
              <a:solidFill>
                <a:srgbClr val="ffffff"/>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Daha hızlı, güvenli ve daha az başlık (header)</a:t>
            </a:r>
            <a:endParaRPr b="0" lang="en-US" sz="1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v6 adresler</a:t>
            </a:r>
            <a:endParaRPr b="0" lang="en-US" sz="4000" spc="-1" strike="noStrike">
              <a:solidFill>
                <a:srgbClr val="ffffff"/>
              </a:solidFill>
              <a:latin typeface="Arial"/>
            </a:endParaRPr>
          </a:p>
        </p:txBody>
      </p:sp>
      <p:sp>
        <p:nvSpPr>
          <p:cNvPr id="549" name="PlaceHolder 2"/>
          <p:cNvSpPr>
            <a:spLocks noGrp="1"/>
          </p:cNvSpPr>
          <p:nvPr>
            <p:ph/>
          </p:nvPr>
        </p:nvSpPr>
        <p:spPr>
          <a:xfrm>
            <a:off x="1692000" y="1483920"/>
            <a:ext cx="7056360" cy="4940280"/>
          </a:xfrm>
          <a:prstGeom prst="rect">
            <a:avLst/>
          </a:prstGeom>
          <a:noFill/>
          <a:ln w="0">
            <a:noFill/>
          </a:ln>
        </p:spPr>
        <p:txBody>
          <a:bodyPr anchor="t">
            <a:norm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8 adet 4’lü hexadecimal sayıdan oluşur.</a:t>
            </a: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2001:0DB8:400:965a:0000:0000:0000:0001</a:t>
            </a:r>
            <a:r>
              <a:rPr b="0" lang="tr-TR" sz="2400" spc="-1" strike="noStrike">
                <a:solidFill>
                  <a:srgbClr val="ffffff"/>
                </a:solidFill>
                <a:latin typeface="Arial"/>
              </a:rPr>
              <a:t> </a:t>
            </a: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2001:0DB8:400:965a::1</a:t>
            </a:r>
            <a:r>
              <a:rPr b="0" lang="tr-TR" sz="2400" spc="-1" strike="noStrike">
                <a:solidFill>
                  <a:srgbClr val="ffffff"/>
                </a:solidFill>
                <a:latin typeface="Arial"/>
              </a:rPr>
              <a:t> (aynı adres)</a:t>
            </a: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t>
            </a:r>
            <a:r>
              <a:rPr b="1" lang="tr-TR" sz="2400" spc="-1" strike="noStrike">
                <a:solidFill>
                  <a:srgbClr val="336599"/>
                </a:solidFill>
                <a:latin typeface="Arial"/>
              </a:rPr>
              <a:t>::</a:t>
            </a:r>
            <a:r>
              <a:rPr b="0" lang="tr-TR" sz="2400" spc="-1" strike="noStrike">
                <a:solidFill>
                  <a:srgbClr val="ffffff"/>
                </a:solidFill>
                <a:latin typeface="Arial"/>
              </a:rPr>
              <a:t>) adreste 0 olan yerlerde kullanılarak adres kısaltılır</a:t>
            </a: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Örnek:</a:t>
            </a:r>
            <a:endParaRPr b="0" lang="en-US" sz="2400" spc="-1" strike="noStrike">
              <a:solidFill>
                <a:srgbClr val="ffffff"/>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2001:0DB8:400:965a:: </a:t>
            </a:r>
            <a:endParaRPr b="0" lang="en-US" sz="20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000" spc="-1" strike="noStrike">
                <a:solidFill>
                  <a:srgbClr val="ffffff"/>
                </a:solidFill>
                <a:latin typeface="Arial"/>
              </a:rPr>
              <a:t>2001:0DB8:400:965a:0000:0000:0000:0000 </a:t>
            </a:r>
            <a:endParaRPr b="0" lang="en-US" sz="2000" spc="-1" strike="noStrike">
              <a:solidFill>
                <a:srgbClr val="ffffff"/>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2001:0DB8:400:965a:0042::1 </a:t>
            </a:r>
            <a:r>
              <a:rPr b="0" lang="tr-TR" sz="2000" spc="-1" strike="noStrike">
                <a:solidFill>
                  <a:srgbClr val="ffffff"/>
                </a:solidFill>
                <a:latin typeface="Arial"/>
              </a:rPr>
              <a:t>	</a:t>
            </a:r>
            <a:r>
              <a:rPr b="0" lang="tr-TR" sz="2000" spc="-1" strike="noStrike">
                <a:solidFill>
                  <a:srgbClr val="ffffff"/>
                </a:solidFill>
                <a:latin typeface="Arial"/>
              </a:rPr>
              <a:t>2001:0DB8:400:965a:0042:0000:0000:0001 </a:t>
            </a:r>
            <a:endParaRPr b="0" lang="en-US" sz="20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v6 adresler</a:t>
            </a:r>
            <a:endParaRPr b="0" lang="en-US" sz="4000" spc="-1" strike="noStrike">
              <a:solidFill>
                <a:srgbClr val="ffffff"/>
              </a:solidFill>
              <a:latin typeface="Arial"/>
            </a:endParaRPr>
          </a:p>
        </p:txBody>
      </p:sp>
      <p:sp>
        <p:nvSpPr>
          <p:cNvPr id="551" name="PlaceHolder 2"/>
          <p:cNvSpPr>
            <a:spLocks noGrp="1"/>
          </p:cNvSpPr>
          <p:nvPr>
            <p:ph/>
          </p:nvPr>
        </p:nvSpPr>
        <p:spPr>
          <a:xfrm>
            <a:off x="1908000" y="1483920"/>
            <a:ext cx="7236000" cy="4940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6 adre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66"/>
                </a:solidFill>
                <a:latin typeface="Arial"/>
              </a:rPr>
              <a:t>FE80:0000:0000:0000</a:t>
            </a:r>
            <a:r>
              <a:rPr b="0" lang="tr-TR" sz="2400" spc="-1" strike="noStrike">
                <a:solidFill>
                  <a:srgbClr val="ffffff"/>
                </a:solidFill>
                <a:latin typeface="Arial"/>
              </a:rPr>
              <a:t>:</a:t>
            </a:r>
            <a:r>
              <a:rPr b="0" lang="tr-TR" sz="2400" spc="-1" strike="noStrike">
                <a:solidFill>
                  <a:srgbClr val="ff3300"/>
                </a:solidFill>
                <a:latin typeface="Arial"/>
              </a:rPr>
              <a:t>02A0:D2FF:FEA5:E9F5</a:t>
            </a:r>
            <a:r>
              <a:rPr b="0" lang="tr-TR" sz="2400" spc="-1" strike="noStrike">
                <a:solidFill>
                  <a:srgbClr val="ffffff"/>
                </a:solidFill>
                <a:latin typeface="Arial"/>
              </a:rPr>
              <a:t> / 64</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x </a:t>
            </a:r>
            <a:r>
              <a:rPr b="0" lang="tr-TR" sz="2400" spc="-1" strike="noStrike">
                <a:solidFill>
                  <a:srgbClr val="ffffff"/>
                </a:solidFill>
                <a:latin typeface="Wingdings"/>
                <a:ea typeface="Wingdings"/>
              </a:rPr>
              <a:t></a:t>
            </a:r>
            <a:r>
              <a:rPr b="0" lang="tr-TR" sz="2400" spc="-1" strike="noStrike">
                <a:solidFill>
                  <a:srgbClr val="ffffff"/>
                </a:solidFill>
                <a:latin typeface="Arial"/>
              </a:rPr>
              <a:t> ağ numarasını gösteren bit sayısı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Örneğin; /32 ise 128 bitin ilk 32 biti ağ numarasını diğerleri host numarasını gösterir</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64 ise 128 bitin ilk 64 biti ağ numarasını diğerleri host numarasını gösterir</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66"/>
                </a:solidFill>
                <a:latin typeface="Arial"/>
              </a:rPr>
              <a:t>Ağ no</a:t>
            </a:r>
            <a:r>
              <a:rPr b="0" lang="tr-TR" sz="2400" spc="-1" strike="noStrike">
                <a:solidFill>
                  <a:srgbClr val="ffff66"/>
                </a:solidFill>
                <a:latin typeface="Arial"/>
              </a:rPr>
              <a:t>	</a:t>
            </a:r>
            <a:r>
              <a:rPr b="0" lang="tr-TR" sz="2400" spc="-1" strike="noStrike">
                <a:solidFill>
                  <a:srgbClr val="ffff66"/>
                </a:solidFill>
                <a:latin typeface="Arial"/>
              </a:rPr>
              <a:t>:</a:t>
            </a:r>
            <a:r>
              <a:rPr b="0" lang="tr-TR" sz="2400" spc="-1" strike="noStrike">
                <a:solidFill>
                  <a:srgbClr val="ffffff"/>
                </a:solidFill>
                <a:latin typeface="Arial"/>
              </a:rPr>
              <a:t> FE80:0000:0000:0000</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3300"/>
                </a:solidFill>
                <a:latin typeface="Arial"/>
              </a:rPr>
              <a:t>Host no:</a:t>
            </a:r>
            <a:r>
              <a:rPr b="0" lang="tr-TR" sz="2400" spc="-1" strike="noStrike">
                <a:solidFill>
                  <a:srgbClr val="ffffff"/>
                </a:solidFill>
                <a:latin typeface="Arial"/>
              </a:rPr>
              <a:t> 02A0:D2FF:FEA5:E9F5 </a:t>
            </a:r>
            <a:r>
              <a:rPr b="0" lang="tr-TR"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v6 adresler</a:t>
            </a:r>
            <a:endParaRPr b="0" lang="en-US" sz="4000" spc="-1" strike="noStrike">
              <a:solidFill>
                <a:srgbClr val="ffffff"/>
              </a:solidFill>
              <a:latin typeface="Arial"/>
            </a:endParaRPr>
          </a:p>
        </p:txBody>
      </p:sp>
      <p:sp>
        <p:nvSpPr>
          <p:cNvPr id="553"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yrılmış adresle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0:0:0:0:0:0:1 </a:t>
            </a:r>
            <a:r>
              <a:rPr b="0" lang="tr-TR" sz="2400" spc="-1" strike="noStrike">
                <a:solidFill>
                  <a:srgbClr val="ffffff"/>
                </a:solidFill>
                <a:latin typeface="Wingdings"/>
                <a:ea typeface="Wingdings"/>
              </a:rPr>
              <a:t></a:t>
            </a:r>
            <a:r>
              <a:rPr b="0" lang="tr-TR" sz="2400" spc="-1" strike="noStrike">
                <a:solidFill>
                  <a:srgbClr val="ffffff"/>
                </a:solidFill>
                <a:latin typeface="Arial"/>
              </a:rPr>
              <a:t> </a:t>
            </a:r>
            <a:r>
              <a:rPr b="0" lang="en-US" sz="2400" spc="-1" strike="noStrike">
                <a:solidFill>
                  <a:srgbClr val="ffffff"/>
                </a:solidFill>
                <a:latin typeface="Arial"/>
              </a:rPr>
              <a:t>::1 </a:t>
            </a:r>
            <a:r>
              <a:rPr b="0" lang="tr-TR" sz="2400" spc="-1" strike="noStrike">
                <a:solidFill>
                  <a:srgbClr val="ffffff"/>
                </a:solidFill>
                <a:latin typeface="Arial"/>
              </a:rPr>
              <a:t>loopback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0:0:0:0:0:0:</a:t>
            </a:r>
            <a:r>
              <a:rPr b="0" lang="tr-TR" sz="2400" spc="-1" strike="noStrike">
                <a:solidFill>
                  <a:srgbClr val="ffffff"/>
                </a:solidFill>
                <a:latin typeface="Arial"/>
              </a:rPr>
              <a:t>0 </a:t>
            </a:r>
            <a:r>
              <a:rPr b="0" lang="tr-TR" sz="2400" spc="-1" strike="noStrike">
                <a:solidFill>
                  <a:srgbClr val="ffffff"/>
                </a:solidFill>
                <a:latin typeface="Wingdings"/>
                <a:ea typeface="Wingdings"/>
              </a:rPr>
              <a:t></a:t>
            </a:r>
            <a:r>
              <a:rPr b="0" lang="en-US" sz="2400" spc="-1" strike="noStrike">
                <a:solidFill>
                  <a:srgbClr val="ffffff"/>
                </a:solidFill>
                <a:latin typeface="Arial"/>
              </a:rPr>
              <a:t> :: </a:t>
            </a:r>
            <a:r>
              <a:rPr b="0" lang="tr-TR" sz="2400" spc="-1" strike="noStrike">
                <a:solidFill>
                  <a:srgbClr val="ffffff"/>
                </a:solidFill>
                <a:latin typeface="Arial"/>
              </a:rPr>
              <a:t>belirsiz </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Pv6 ve IPv4 adreslerin kullanımı</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28 – 32 = 96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x:x:x:x:x:x:d.d.d.d</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x: IPv6 ve d: IPv4</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Örnek:</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0:0:0:0:0:1.2.3.4/96</a:t>
            </a:r>
            <a:r>
              <a:rPr b="0" lang="tr-TR" sz="2000" spc="-1" strike="noStrike">
                <a:solidFill>
                  <a:srgbClr val="ffffff"/>
                </a:solidFill>
                <a:latin typeface="Arial"/>
              </a:rPr>
              <a:t> </a:t>
            </a:r>
            <a:r>
              <a:rPr b="0" lang="tr-TR" sz="2000" spc="-1" strike="noStrike">
                <a:solidFill>
                  <a:srgbClr val="ffffff"/>
                </a:solidFill>
                <a:latin typeface="Wingdings"/>
                <a:ea typeface="Wingdings"/>
              </a:rPr>
              <a:t></a:t>
            </a:r>
            <a:r>
              <a:rPr b="0" lang="en-US" sz="2000" spc="-1" strike="noStrike">
                <a:solidFill>
                  <a:srgbClr val="ffffff"/>
                </a:solidFill>
                <a:latin typeface="Arial"/>
              </a:rPr>
              <a:t> ::1.2.3.4/96</a:t>
            </a:r>
            <a:endParaRPr b="0" lang="en-US" sz="20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IP and IPv6</a:t>
            </a:r>
            <a:endParaRPr b="0" lang="en-US" sz="4400" spc="-1" strike="noStrike">
              <a:solidFill>
                <a:srgbClr val="ffffff"/>
              </a:solidFill>
              <a:latin typeface="Arial"/>
            </a:endParaRPr>
          </a:p>
        </p:txBody>
      </p:sp>
      <p:pic>
        <p:nvPicPr>
          <p:cNvPr id="555" name="Picture 3" descr=""/>
          <p:cNvPicPr/>
          <p:nvPr/>
        </p:nvPicPr>
        <p:blipFill>
          <a:blip r:embed="rId1"/>
          <a:stretch/>
        </p:blipFill>
        <p:spPr>
          <a:xfrm>
            <a:off x="2030400" y="3444840"/>
            <a:ext cx="5278320" cy="3152880"/>
          </a:xfrm>
          <a:prstGeom prst="rect">
            <a:avLst/>
          </a:prstGeom>
          <a:ln w="0">
            <a:noFill/>
          </a:ln>
        </p:spPr>
      </p:pic>
      <p:pic>
        <p:nvPicPr>
          <p:cNvPr id="556" name="Picture 4" descr=""/>
          <p:cNvPicPr/>
          <p:nvPr/>
        </p:nvPicPr>
        <p:blipFill>
          <a:blip r:embed="rId2"/>
          <a:stretch/>
        </p:blipFill>
        <p:spPr>
          <a:xfrm>
            <a:off x="2068560" y="1052640"/>
            <a:ext cx="5240160" cy="22716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ff"/>
                </a:solidFill>
                <a:latin typeface="Arial"/>
              </a:rPr>
              <a:t>Alt ağlarda TCP/IP</a:t>
            </a:r>
            <a:endParaRPr b="0" lang="en-US" sz="4400" spc="-1" strike="noStrike">
              <a:solidFill>
                <a:srgbClr val="ffffff"/>
              </a:solidFill>
              <a:latin typeface="Arial"/>
            </a:endParaRPr>
          </a:p>
        </p:txBody>
      </p:sp>
      <p:sp>
        <p:nvSpPr>
          <p:cNvPr id="558" name=""/>
          <p:cNvSpPr txBox="1"/>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ir kurum içerisinde alt bölümler için alt ağlar (subnet) oluşturulabili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Örneğin Gazi Üniversitesi Ağında, GEF bir alt ağ, GEF BÖTE onun da altında bir alt ağdı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durumda sanal IP adresleri ile bu alt ağlara IP numarası verilir.</a:t>
            </a:r>
            <a:endParaRPr b="0" lang="en-US" sz="28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ff"/>
                </a:solidFill>
                <a:latin typeface="Arial"/>
              </a:rPr>
              <a:t>Alt ağlarda TCP/IP (B sınıfı)</a:t>
            </a:r>
            <a:endParaRPr b="0" lang="en-US" sz="4400" spc="-1" strike="noStrike">
              <a:solidFill>
                <a:srgbClr val="ffffff"/>
              </a:solidFill>
              <a:latin typeface="Arial"/>
            </a:endParaRPr>
          </a:p>
        </p:txBody>
      </p:sp>
      <p:sp>
        <p:nvSpPr>
          <p:cNvPr id="560" name=""/>
          <p:cNvSpPr txBox="1"/>
          <p:nvPr/>
        </p:nvSpPr>
        <p:spPr>
          <a:xfrm>
            <a:off x="2160360" y="1483920"/>
            <a:ext cx="676908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 kurumunun Ip adresinin 140.45.0.0 (ağ maskesi=255.255.0.0) ise bu kurum ağındaki alt ağların numaraları şu şekilde olabili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561" name=""/>
          <p:cNvGraphicFramePr/>
          <p:nvPr/>
        </p:nvGraphicFramePr>
        <p:xfrm>
          <a:off x="2000160" y="3500280"/>
          <a:ext cx="7143840" cy="2928960"/>
        </p:xfrm>
        <a:graphic>
          <a:graphicData uri="http://schemas.openxmlformats.org/drawingml/2006/table">
            <a:tbl>
              <a:tblPr/>
              <a:tblGrid>
                <a:gridCol w="943200"/>
                <a:gridCol w="1493640"/>
                <a:gridCol w="1681200"/>
                <a:gridCol w="1513080"/>
                <a:gridCol w="1512720"/>
              </a:tblGrid>
              <a:tr h="878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Alt ağlar</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5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Alt ağın IP 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5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Alt ağ broadcast adresi</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5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Alt ağdaki host 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5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Alt ağın ağ maskesi</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599"/>
                    </a:solidFill>
                  </a:tcPr>
                </a:tc>
              </a:tr>
              <a:tr h="682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264c73"/>
                          </a:solidFill>
                          <a:latin typeface="Arial"/>
                        </a:rPr>
                        <a:t>X bölümü</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264c73"/>
                          </a:solidFill>
                          <a:latin typeface="Arial"/>
                        </a:rPr>
                        <a:t>140.45.1.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264c73"/>
                          </a:solidFill>
                          <a:latin typeface="Arial"/>
                        </a:rPr>
                        <a:t>140.45.1.25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264c73"/>
                          </a:solidFill>
                          <a:latin typeface="Arial"/>
                        </a:rPr>
                        <a:t>140.45.1.5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264c73"/>
                          </a:solidFill>
                          <a:latin typeface="Arial"/>
                        </a:rPr>
                        <a:t>255.255.255.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r h="684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264c73"/>
                          </a:solidFill>
                          <a:latin typeface="Arial"/>
                        </a:rPr>
                        <a:t>Y bölümü</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264c73"/>
                          </a:solidFill>
                          <a:latin typeface="Arial"/>
                        </a:rPr>
                        <a:t>140.45.2.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264c73"/>
                          </a:solidFill>
                          <a:latin typeface="Arial"/>
                        </a:rPr>
                        <a:t>140.45.2.25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264c73"/>
                          </a:solidFill>
                          <a:latin typeface="Arial"/>
                        </a:rPr>
                        <a:t>140.45.2.6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264c73"/>
                          </a:solidFill>
                          <a:latin typeface="Arial"/>
                        </a:rPr>
                        <a:t>255.255.255.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r h="684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264c73"/>
                          </a:solidFill>
                          <a:latin typeface="Arial"/>
                        </a:rPr>
                        <a:t>Z bölümü</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264c73"/>
                          </a:solidFill>
                          <a:latin typeface="Arial"/>
                        </a:rPr>
                        <a:t>140.45.3.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264c73"/>
                          </a:solidFill>
                          <a:latin typeface="Arial"/>
                        </a:rPr>
                        <a:t>140.45.3.25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264c73"/>
                          </a:solidFill>
                          <a:latin typeface="Arial"/>
                        </a:rPr>
                        <a:t>140.45.3.7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264c73"/>
                          </a:solidFill>
                          <a:latin typeface="Arial"/>
                        </a:rPr>
                        <a:t>255.255.255.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r>
            </a:tbl>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IP Sorun Çözme</a:t>
            </a:r>
            <a:endParaRPr b="0" lang="en-US" sz="4000" spc="-1" strike="noStrike">
              <a:solidFill>
                <a:srgbClr val="ffffff"/>
              </a:solidFill>
              <a:latin typeface="Arial"/>
            </a:endParaRPr>
          </a:p>
        </p:txBody>
      </p:sp>
      <p:sp>
        <p:nvSpPr>
          <p:cNvPr id="563"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ğ bağlantılarını kontrol edi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ing 127.0.0.1 (loopback) ile ethernet kartınızı kontrol edi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endi bilgisayarınızın IP adresine ping atabilirsiniz.</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Varsayılan (Default) Router veya gateway (ağ geçidi) varsa ona ping atarak pc-alt ağ iletişimini kontrol edebilirsiniz.</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Uzaktaki bir hosta ping atabilirsiniz.</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3" name="Group 129"/>
          <p:cNvGrpSpPr/>
          <p:nvPr/>
        </p:nvGrpSpPr>
        <p:grpSpPr>
          <a:xfrm>
            <a:off x="0" y="1052640"/>
            <a:ext cx="9109080" cy="5805360"/>
            <a:chOff x="0" y="1052640"/>
            <a:chExt cx="9109080" cy="5805360"/>
          </a:xfrm>
        </p:grpSpPr>
        <p:sp>
          <p:nvSpPr>
            <p:cNvPr id="344" name="Rectangle 2"/>
            <p:cNvSpPr/>
            <p:nvPr/>
          </p:nvSpPr>
          <p:spPr>
            <a:xfrm>
              <a:off x="0" y="1052640"/>
              <a:ext cx="9109080" cy="5805360"/>
            </a:xfrm>
            <a:prstGeom prst="rect">
              <a:avLst/>
            </a:prstGeom>
            <a:solidFill>
              <a:srgbClr val="2e4c6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Rectangle 5"/>
            <p:cNvSpPr/>
            <p:nvPr/>
          </p:nvSpPr>
          <p:spPr>
            <a:xfrm>
              <a:off x="998640" y="2997360"/>
              <a:ext cx="1701720" cy="38088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Text Box 6"/>
            <p:cNvSpPr/>
            <p:nvPr/>
          </p:nvSpPr>
          <p:spPr>
            <a:xfrm>
              <a:off x="1116000" y="2997360"/>
              <a:ext cx="1398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Uygulama</a:t>
              </a:r>
              <a:endParaRPr b="0" lang="en-US" sz="2000" spc="-1" strike="noStrike">
                <a:solidFill>
                  <a:srgbClr val="ffffff"/>
                </a:solidFill>
                <a:latin typeface="Arial"/>
              </a:endParaRPr>
            </a:p>
          </p:txBody>
        </p:sp>
        <p:sp>
          <p:nvSpPr>
            <p:cNvPr id="347" name="Rectangle 7"/>
            <p:cNvSpPr/>
            <p:nvPr/>
          </p:nvSpPr>
          <p:spPr>
            <a:xfrm>
              <a:off x="996840" y="3357720"/>
              <a:ext cx="1703520" cy="38088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Text Box 8"/>
            <p:cNvSpPr/>
            <p:nvPr/>
          </p:nvSpPr>
          <p:spPr>
            <a:xfrm>
              <a:off x="1187280" y="3357720"/>
              <a:ext cx="1441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Sunum</a:t>
              </a:r>
              <a:endParaRPr b="0" lang="en-US" sz="2000" spc="-1" strike="noStrike">
                <a:solidFill>
                  <a:srgbClr val="ffffff"/>
                </a:solidFill>
                <a:latin typeface="Arial"/>
              </a:endParaRPr>
            </a:p>
          </p:txBody>
        </p:sp>
        <p:sp>
          <p:nvSpPr>
            <p:cNvPr id="349" name="Rectangle 9"/>
            <p:cNvSpPr/>
            <p:nvPr/>
          </p:nvSpPr>
          <p:spPr>
            <a:xfrm>
              <a:off x="990720" y="3733920"/>
              <a:ext cx="1703160" cy="38088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Text Box 10"/>
            <p:cNvSpPr/>
            <p:nvPr/>
          </p:nvSpPr>
          <p:spPr>
            <a:xfrm>
              <a:off x="1187280" y="3718080"/>
              <a:ext cx="1099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Oturum</a:t>
              </a:r>
              <a:endParaRPr b="0" lang="en-US" sz="2000" spc="-1" strike="noStrike">
                <a:solidFill>
                  <a:srgbClr val="ffffff"/>
                </a:solidFill>
                <a:latin typeface="Arial"/>
              </a:endParaRPr>
            </a:p>
          </p:txBody>
        </p:sp>
        <p:sp>
          <p:nvSpPr>
            <p:cNvPr id="351" name="Rectangle 11"/>
            <p:cNvSpPr/>
            <p:nvPr/>
          </p:nvSpPr>
          <p:spPr>
            <a:xfrm>
              <a:off x="990720" y="4114800"/>
              <a:ext cx="1703160" cy="38088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Text Box 12"/>
            <p:cNvSpPr/>
            <p:nvPr/>
          </p:nvSpPr>
          <p:spPr>
            <a:xfrm>
              <a:off x="1172520" y="4098960"/>
              <a:ext cx="105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Taşıma</a:t>
              </a:r>
              <a:endParaRPr b="0" lang="en-US" sz="2000" spc="-1" strike="noStrike">
                <a:solidFill>
                  <a:srgbClr val="ffffff"/>
                </a:solidFill>
                <a:latin typeface="Arial"/>
              </a:endParaRPr>
            </a:p>
          </p:txBody>
        </p:sp>
        <p:sp>
          <p:nvSpPr>
            <p:cNvPr id="353" name="Rectangle 13"/>
            <p:cNvSpPr/>
            <p:nvPr/>
          </p:nvSpPr>
          <p:spPr>
            <a:xfrm>
              <a:off x="990720" y="4495680"/>
              <a:ext cx="1703160" cy="381240"/>
            </a:xfrm>
            <a:prstGeom prst="rect">
              <a:avLst/>
            </a:prstGeom>
            <a:solidFill>
              <a:srgbClr val="99cc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Text Box 14"/>
            <p:cNvSpPr/>
            <p:nvPr/>
          </p:nvSpPr>
          <p:spPr>
            <a:xfrm>
              <a:off x="1528560" y="447984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Ağ</a:t>
              </a:r>
              <a:endParaRPr b="0" lang="en-US" sz="2000" spc="-1" strike="noStrike">
                <a:solidFill>
                  <a:srgbClr val="ffffff"/>
                </a:solidFill>
                <a:latin typeface="Arial"/>
              </a:endParaRPr>
            </a:p>
          </p:txBody>
        </p:sp>
        <p:sp>
          <p:nvSpPr>
            <p:cNvPr id="355" name="Rectangle 15"/>
            <p:cNvSpPr/>
            <p:nvPr/>
          </p:nvSpPr>
          <p:spPr>
            <a:xfrm>
              <a:off x="990720" y="4876920"/>
              <a:ext cx="1703160" cy="380880"/>
            </a:xfrm>
            <a:prstGeom prst="rect">
              <a:avLst/>
            </a:prstGeom>
            <a:solidFill>
              <a:srgbClr val="99cc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Text Box 16"/>
            <p:cNvSpPr/>
            <p:nvPr/>
          </p:nvSpPr>
          <p:spPr>
            <a:xfrm>
              <a:off x="1090440" y="4861080"/>
              <a:ext cx="139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Veri İletim</a:t>
              </a:r>
              <a:endParaRPr b="0" lang="en-US" sz="2000" spc="-1" strike="noStrike">
                <a:solidFill>
                  <a:srgbClr val="ffffff"/>
                </a:solidFill>
                <a:latin typeface="Arial"/>
              </a:endParaRPr>
            </a:p>
          </p:txBody>
        </p:sp>
        <p:sp>
          <p:nvSpPr>
            <p:cNvPr id="357" name="Rectangle 17"/>
            <p:cNvSpPr/>
            <p:nvPr/>
          </p:nvSpPr>
          <p:spPr>
            <a:xfrm>
              <a:off x="990720" y="5257800"/>
              <a:ext cx="1703160" cy="380880"/>
            </a:xfrm>
            <a:prstGeom prst="rect">
              <a:avLst/>
            </a:prstGeom>
            <a:solidFill>
              <a:srgbClr val="99cc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Text Box 18"/>
            <p:cNvSpPr/>
            <p:nvPr/>
          </p:nvSpPr>
          <p:spPr>
            <a:xfrm>
              <a:off x="1144440" y="5241960"/>
              <a:ext cx="1099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Fiziksel</a:t>
              </a:r>
              <a:endParaRPr b="0" lang="en-US" sz="2000" spc="-1" strike="noStrike">
                <a:solidFill>
                  <a:srgbClr val="ffffff"/>
                </a:solidFill>
                <a:latin typeface="Arial"/>
              </a:endParaRPr>
            </a:p>
          </p:txBody>
        </p:sp>
        <p:sp>
          <p:nvSpPr>
            <p:cNvPr id="359" name="Rectangle 19"/>
            <p:cNvSpPr/>
            <p:nvPr/>
          </p:nvSpPr>
          <p:spPr>
            <a:xfrm>
              <a:off x="3657600" y="4495680"/>
              <a:ext cx="1703520" cy="381240"/>
            </a:xfrm>
            <a:prstGeom prst="rect">
              <a:avLst/>
            </a:prstGeom>
            <a:solidFill>
              <a:srgbClr val="99cc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Text Box 20"/>
            <p:cNvSpPr/>
            <p:nvPr/>
          </p:nvSpPr>
          <p:spPr>
            <a:xfrm>
              <a:off x="4120920" y="447984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Ağ</a:t>
              </a:r>
              <a:endParaRPr b="0" lang="en-US" sz="2000" spc="-1" strike="noStrike">
                <a:solidFill>
                  <a:srgbClr val="ffffff"/>
                </a:solidFill>
                <a:latin typeface="Arial"/>
              </a:endParaRPr>
            </a:p>
          </p:txBody>
        </p:sp>
        <p:sp>
          <p:nvSpPr>
            <p:cNvPr id="361" name="Rectangle 21"/>
            <p:cNvSpPr/>
            <p:nvPr/>
          </p:nvSpPr>
          <p:spPr>
            <a:xfrm>
              <a:off x="3657600" y="4876920"/>
              <a:ext cx="1703520" cy="761760"/>
            </a:xfrm>
            <a:prstGeom prst="rect">
              <a:avLst/>
            </a:prstGeom>
            <a:solidFill>
              <a:srgbClr val="99cc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Text Box 22"/>
            <p:cNvSpPr/>
            <p:nvPr/>
          </p:nvSpPr>
          <p:spPr>
            <a:xfrm>
              <a:off x="3976560" y="5048280"/>
              <a:ext cx="1099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Fiziksel</a:t>
              </a:r>
              <a:endParaRPr b="0" lang="en-US" sz="2000" spc="-1" strike="noStrike">
                <a:solidFill>
                  <a:srgbClr val="ffffff"/>
                </a:solidFill>
                <a:latin typeface="Arial"/>
              </a:endParaRPr>
            </a:p>
          </p:txBody>
        </p:sp>
        <p:sp>
          <p:nvSpPr>
            <p:cNvPr id="363" name="Rectangle 23"/>
            <p:cNvSpPr/>
            <p:nvPr/>
          </p:nvSpPr>
          <p:spPr>
            <a:xfrm>
              <a:off x="3657600" y="4114800"/>
              <a:ext cx="1703520" cy="38088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Text Box 24"/>
            <p:cNvSpPr/>
            <p:nvPr/>
          </p:nvSpPr>
          <p:spPr>
            <a:xfrm>
              <a:off x="3839400" y="4098960"/>
              <a:ext cx="105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Taşıma</a:t>
              </a:r>
              <a:endParaRPr b="0" lang="en-US" sz="2000" spc="-1" strike="noStrike">
                <a:solidFill>
                  <a:srgbClr val="ffffff"/>
                </a:solidFill>
                <a:latin typeface="Arial"/>
              </a:endParaRPr>
            </a:p>
          </p:txBody>
        </p:sp>
        <p:sp>
          <p:nvSpPr>
            <p:cNvPr id="365" name="Rectangle 25"/>
            <p:cNvSpPr/>
            <p:nvPr/>
          </p:nvSpPr>
          <p:spPr>
            <a:xfrm>
              <a:off x="3657600" y="2971800"/>
              <a:ext cx="1703520" cy="117792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Text Box 26"/>
            <p:cNvSpPr/>
            <p:nvPr/>
          </p:nvSpPr>
          <p:spPr>
            <a:xfrm>
              <a:off x="3750480" y="3284640"/>
              <a:ext cx="1396800" cy="398880"/>
            </a:xfrm>
            <a:prstGeom prst="rect">
              <a:avLst/>
            </a:prstGeom>
            <a:solidFill>
              <a:srgbClr val="b3cce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Uygulama</a:t>
              </a:r>
              <a:endParaRPr b="0" lang="en-US" sz="2000" spc="-1" strike="noStrike">
                <a:solidFill>
                  <a:srgbClr val="ffffff"/>
                </a:solidFill>
                <a:latin typeface="Arial"/>
              </a:endParaRPr>
            </a:p>
          </p:txBody>
        </p:sp>
        <p:sp>
          <p:nvSpPr>
            <p:cNvPr id="367" name="Rectangle 30"/>
            <p:cNvSpPr/>
            <p:nvPr/>
          </p:nvSpPr>
          <p:spPr>
            <a:xfrm>
              <a:off x="6095880" y="4343400"/>
              <a:ext cx="2667240" cy="53352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Rectangle 31"/>
            <p:cNvSpPr/>
            <p:nvPr/>
          </p:nvSpPr>
          <p:spPr>
            <a:xfrm>
              <a:off x="7162920" y="4419720"/>
              <a:ext cx="685800" cy="38088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P</a:t>
              </a:r>
              <a:endParaRPr b="0" lang="en-US" sz="2000" spc="-1" strike="noStrike">
                <a:solidFill>
                  <a:srgbClr val="ffffff"/>
                </a:solidFill>
                <a:latin typeface="Arial"/>
              </a:endParaRPr>
            </a:p>
          </p:txBody>
        </p:sp>
        <p:sp>
          <p:nvSpPr>
            <p:cNvPr id="369" name="Rectangle 32"/>
            <p:cNvSpPr/>
            <p:nvPr/>
          </p:nvSpPr>
          <p:spPr>
            <a:xfrm>
              <a:off x="6095880" y="4876920"/>
              <a:ext cx="2667240" cy="76176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Rectangle 33"/>
            <p:cNvSpPr/>
            <p:nvPr/>
          </p:nvSpPr>
          <p:spPr>
            <a:xfrm>
              <a:off x="6910560" y="5013360"/>
              <a:ext cx="685800" cy="38088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W</a:t>
              </a:r>
              <a:r>
                <a:rPr b="1" lang="en-US" sz="2000" spc="-1" strike="noStrike">
                  <a:solidFill>
                    <a:srgbClr val="ffffff"/>
                  </a:solidFill>
                  <a:latin typeface="Arial"/>
                </a:rPr>
                <a:t>AN</a:t>
              </a:r>
              <a:endParaRPr b="0" lang="en-US" sz="2000" spc="-1" strike="noStrike">
                <a:solidFill>
                  <a:srgbClr val="ffffff"/>
                </a:solidFill>
                <a:latin typeface="Arial"/>
              </a:endParaRPr>
            </a:p>
          </p:txBody>
        </p:sp>
        <p:sp>
          <p:nvSpPr>
            <p:cNvPr id="371" name="Rectangle 34"/>
            <p:cNvSpPr/>
            <p:nvPr/>
          </p:nvSpPr>
          <p:spPr>
            <a:xfrm>
              <a:off x="7740720" y="4952880"/>
              <a:ext cx="936720" cy="60984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SLIP ve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PPP</a:t>
              </a:r>
              <a:endParaRPr b="0" lang="en-US" sz="2000" spc="-1" strike="noStrike">
                <a:solidFill>
                  <a:srgbClr val="ffffff"/>
                </a:solidFill>
                <a:latin typeface="Arial"/>
              </a:endParaRPr>
            </a:p>
          </p:txBody>
        </p:sp>
        <p:sp>
          <p:nvSpPr>
            <p:cNvPr id="372" name="Rectangle 35"/>
            <p:cNvSpPr/>
            <p:nvPr/>
          </p:nvSpPr>
          <p:spPr>
            <a:xfrm>
              <a:off x="6095880" y="3809880"/>
              <a:ext cx="2667240" cy="533520"/>
            </a:xfrm>
            <a:prstGeom prst="rect">
              <a:avLst/>
            </a:prstGeom>
            <a:solidFill>
              <a:srgbClr val="b3cce6"/>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Rectangle 36"/>
            <p:cNvSpPr/>
            <p:nvPr/>
          </p:nvSpPr>
          <p:spPr>
            <a:xfrm>
              <a:off x="6400800" y="3886200"/>
              <a:ext cx="685800" cy="380880"/>
            </a:xfrm>
            <a:prstGeom prst="rect">
              <a:avLst/>
            </a:prstGeom>
            <a:solidFill>
              <a:srgbClr val="3365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CP</a:t>
              </a:r>
              <a:endParaRPr b="0" lang="en-US" sz="2000" spc="-1" strike="noStrike">
                <a:solidFill>
                  <a:srgbClr val="ffffff"/>
                </a:solidFill>
                <a:latin typeface="Arial"/>
              </a:endParaRPr>
            </a:p>
          </p:txBody>
        </p:sp>
        <p:sp>
          <p:nvSpPr>
            <p:cNvPr id="374" name="Rectangle 37"/>
            <p:cNvSpPr/>
            <p:nvPr/>
          </p:nvSpPr>
          <p:spPr>
            <a:xfrm>
              <a:off x="7772400" y="3886200"/>
              <a:ext cx="685800" cy="380880"/>
            </a:xfrm>
            <a:prstGeom prst="rect">
              <a:avLst/>
            </a:prstGeom>
            <a:solidFill>
              <a:srgbClr val="3365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DP</a:t>
              </a:r>
              <a:endParaRPr b="0" lang="en-US" sz="2000" spc="-1" strike="noStrike">
                <a:solidFill>
                  <a:srgbClr val="ffffff"/>
                </a:solidFill>
                <a:latin typeface="Arial"/>
              </a:endParaRPr>
            </a:p>
          </p:txBody>
        </p:sp>
        <p:sp>
          <p:nvSpPr>
            <p:cNvPr id="375" name="Rectangle 38"/>
            <p:cNvSpPr/>
            <p:nvPr/>
          </p:nvSpPr>
          <p:spPr>
            <a:xfrm>
              <a:off x="6095880" y="2895480"/>
              <a:ext cx="2667240" cy="533520"/>
            </a:xfrm>
            <a:prstGeom prst="rect">
              <a:avLst/>
            </a:prstGeom>
            <a:solidFill>
              <a:srgbClr val="b3cce6"/>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Rectangle 39"/>
            <p:cNvSpPr/>
            <p:nvPr/>
          </p:nvSpPr>
          <p:spPr>
            <a:xfrm>
              <a:off x="6172200" y="2971800"/>
              <a:ext cx="838080" cy="380880"/>
            </a:xfrm>
            <a:prstGeom prst="rect">
              <a:avLst/>
            </a:prstGeom>
            <a:solidFill>
              <a:srgbClr val="3365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lnet</a:t>
              </a:r>
              <a:endParaRPr b="0" lang="en-US" sz="2000" spc="-1" strike="noStrike">
                <a:solidFill>
                  <a:srgbClr val="ffffff"/>
                </a:solidFill>
                <a:latin typeface="Arial"/>
              </a:endParaRPr>
            </a:p>
          </p:txBody>
        </p:sp>
        <p:sp>
          <p:nvSpPr>
            <p:cNvPr id="377" name="Rectangle 40"/>
            <p:cNvSpPr/>
            <p:nvPr/>
          </p:nvSpPr>
          <p:spPr>
            <a:xfrm>
              <a:off x="7162920" y="2971800"/>
              <a:ext cx="685800" cy="380880"/>
            </a:xfrm>
            <a:prstGeom prst="rect">
              <a:avLst/>
            </a:prstGeom>
            <a:solidFill>
              <a:srgbClr val="3365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TP</a:t>
              </a:r>
              <a:endParaRPr b="0" lang="en-US" sz="2000" spc="-1" strike="noStrike">
                <a:solidFill>
                  <a:srgbClr val="ffffff"/>
                </a:solidFill>
                <a:latin typeface="Arial"/>
              </a:endParaRPr>
            </a:p>
          </p:txBody>
        </p:sp>
        <p:sp>
          <p:nvSpPr>
            <p:cNvPr id="378" name="Rectangle 41"/>
            <p:cNvSpPr/>
            <p:nvPr/>
          </p:nvSpPr>
          <p:spPr>
            <a:xfrm>
              <a:off x="7924680" y="2971800"/>
              <a:ext cx="685800" cy="380880"/>
            </a:xfrm>
            <a:prstGeom prst="rect">
              <a:avLst/>
            </a:prstGeom>
            <a:solidFill>
              <a:srgbClr val="3365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NS</a:t>
              </a:r>
              <a:endParaRPr b="0" lang="en-US" sz="2000" spc="-1" strike="noStrike">
                <a:solidFill>
                  <a:srgbClr val="ffffff"/>
                </a:solidFill>
                <a:latin typeface="Arial"/>
              </a:endParaRPr>
            </a:p>
          </p:txBody>
        </p:sp>
        <p:sp>
          <p:nvSpPr>
            <p:cNvPr id="379" name="Line 42"/>
            <p:cNvSpPr/>
            <p:nvPr/>
          </p:nvSpPr>
          <p:spPr>
            <a:xfrm flipV="1">
              <a:off x="5334120" y="2895480"/>
              <a:ext cx="761760" cy="76320"/>
            </a:xfrm>
            <a:prstGeom prst="line">
              <a:avLst/>
            </a:prstGeom>
            <a:ln cap="rnd" w="19080">
              <a:solidFill>
                <a:srgbClr val="ffffff"/>
              </a:solidFill>
              <a:custDash>
                <a:ds d="100000" sp="1000"/>
              </a:custDash>
              <a:miter/>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380" name="Freeform 43"/>
            <p:cNvSpPr/>
            <p:nvPr/>
          </p:nvSpPr>
          <p:spPr>
            <a:xfrm>
              <a:off x="5372280" y="3429000"/>
              <a:ext cx="723600" cy="698400"/>
            </a:xfrm>
            <a:custGeom>
              <a:avLst/>
              <a:gdLst>
                <a:gd name="textAreaLeft" fmla="*/ 0 w 723600"/>
                <a:gd name="textAreaRight" fmla="*/ 723960 w 723600"/>
                <a:gd name="textAreaTop" fmla="*/ 0 h 698400"/>
                <a:gd name="textAreaBottom" fmla="*/ 698760 h 698400"/>
              </a:gdLst>
              <a:ahLst/>
              <a:rect l="textAreaLeft" t="textAreaTop" r="textAreaRight" b="textAreaBottom"/>
              <a:pathLst>
                <a:path w="456" h="440">
                  <a:moveTo>
                    <a:pt x="0" y="440"/>
                  </a:moveTo>
                  <a:lnTo>
                    <a:pt x="456" y="0"/>
                  </a:lnTo>
                </a:path>
              </a:pathLst>
            </a:custGeom>
            <a:noFill/>
            <a:ln cap="rnd" w="1908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1" name="Line 44"/>
            <p:cNvSpPr/>
            <p:nvPr/>
          </p:nvSpPr>
          <p:spPr>
            <a:xfrm flipV="1">
              <a:off x="5334120" y="3809520"/>
              <a:ext cx="761760" cy="3049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2" name="Line 45"/>
            <p:cNvSpPr/>
            <p:nvPr/>
          </p:nvSpPr>
          <p:spPr>
            <a:xfrm flipV="1">
              <a:off x="5334120" y="4343040"/>
              <a:ext cx="761760" cy="15228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3" name="Line 46"/>
            <p:cNvSpPr/>
            <p:nvPr/>
          </p:nvSpPr>
          <p:spPr>
            <a:xfrm>
              <a:off x="5334120" y="4876920"/>
              <a:ext cx="7617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4" name="Line 47"/>
            <p:cNvSpPr/>
            <p:nvPr/>
          </p:nvSpPr>
          <p:spPr>
            <a:xfrm>
              <a:off x="5334120" y="5638680"/>
              <a:ext cx="7617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5" name="Text Box 48"/>
            <p:cNvSpPr/>
            <p:nvPr/>
          </p:nvSpPr>
          <p:spPr>
            <a:xfrm>
              <a:off x="1368000" y="5791320"/>
              <a:ext cx="61884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SI</a:t>
              </a:r>
              <a:endParaRPr b="0" lang="en-US" sz="2000" spc="-1" strike="noStrike">
                <a:solidFill>
                  <a:srgbClr val="ffffff"/>
                </a:solidFill>
                <a:latin typeface="Arial"/>
              </a:endParaRPr>
            </a:p>
          </p:txBody>
        </p:sp>
        <p:sp>
          <p:nvSpPr>
            <p:cNvPr id="386" name="Text Box 49"/>
            <p:cNvSpPr/>
            <p:nvPr/>
          </p:nvSpPr>
          <p:spPr>
            <a:xfrm>
              <a:off x="3916440" y="5791320"/>
              <a:ext cx="9997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CP</a:t>
              </a:r>
              <a:r>
                <a:rPr b="1" lang="tr-TR" sz="2000" spc="-1" strike="noStrike">
                  <a:solidFill>
                    <a:srgbClr val="ffffff"/>
                  </a:solidFill>
                  <a:latin typeface="Arial"/>
                </a:rPr>
                <a:t>/IP</a:t>
              </a:r>
              <a:endParaRPr b="0" lang="en-US" sz="2000" spc="-1" strike="noStrike">
                <a:solidFill>
                  <a:srgbClr val="ffffff"/>
                </a:solidFill>
                <a:latin typeface="Arial"/>
              </a:endParaRPr>
            </a:p>
          </p:txBody>
        </p:sp>
        <p:sp>
          <p:nvSpPr>
            <p:cNvPr id="387" name="Line 70"/>
            <p:cNvSpPr/>
            <p:nvPr/>
          </p:nvSpPr>
          <p:spPr>
            <a:xfrm>
              <a:off x="2700360" y="4869000"/>
              <a:ext cx="9349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8" name="Line 71"/>
            <p:cNvSpPr/>
            <p:nvPr/>
          </p:nvSpPr>
          <p:spPr>
            <a:xfrm>
              <a:off x="2700360" y="5630760"/>
              <a:ext cx="9349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9" name="Line 72"/>
            <p:cNvSpPr/>
            <p:nvPr/>
          </p:nvSpPr>
          <p:spPr>
            <a:xfrm>
              <a:off x="2700360" y="4508640"/>
              <a:ext cx="9349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0" name="Line 73"/>
            <p:cNvSpPr/>
            <p:nvPr/>
          </p:nvSpPr>
          <p:spPr>
            <a:xfrm>
              <a:off x="2700360" y="4149720"/>
              <a:ext cx="9349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1" name="Line 74"/>
            <p:cNvSpPr/>
            <p:nvPr/>
          </p:nvSpPr>
          <p:spPr>
            <a:xfrm>
              <a:off x="2700360" y="2997360"/>
              <a:ext cx="9349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2" name="Rectangle 126"/>
            <p:cNvSpPr/>
            <p:nvPr/>
          </p:nvSpPr>
          <p:spPr>
            <a:xfrm>
              <a:off x="6300720" y="4437000"/>
              <a:ext cx="685800" cy="38124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ICMP</a:t>
              </a:r>
              <a:endParaRPr b="0" lang="en-US" sz="2000" spc="-1" strike="noStrike">
                <a:solidFill>
                  <a:srgbClr val="ffffff"/>
                </a:solidFill>
                <a:latin typeface="Arial"/>
              </a:endParaRPr>
            </a:p>
          </p:txBody>
        </p:sp>
        <p:sp>
          <p:nvSpPr>
            <p:cNvPr id="393" name="Rectangle 127"/>
            <p:cNvSpPr/>
            <p:nvPr/>
          </p:nvSpPr>
          <p:spPr>
            <a:xfrm>
              <a:off x="7956720" y="4437000"/>
              <a:ext cx="685800" cy="38124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ARP</a:t>
              </a:r>
              <a:endParaRPr b="0" lang="en-US" sz="2000" spc="-1" strike="noStrike">
                <a:solidFill>
                  <a:srgbClr val="ffffff"/>
                </a:solidFill>
                <a:latin typeface="Arial"/>
              </a:endParaRPr>
            </a:p>
          </p:txBody>
        </p:sp>
        <p:sp>
          <p:nvSpPr>
            <p:cNvPr id="394" name="Rectangle 128"/>
            <p:cNvSpPr/>
            <p:nvPr/>
          </p:nvSpPr>
          <p:spPr>
            <a:xfrm>
              <a:off x="6156360" y="5013360"/>
              <a:ext cx="685800" cy="38088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L</a:t>
              </a:r>
              <a:r>
                <a:rPr b="1" lang="en-US" sz="2000" spc="-1" strike="noStrike">
                  <a:solidFill>
                    <a:srgbClr val="ffffff"/>
                  </a:solidFill>
                  <a:latin typeface="Arial"/>
                </a:rPr>
                <a:t>AN</a:t>
              </a:r>
              <a:endParaRPr b="0" lang="en-US" sz="2000" spc="-1" strike="noStrike">
                <a:solidFill>
                  <a:srgbClr val="ffffff"/>
                </a:solidFill>
                <a:latin typeface="Arial"/>
              </a:endParaRPr>
            </a:p>
          </p:txBody>
        </p:sp>
      </p:grpSp>
      <p:sp>
        <p:nvSpPr>
          <p:cNvPr id="395"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SI vs. TCP/IP</a:t>
            </a:r>
            <a:endParaRPr b="0" lang="en-US" sz="4400" spc="-1" strike="noStrike">
              <a:solidFill>
                <a:srgbClr val="ffffff"/>
              </a:solidFill>
              <a:latin typeface="Arial"/>
            </a:endParaRPr>
          </a:p>
        </p:txBody>
      </p:sp>
      <p:sp>
        <p:nvSpPr>
          <p:cNvPr id="396" name="Text Box 76"/>
          <p:cNvSpPr/>
          <p:nvPr/>
        </p:nvSpPr>
        <p:spPr>
          <a:xfrm>
            <a:off x="1042920" y="1197000"/>
            <a:ext cx="7489800" cy="1620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Uygulama Katmanı (Application Layer)</a:t>
            </a: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aşıma Katmanı (Transport Layer)</a:t>
            </a: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Katmanı (Network Layer/Internet Layer/Internetwork Layer)</a:t>
            </a: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Fiziksel Katman (Network Access Layer/Link and Physical Layer)</a:t>
            </a:r>
            <a:endParaRPr b="0" lang="en-US" sz="18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Ping Komutu</a:t>
            </a:r>
            <a:endParaRPr b="0" lang="en-US" sz="4000" spc="-1" strike="noStrike">
              <a:solidFill>
                <a:srgbClr val="ffffff"/>
              </a:solidFill>
              <a:latin typeface="Arial"/>
            </a:endParaRPr>
          </a:p>
        </p:txBody>
      </p:sp>
      <p:sp>
        <p:nvSpPr>
          <p:cNvPr id="565" name="PlaceHolder 2"/>
          <p:cNvSpPr>
            <a:spLocks noGrp="1"/>
          </p:cNvSpPr>
          <p:nvPr>
            <p:ph/>
          </p:nvPr>
        </p:nvSpPr>
        <p:spPr>
          <a:xfrm>
            <a:off x="2160720" y="1484280"/>
            <a:ext cx="6588000" cy="187344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ing komutu bir bilgisayara 32 byte’lık bir ICMP paketi gönderir ve sonuçta elde ettiği raporu gösterir.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ing 127.0.0.1</a:t>
            </a:r>
            <a:endParaRPr b="0" lang="en-US" sz="2800" spc="-1" strike="noStrike">
              <a:solidFill>
                <a:srgbClr val="ffffff"/>
              </a:solidFill>
              <a:latin typeface="Arial"/>
            </a:endParaRPr>
          </a:p>
        </p:txBody>
      </p:sp>
      <p:pic>
        <p:nvPicPr>
          <p:cNvPr id="566" name="Picture 4" descr=""/>
          <p:cNvPicPr/>
          <p:nvPr/>
        </p:nvPicPr>
        <p:blipFill>
          <a:blip r:embed="rId1"/>
          <a:stretch/>
        </p:blipFill>
        <p:spPr>
          <a:xfrm>
            <a:off x="2411280" y="3357720"/>
            <a:ext cx="6372360" cy="321912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Ping Komutu</a:t>
            </a:r>
            <a:endParaRPr b="0" lang="en-US" sz="4000" spc="-1" strike="noStrike">
              <a:solidFill>
                <a:srgbClr val="ffffff"/>
              </a:solidFill>
              <a:latin typeface="Arial"/>
            </a:endParaRPr>
          </a:p>
        </p:txBody>
      </p:sp>
      <p:sp>
        <p:nvSpPr>
          <p:cNvPr id="568"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ing www.gazi.edu.tr</a:t>
            </a:r>
            <a:endParaRPr b="0" lang="en-US" sz="2800" spc="-1" strike="noStrike">
              <a:solidFill>
                <a:srgbClr val="ffffff"/>
              </a:solidFill>
              <a:latin typeface="Arial"/>
            </a:endParaRPr>
          </a:p>
        </p:txBody>
      </p:sp>
      <p:pic>
        <p:nvPicPr>
          <p:cNvPr id="569" name="Picture 5" descr=""/>
          <p:cNvPicPr/>
          <p:nvPr/>
        </p:nvPicPr>
        <p:blipFill>
          <a:blip r:embed="rId1"/>
          <a:stretch/>
        </p:blipFill>
        <p:spPr>
          <a:xfrm>
            <a:off x="2195640" y="2492280"/>
            <a:ext cx="6372000" cy="321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Ping Komutu</a:t>
            </a:r>
            <a:endParaRPr b="0" lang="en-US" sz="4000" spc="-1" strike="noStrike">
              <a:solidFill>
                <a:srgbClr val="ffffff"/>
              </a:solidFill>
              <a:latin typeface="Arial"/>
            </a:endParaRPr>
          </a:p>
        </p:txBody>
      </p:sp>
      <p:sp>
        <p:nvSpPr>
          <p:cNvPr id="571"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ing /? </a:t>
            </a:r>
            <a:endParaRPr b="0" lang="en-US" sz="2800" spc="-1" strike="noStrike">
              <a:solidFill>
                <a:srgbClr val="ffffff"/>
              </a:solidFill>
              <a:latin typeface="Arial"/>
            </a:endParaRPr>
          </a:p>
        </p:txBody>
      </p:sp>
      <p:pic>
        <p:nvPicPr>
          <p:cNvPr id="572" name="Picture 5" descr=""/>
          <p:cNvPicPr/>
          <p:nvPr/>
        </p:nvPicPr>
        <p:blipFill>
          <a:blip r:embed="rId1"/>
          <a:stretch/>
        </p:blipFill>
        <p:spPr>
          <a:xfrm>
            <a:off x="2124000" y="2514600"/>
            <a:ext cx="6372360" cy="321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Config Komutu</a:t>
            </a:r>
            <a:endParaRPr b="0" lang="en-US" sz="4000" spc="-1" strike="noStrike">
              <a:solidFill>
                <a:srgbClr val="ffffff"/>
              </a:solidFill>
              <a:latin typeface="Arial"/>
            </a:endParaRPr>
          </a:p>
        </p:txBody>
      </p:sp>
      <p:sp>
        <p:nvSpPr>
          <p:cNvPr id="574" name="PlaceHolder 2"/>
          <p:cNvSpPr>
            <a:spLocks noGrp="1"/>
          </p:cNvSpPr>
          <p:nvPr>
            <p:ph/>
          </p:nvPr>
        </p:nvSpPr>
        <p:spPr>
          <a:xfrm>
            <a:off x="2160720" y="1483920"/>
            <a:ext cx="6588000" cy="79236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üm ip ile konfigürasyonu (MAC adres vb.) görmek için kullanılı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575" name="Picture 4" descr=""/>
          <p:cNvPicPr/>
          <p:nvPr/>
        </p:nvPicPr>
        <p:blipFill>
          <a:blip r:embed="rId1"/>
          <a:stretch/>
        </p:blipFill>
        <p:spPr>
          <a:xfrm>
            <a:off x="2195640" y="2492280"/>
            <a:ext cx="6372000" cy="356256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Config Komutu</a:t>
            </a:r>
            <a:endParaRPr b="0" lang="en-US" sz="4000" spc="-1" strike="noStrike">
              <a:solidFill>
                <a:srgbClr val="ffffff"/>
              </a:solidFill>
              <a:latin typeface="Arial"/>
            </a:endParaRPr>
          </a:p>
        </p:txBody>
      </p:sp>
      <p:sp>
        <p:nvSpPr>
          <p:cNvPr id="577" name="PlaceHolder 2"/>
          <p:cNvSpPr>
            <a:spLocks noGrp="1"/>
          </p:cNvSpPr>
          <p:nvPr>
            <p:ph/>
          </p:nvPr>
        </p:nvSpPr>
        <p:spPr>
          <a:xfrm>
            <a:off x="2160720" y="1483920"/>
            <a:ext cx="6588000" cy="79236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config /?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config /all ile tüm seçenekler görülebilir.</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578" name="Picture 5" descr=""/>
          <p:cNvPicPr/>
          <p:nvPr/>
        </p:nvPicPr>
        <p:blipFill>
          <a:blip r:embed="rId1"/>
          <a:stretch/>
        </p:blipFill>
        <p:spPr>
          <a:xfrm>
            <a:off x="2050920" y="2593800"/>
            <a:ext cx="7093080" cy="396576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racert Komutu</a:t>
            </a:r>
            <a:endParaRPr b="0" lang="en-US" sz="4000" spc="-1" strike="noStrike">
              <a:solidFill>
                <a:srgbClr val="ffffff"/>
              </a:solidFill>
              <a:latin typeface="Arial"/>
            </a:endParaRPr>
          </a:p>
        </p:txBody>
      </p:sp>
      <p:sp>
        <p:nvSpPr>
          <p:cNvPr id="580" name="PlaceHolder 2"/>
          <p:cNvSpPr>
            <a:spLocks noGrp="1"/>
          </p:cNvSpPr>
          <p:nvPr>
            <p:ph/>
          </p:nvPr>
        </p:nvSpPr>
        <p:spPr>
          <a:xfrm>
            <a:off x="2160720" y="1268280"/>
            <a:ext cx="6588000" cy="12240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r adrese giden yolu gösterir.</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icrosoft’ta tracert ve ping komutlarının birleşimi olan pathping komutu kullanılabilir.</a:t>
            </a:r>
            <a:endParaRPr b="0" lang="en-US" sz="2400" spc="-1" strike="noStrike">
              <a:solidFill>
                <a:srgbClr val="ffffff"/>
              </a:solidFill>
              <a:latin typeface="Arial"/>
            </a:endParaRPr>
          </a:p>
        </p:txBody>
      </p:sp>
      <p:pic>
        <p:nvPicPr>
          <p:cNvPr id="581" name="Picture 4" descr=""/>
          <p:cNvPicPr/>
          <p:nvPr/>
        </p:nvPicPr>
        <p:blipFill>
          <a:blip r:embed="rId1"/>
          <a:stretch/>
        </p:blipFill>
        <p:spPr>
          <a:xfrm>
            <a:off x="2050920" y="4552920"/>
            <a:ext cx="6372360" cy="2305080"/>
          </a:xfrm>
          <a:prstGeom prst="rect">
            <a:avLst/>
          </a:prstGeom>
          <a:ln w="0">
            <a:noFill/>
          </a:ln>
        </p:spPr>
      </p:pic>
      <p:pic>
        <p:nvPicPr>
          <p:cNvPr id="582" name="Picture 5" descr=""/>
          <p:cNvPicPr/>
          <p:nvPr/>
        </p:nvPicPr>
        <p:blipFill>
          <a:blip r:embed="rId2"/>
          <a:stretch/>
        </p:blipFill>
        <p:spPr>
          <a:xfrm>
            <a:off x="2050920" y="2347920"/>
            <a:ext cx="6372360" cy="23050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RP (Adres Çözümleme Protokolü)</a:t>
            </a:r>
            <a:endParaRPr b="0" lang="en-US" sz="4000" spc="-1" strike="noStrike">
              <a:solidFill>
                <a:srgbClr val="ffffff"/>
              </a:solidFill>
              <a:latin typeface="Arial"/>
            </a:endParaRPr>
          </a:p>
        </p:txBody>
      </p:sp>
      <p:sp>
        <p:nvSpPr>
          <p:cNvPr id="584"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P adreslerini fiziksel adrese dönüştürmek için kullanılır.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ir paketin bir bilgisayardan çıktığında nereye gideceğini IP numarası değil gideceği bilgisayarın fiziksel adresi (MAC) belirler.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adreste paketin gideceği ip numarası kullanılarak elde edilir. </a:t>
            </a:r>
            <a:endParaRPr b="0" lang="en-US" sz="28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RP (Adres Çözümleme Protokolü)</a:t>
            </a:r>
            <a:endParaRPr b="0" lang="en-US" sz="4000" spc="-1" strike="noStrike">
              <a:solidFill>
                <a:srgbClr val="ffffff"/>
              </a:solidFill>
              <a:latin typeface="Arial"/>
            </a:endParaRPr>
          </a:p>
        </p:txBody>
      </p:sp>
      <p:sp>
        <p:nvSpPr>
          <p:cNvPr id="586"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rdından paket yönlendirili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RP adres çözümlemek istediği zaman tüm ağa bir ARP istek mesajı gönderir ve bu IP adresini gören yada bu IP adresine giden yol üzerinde bulunan makine bu isteğe cevap verir ve kendi fiziksel adresini gönderir.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RP isteğinde bulunan makine bu adresi alarak verileri bu makineye gönderir.</a:t>
            </a:r>
            <a:endParaRPr b="0" lang="en-US" sz="28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RP (Adres Çözümleme Protokolü)</a:t>
            </a:r>
            <a:endParaRPr b="0" lang="en-US" sz="4000" spc="-1" strike="noStrike">
              <a:solidFill>
                <a:srgbClr val="ffffff"/>
              </a:solidFill>
              <a:latin typeface="Arial"/>
            </a:endParaRPr>
          </a:p>
        </p:txBody>
      </p:sp>
      <p:pic>
        <p:nvPicPr>
          <p:cNvPr id="588" name="Picture 4" descr=""/>
          <p:cNvPicPr/>
          <p:nvPr/>
        </p:nvPicPr>
        <p:blipFill>
          <a:blip r:embed="rId1"/>
          <a:stretch/>
        </p:blipFill>
        <p:spPr>
          <a:xfrm>
            <a:off x="2050920" y="5435640"/>
            <a:ext cx="6372360" cy="1162080"/>
          </a:xfrm>
          <a:prstGeom prst="rect">
            <a:avLst/>
          </a:prstGeom>
          <a:ln w="0">
            <a:noFill/>
          </a:ln>
        </p:spPr>
      </p:pic>
      <p:pic>
        <p:nvPicPr>
          <p:cNvPr id="589" name="Picture 5" descr=""/>
          <p:cNvPicPr/>
          <p:nvPr/>
        </p:nvPicPr>
        <p:blipFill>
          <a:blip r:embed="rId2"/>
          <a:stretch/>
        </p:blipFill>
        <p:spPr>
          <a:xfrm>
            <a:off x="2124000" y="1208160"/>
            <a:ext cx="5977080" cy="4092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Netstat Komutu</a:t>
            </a:r>
            <a:endParaRPr b="0" lang="en-US" sz="4000" spc="-1" strike="noStrike">
              <a:solidFill>
                <a:srgbClr val="ffffff"/>
              </a:solidFill>
              <a:latin typeface="Arial"/>
            </a:endParaRPr>
          </a:p>
        </p:txBody>
      </p:sp>
      <p:sp>
        <p:nvSpPr>
          <p:cNvPr id="591"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CP/IP bağlantılarını, gönderilen ve alınan paketlerin detaylarını görmek için kullanılır. </a:t>
            </a:r>
            <a:endParaRPr b="0" lang="en-US" sz="2800" spc="-1" strike="noStrike">
              <a:solidFill>
                <a:srgbClr val="ffffff"/>
              </a:solidFill>
              <a:latin typeface="Arial"/>
            </a:endParaRPr>
          </a:p>
        </p:txBody>
      </p:sp>
      <p:pic>
        <p:nvPicPr>
          <p:cNvPr id="592" name="Picture 4" descr=""/>
          <p:cNvPicPr/>
          <p:nvPr/>
        </p:nvPicPr>
        <p:blipFill>
          <a:blip r:embed="rId1"/>
          <a:stretch/>
        </p:blipFill>
        <p:spPr>
          <a:xfrm>
            <a:off x="2050920" y="3213000"/>
            <a:ext cx="6372360" cy="321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68360" y="-36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TCP/IP Veri Aktarımı</a:t>
            </a:r>
            <a:endParaRPr b="0" lang="en-US" sz="3200" spc="-1" strike="noStrike">
              <a:solidFill>
                <a:srgbClr val="000000"/>
              </a:solidFill>
              <a:latin typeface="Arial"/>
            </a:endParaRPr>
          </a:p>
        </p:txBody>
      </p:sp>
      <p:pic>
        <p:nvPicPr>
          <p:cNvPr id="398" name="Picture 3" descr="MCj03252340000[1]"/>
          <p:cNvPicPr/>
          <p:nvPr/>
        </p:nvPicPr>
        <p:blipFill>
          <a:blip r:embed="rId1"/>
          <a:stretch/>
        </p:blipFill>
        <p:spPr>
          <a:xfrm>
            <a:off x="250920" y="1125360"/>
            <a:ext cx="1081080" cy="897120"/>
          </a:xfrm>
          <a:prstGeom prst="rect">
            <a:avLst/>
          </a:prstGeom>
          <a:ln w="0">
            <a:noFill/>
          </a:ln>
        </p:spPr>
      </p:pic>
      <p:pic>
        <p:nvPicPr>
          <p:cNvPr id="399" name="Picture 4" descr="MCj02816080000[1]"/>
          <p:cNvPicPr/>
          <p:nvPr/>
        </p:nvPicPr>
        <p:blipFill>
          <a:blip r:embed="rId2"/>
          <a:stretch/>
        </p:blipFill>
        <p:spPr>
          <a:xfrm>
            <a:off x="7956720" y="981000"/>
            <a:ext cx="718920" cy="711360"/>
          </a:xfrm>
          <a:prstGeom prst="rect">
            <a:avLst/>
          </a:prstGeom>
          <a:ln w="0">
            <a:noFill/>
          </a:ln>
        </p:spPr>
      </p:pic>
      <p:sp>
        <p:nvSpPr>
          <p:cNvPr id="400" name="Text Box 5"/>
          <p:cNvSpPr/>
          <p:nvPr/>
        </p:nvSpPr>
        <p:spPr>
          <a:xfrm>
            <a:off x="179280" y="83664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Terminal A</a:t>
            </a:r>
            <a:endParaRPr b="0" lang="en-US" sz="1800" spc="-1" strike="noStrike">
              <a:solidFill>
                <a:srgbClr val="ffffff"/>
              </a:solidFill>
              <a:latin typeface="Arial"/>
            </a:endParaRPr>
          </a:p>
        </p:txBody>
      </p:sp>
      <p:sp>
        <p:nvSpPr>
          <p:cNvPr id="401" name="Text Box 6"/>
          <p:cNvSpPr/>
          <p:nvPr/>
        </p:nvSpPr>
        <p:spPr>
          <a:xfrm>
            <a:off x="7020000" y="69228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Terminal B</a:t>
            </a:r>
            <a:endParaRPr b="0" lang="en-US" sz="1800" spc="-1" strike="noStrike">
              <a:solidFill>
                <a:srgbClr val="ffffff"/>
              </a:solidFill>
              <a:latin typeface="Arial"/>
            </a:endParaRPr>
          </a:p>
        </p:txBody>
      </p:sp>
      <p:sp>
        <p:nvSpPr>
          <p:cNvPr id="402" name="Text Box 7"/>
          <p:cNvSpPr/>
          <p:nvPr/>
        </p:nvSpPr>
        <p:spPr>
          <a:xfrm>
            <a:off x="1476360" y="1268280"/>
            <a:ext cx="194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İşlem Gönderimi</a:t>
            </a:r>
            <a:endParaRPr b="0" lang="en-US" sz="1800" spc="-1" strike="noStrike">
              <a:solidFill>
                <a:srgbClr val="ffffff"/>
              </a:solidFill>
              <a:latin typeface="Arial"/>
            </a:endParaRPr>
          </a:p>
        </p:txBody>
      </p:sp>
      <p:sp>
        <p:nvSpPr>
          <p:cNvPr id="403" name="Text Box 8"/>
          <p:cNvSpPr/>
          <p:nvPr/>
        </p:nvSpPr>
        <p:spPr>
          <a:xfrm>
            <a:off x="6516720" y="119700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İşlem Alımı</a:t>
            </a:r>
            <a:endParaRPr b="0" lang="en-US" sz="1800" spc="-1" strike="noStrike">
              <a:solidFill>
                <a:srgbClr val="ffffff"/>
              </a:solidFill>
              <a:latin typeface="Arial"/>
            </a:endParaRPr>
          </a:p>
        </p:txBody>
      </p:sp>
      <p:sp>
        <p:nvSpPr>
          <p:cNvPr id="404" name="Text Box 9"/>
          <p:cNvSpPr/>
          <p:nvPr/>
        </p:nvSpPr>
        <p:spPr>
          <a:xfrm>
            <a:off x="4140360" y="1268280"/>
            <a:ext cx="86328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Veri</a:t>
            </a:r>
            <a:endParaRPr b="0" lang="en-US" sz="1800" spc="-1" strike="noStrike">
              <a:solidFill>
                <a:srgbClr val="ffffff"/>
              </a:solidFill>
              <a:latin typeface="Arial"/>
            </a:endParaRPr>
          </a:p>
        </p:txBody>
      </p:sp>
      <p:grpSp>
        <p:nvGrpSpPr>
          <p:cNvPr id="405" name="Group 10"/>
          <p:cNvGrpSpPr/>
          <p:nvPr/>
        </p:nvGrpSpPr>
        <p:grpSpPr>
          <a:xfrm>
            <a:off x="-59760" y="2338560"/>
            <a:ext cx="2112480" cy="1920960"/>
            <a:chOff x="-59760" y="2338560"/>
            <a:chExt cx="2112480" cy="1920960"/>
          </a:xfrm>
        </p:grpSpPr>
        <p:sp>
          <p:nvSpPr>
            <p:cNvPr id="406" name="Text Box 11"/>
            <p:cNvSpPr/>
            <p:nvPr/>
          </p:nvSpPr>
          <p:spPr>
            <a:xfrm>
              <a:off x="206280" y="2338560"/>
              <a:ext cx="184644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Uygulama</a:t>
              </a:r>
              <a:endParaRPr b="0" lang="en-US" sz="2000" spc="-1" strike="noStrike">
                <a:solidFill>
                  <a:srgbClr val="ffffff"/>
                </a:solidFill>
                <a:latin typeface="Arial"/>
              </a:endParaRPr>
            </a:p>
          </p:txBody>
        </p:sp>
        <p:sp>
          <p:nvSpPr>
            <p:cNvPr id="407" name="Text Box 12"/>
            <p:cNvSpPr/>
            <p:nvPr/>
          </p:nvSpPr>
          <p:spPr>
            <a:xfrm>
              <a:off x="179280" y="2852640"/>
              <a:ext cx="184644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Taşıma</a:t>
              </a:r>
              <a:endParaRPr b="0" lang="en-US" sz="2000" spc="-1" strike="noStrike">
                <a:solidFill>
                  <a:srgbClr val="ffffff"/>
                </a:solidFill>
                <a:latin typeface="Arial"/>
              </a:endParaRPr>
            </a:p>
          </p:txBody>
        </p:sp>
        <p:sp>
          <p:nvSpPr>
            <p:cNvPr id="408" name="Text Box 13"/>
            <p:cNvSpPr/>
            <p:nvPr/>
          </p:nvSpPr>
          <p:spPr>
            <a:xfrm>
              <a:off x="179280" y="3373560"/>
              <a:ext cx="184644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Ağ</a:t>
              </a:r>
              <a:endParaRPr b="0" lang="en-US" sz="2000" spc="-1" strike="noStrike">
                <a:solidFill>
                  <a:srgbClr val="ffffff"/>
                </a:solidFill>
                <a:latin typeface="Arial"/>
              </a:endParaRPr>
            </a:p>
          </p:txBody>
        </p:sp>
        <p:sp>
          <p:nvSpPr>
            <p:cNvPr id="409" name="Text Box 14"/>
            <p:cNvSpPr/>
            <p:nvPr/>
          </p:nvSpPr>
          <p:spPr>
            <a:xfrm>
              <a:off x="179280" y="3860640"/>
              <a:ext cx="184644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Fiziksel</a:t>
              </a:r>
              <a:endParaRPr b="0" lang="en-US" sz="2000" spc="-1" strike="noStrike">
                <a:solidFill>
                  <a:srgbClr val="ffffff"/>
                </a:solidFill>
                <a:latin typeface="Arial"/>
              </a:endParaRPr>
            </a:p>
          </p:txBody>
        </p:sp>
        <p:sp>
          <p:nvSpPr>
            <p:cNvPr id="410" name="Text Box 15"/>
            <p:cNvSpPr/>
            <p:nvPr/>
          </p:nvSpPr>
          <p:spPr>
            <a:xfrm>
              <a:off x="-59760" y="38545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1</a:t>
              </a:r>
              <a:endParaRPr b="0" lang="en-US" sz="1800" spc="-1" strike="noStrike">
                <a:solidFill>
                  <a:srgbClr val="ffffff"/>
                </a:solidFill>
                <a:latin typeface="Arial"/>
              </a:endParaRPr>
            </a:p>
          </p:txBody>
        </p:sp>
        <p:sp>
          <p:nvSpPr>
            <p:cNvPr id="411" name="Text Box 16"/>
            <p:cNvSpPr/>
            <p:nvPr/>
          </p:nvSpPr>
          <p:spPr>
            <a:xfrm>
              <a:off x="-59760" y="33498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2</a:t>
              </a:r>
              <a:endParaRPr b="0" lang="en-US" sz="1800" spc="-1" strike="noStrike">
                <a:solidFill>
                  <a:srgbClr val="ffffff"/>
                </a:solidFill>
                <a:latin typeface="Arial"/>
              </a:endParaRPr>
            </a:p>
          </p:txBody>
        </p:sp>
        <p:sp>
          <p:nvSpPr>
            <p:cNvPr id="412" name="Text Box 17"/>
            <p:cNvSpPr/>
            <p:nvPr/>
          </p:nvSpPr>
          <p:spPr>
            <a:xfrm>
              <a:off x="-59760" y="28465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3</a:t>
              </a:r>
              <a:endParaRPr b="0" lang="en-US" sz="1800" spc="-1" strike="noStrike">
                <a:solidFill>
                  <a:srgbClr val="ffffff"/>
                </a:solidFill>
                <a:latin typeface="Arial"/>
              </a:endParaRPr>
            </a:p>
          </p:txBody>
        </p:sp>
        <p:sp>
          <p:nvSpPr>
            <p:cNvPr id="413" name="Text Box 18"/>
            <p:cNvSpPr/>
            <p:nvPr/>
          </p:nvSpPr>
          <p:spPr>
            <a:xfrm>
              <a:off x="-59760" y="2349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4</a:t>
              </a:r>
              <a:endParaRPr b="0" lang="en-US" sz="1800" spc="-1" strike="noStrike">
                <a:solidFill>
                  <a:srgbClr val="ffffff"/>
                </a:solidFill>
                <a:latin typeface="Arial"/>
              </a:endParaRPr>
            </a:p>
          </p:txBody>
        </p:sp>
      </p:grpSp>
      <p:sp>
        <p:nvSpPr>
          <p:cNvPr id="414" name="Text Box 19"/>
          <p:cNvSpPr/>
          <p:nvPr/>
        </p:nvSpPr>
        <p:spPr>
          <a:xfrm>
            <a:off x="2340000" y="4502160"/>
            <a:ext cx="439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011100111101111001111001110111101</a:t>
            </a:r>
            <a:endParaRPr b="0" lang="en-US" sz="1800" spc="-1" strike="noStrike">
              <a:solidFill>
                <a:srgbClr val="ffffff"/>
              </a:solidFill>
              <a:latin typeface="Arial"/>
            </a:endParaRPr>
          </a:p>
        </p:txBody>
      </p:sp>
      <p:sp>
        <p:nvSpPr>
          <p:cNvPr id="415" name="Line 20"/>
          <p:cNvSpPr/>
          <p:nvPr/>
        </p:nvSpPr>
        <p:spPr>
          <a:xfrm>
            <a:off x="1042920" y="4292640"/>
            <a:ext cx="0" cy="57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Line 21"/>
          <p:cNvSpPr/>
          <p:nvPr/>
        </p:nvSpPr>
        <p:spPr>
          <a:xfrm>
            <a:off x="1042920" y="4869000"/>
            <a:ext cx="6913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Line 22"/>
          <p:cNvSpPr/>
          <p:nvPr/>
        </p:nvSpPr>
        <p:spPr>
          <a:xfrm>
            <a:off x="7956720" y="4292640"/>
            <a:ext cx="0" cy="57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Text Box 23"/>
          <p:cNvSpPr/>
          <p:nvPr/>
        </p:nvSpPr>
        <p:spPr>
          <a:xfrm>
            <a:off x="2771640" y="5013360"/>
            <a:ext cx="374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Fiziksel veri aktarımı; Kablolar vb…</a:t>
            </a:r>
            <a:endParaRPr b="0" lang="en-US" sz="1800" spc="-1" strike="noStrike">
              <a:solidFill>
                <a:srgbClr val="ffffff"/>
              </a:solidFill>
              <a:latin typeface="Arial"/>
            </a:endParaRPr>
          </a:p>
        </p:txBody>
      </p:sp>
      <p:grpSp>
        <p:nvGrpSpPr>
          <p:cNvPr id="419" name="Group 24"/>
          <p:cNvGrpSpPr/>
          <p:nvPr/>
        </p:nvGrpSpPr>
        <p:grpSpPr>
          <a:xfrm>
            <a:off x="2341440" y="2349360"/>
            <a:ext cx="4535640" cy="1979640"/>
            <a:chOff x="2341440" y="2349360"/>
            <a:chExt cx="4535640" cy="1979640"/>
          </a:xfrm>
        </p:grpSpPr>
        <p:sp>
          <p:nvSpPr>
            <p:cNvPr id="420" name="Text Box 25"/>
            <p:cNvSpPr/>
            <p:nvPr/>
          </p:nvSpPr>
          <p:spPr>
            <a:xfrm>
              <a:off x="2989440" y="2349360"/>
              <a:ext cx="86364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Veri</a:t>
              </a:r>
              <a:endParaRPr b="0" lang="en-US" sz="1800" spc="-1" strike="noStrike">
                <a:solidFill>
                  <a:srgbClr val="ffffff"/>
                </a:solidFill>
                <a:latin typeface="Arial"/>
              </a:endParaRPr>
            </a:p>
          </p:txBody>
        </p:sp>
        <p:sp>
          <p:nvSpPr>
            <p:cNvPr id="421" name="Text Box 26"/>
            <p:cNvSpPr/>
            <p:nvPr/>
          </p:nvSpPr>
          <p:spPr>
            <a:xfrm>
              <a:off x="2989440" y="2854440"/>
              <a:ext cx="86364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Veri</a:t>
              </a:r>
              <a:endParaRPr b="0" lang="en-US" sz="1800" spc="-1" strike="noStrike">
                <a:solidFill>
                  <a:srgbClr val="ffffff"/>
                </a:solidFill>
                <a:latin typeface="Arial"/>
              </a:endParaRPr>
            </a:p>
          </p:txBody>
        </p:sp>
        <p:sp>
          <p:nvSpPr>
            <p:cNvPr id="422" name="Text Box 27"/>
            <p:cNvSpPr/>
            <p:nvPr/>
          </p:nvSpPr>
          <p:spPr>
            <a:xfrm>
              <a:off x="3853080" y="285444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TCP B.</a:t>
              </a:r>
              <a:endParaRPr b="0" lang="en-US" sz="1800" spc="-1" strike="noStrike">
                <a:solidFill>
                  <a:srgbClr val="ffffff"/>
                </a:solidFill>
                <a:latin typeface="Arial"/>
              </a:endParaRPr>
            </a:p>
          </p:txBody>
        </p:sp>
        <p:sp>
          <p:nvSpPr>
            <p:cNvPr id="423" name="Text Box 28"/>
            <p:cNvSpPr/>
            <p:nvPr/>
          </p:nvSpPr>
          <p:spPr>
            <a:xfrm>
              <a:off x="2989440" y="3430440"/>
              <a:ext cx="86364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Veri</a:t>
              </a:r>
              <a:endParaRPr b="0" lang="en-US" sz="1800" spc="-1" strike="noStrike">
                <a:solidFill>
                  <a:srgbClr val="ffffff"/>
                </a:solidFill>
                <a:latin typeface="Arial"/>
              </a:endParaRPr>
            </a:p>
          </p:txBody>
        </p:sp>
        <p:sp>
          <p:nvSpPr>
            <p:cNvPr id="424" name="Text Box 29"/>
            <p:cNvSpPr/>
            <p:nvPr/>
          </p:nvSpPr>
          <p:spPr>
            <a:xfrm>
              <a:off x="2990880" y="3960720"/>
              <a:ext cx="86364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Veri</a:t>
              </a:r>
              <a:endParaRPr b="0" lang="en-US" sz="1800" spc="-1" strike="noStrike">
                <a:solidFill>
                  <a:srgbClr val="ffffff"/>
                </a:solidFill>
                <a:latin typeface="Arial"/>
              </a:endParaRPr>
            </a:p>
          </p:txBody>
        </p:sp>
        <p:sp>
          <p:nvSpPr>
            <p:cNvPr id="425" name="Text Box 30"/>
            <p:cNvSpPr/>
            <p:nvPr/>
          </p:nvSpPr>
          <p:spPr>
            <a:xfrm>
              <a:off x="3853080" y="343044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TCP B.</a:t>
              </a:r>
              <a:endParaRPr b="0" lang="en-US" sz="1800" spc="-1" strike="noStrike">
                <a:solidFill>
                  <a:srgbClr val="ffffff"/>
                </a:solidFill>
                <a:latin typeface="Arial"/>
              </a:endParaRPr>
            </a:p>
          </p:txBody>
        </p:sp>
        <p:sp>
          <p:nvSpPr>
            <p:cNvPr id="426" name="Text Box 31"/>
            <p:cNvSpPr/>
            <p:nvPr/>
          </p:nvSpPr>
          <p:spPr>
            <a:xfrm>
              <a:off x="4861080" y="343044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IP B.</a:t>
              </a:r>
              <a:endParaRPr b="0" lang="en-US" sz="1800" spc="-1" strike="noStrike">
                <a:solidFill>
                  <a:srgbClr val="ffffff"/>
                </a:solidFill>
                <a:latin typeface="Arial"/>
              </a:endParaRPr>
            </a:p>
          </p:txBody>
        </p:sp>
        <p:sp>
          <p:nvSpPr>
            <p:cNvPr id="427" name="Text Box 32"/>
            <p:cNvSpPr/>
            <p:nvPr/>
          </p:nvSpPr>
          <p:spPr>
            <a:xfrm>
              <a:off x="3853080" y="396072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TCP B.</a:t>
              </a:r>
              <a:endParaRPr b="0" lang="en-US" sz="1800" spc="-1" strike="noStrike">
                <a:solidFill>
                  <a:srgbClr val="ffffff"/>
                </a:solidFill>
                <a:latin typeface="Arial"/>
              </a:endParaRPr>
            </a:p>
          </p:txBody>
        </p:sp>
        <p:sp>
          <p:nvSpPr>
            <p:cNvPr id="428" name="Text Box 33"/>
            <p:cNvSpPr/>
            <p:nvPr/>
          </p:nvSpPr>
          <p:spPr>
            <a:xfrm>
              <a:off x="4861080" y="396072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IP B.</a:t>
              </a:r>
              <a:endParaRPr b="0" lang="en-US" sz="1800" spc="-1" strike="noStrike">
                <a:solidFill>
                  <a:srgbClr val="ffffff"/>
                </a:solidFill>
                <a:latin typeface="Arial"/>
              </a:endParaRPr>
            </a:p>
          </p:txBody>
        </p:sp>
        <p:sp>
          <p:nvSpPr>
            <p:cNvPr id="429" name="Text Box 34"/>
            <p:cNvSpPr/>
            <p:nvPr/>
          </p:nvSpPr>
          <p:spPr>
            <a:xfrm>
              <a:off x="2341440" y="3960720"/>
              <a:ext cx="64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CRC</a:t>
              </a:r>
              <a:endParaRPr b="0" lang="en-US" sz="1800" spc="-1" strike="noStrike">
                <a:solidFill>
                  <a:srgbClr val="ffffff"/>
                </a:solidFill>
                <a:latin typeface="Arial"/>
              </a:endParaRPr>
            </a:p>
          </p:txBody>
        </p:sp>
        <p:sp>
          <p:nvSpPr>
            <p:cNvPr id="430" name="Text Box 35"/>
            <p:cNvSpPr/>
            <p:nvPr/>
          </p:nvSpPr>
          <p:spPr>
            <a:xfrm>
              <a:off x="5869080" y="396072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MAC B.</a:t>
              </a:r>
              <a:endParaRPr b="0" lang="en-US" sz="1800" spc="-1" strike="noStrike">
                <a:solidFill>
                  <a:srgbClr val="ffffff"/>
                </a:solidFill>
                <a:latin typeface="Arial"/>
              </a:endParaRPr>
            </a:p>
          </p:txBody>
        </p:sp>
      </p:grpSp>
      <p:sp>
        <p:nvSpPr>
          <p:cNvPr id="431" name="Text Box 36"/>
          <p:cNvSpPr/>
          <p:nvPr/>
        </p:nvSpPr>
        <p:spPr>
          <a:xfrm>
            <a:off x="7068960" y="2349360"/>
            <a:ext cx="184644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Uygulama</a:t>
            </a:r>
            <a:endParaRPr b="0" lang="en-US" sz="2000" spc="-1" strike="noStrike">
              <a:solidFill>
                <a:srgbClr val="ffffff"/>
              </a:solidFill>
              <a:latin typeface="Arial"/>
            </a:endParaRPr>
          </a:p>
        </p:txBody>
      </p:sp>
      <p:sp>
        <p:nvSpPr>
          <p:cNvPr id="432" name="Text Box 37"/>
          <p:cNvSpPr/>
          <p:nvPr/>
        </p:nvSpPr>
        <p:spPr>
          <a:xfrm>
            <a:off x="7042320" y="2863800"/>
            <a:ext cx="184608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Taşıma</a:t>
            </a:r>
            <a:endParaRPr b="0" lang="en-US" sz="2000" spc="-1" strike="noStrike">
              <a:solidFill>
                <a:srgbClr val="ffffff"/>
              </a:solidFill>
              <a:latin typeface="Arial"/>
            </a:endParaRPr>
          </a:p>
        </p:txBody>
      </p:sp>
      <p:sp>
        <p:nvSpPr>
          <p:cNvPr id="433" name="Text Box 38"/>
          <p:cNvSpPr/>
          <p:nvPr/>
        </p:nvSpPr>
        <p:spPr>
          <a:xfrm>
            <a:off x="7042320" y="3384720"/>
            <a:ext cx="184608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Ağ</a:t>
            </a:r>
            <a:endParaRPr b="0" lang="en-US" sz="2000" spc="-1" strike="noStrike">
              <a:solidFill>
                <a:srgbClr val="ffffff"/>
              </a:solidFill>
              <a:latin typeface="Arial"/>
            </a:endParaRPr>
          </a:p>
        </p:txBody>
      </p:sp>
      <p:sp>
        <p:nvSpPr>
          <p:cNvPr id="434" name="Text Box 39"/>
          <p:cNvSpPr/>
          <p:nvPr/>
        </p:nvSpPr>
        <p:spPr>
          <a:xfrm>
            <a:off x="7042320" y="3871800"/>
            <a:ext cx="184608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Fiziksel</a:t>
            </a:r>
            <a:endParaRPr b="0" lang="en-US" sz="2000" spc="-1" strike="noStrike">
              <a:solidFill>
                <a:srgbClr val="ffffff"/>
              </a:solidFill>
              <a:latin typeface="Arial"/>
            </a:endParaRPr>
          </a:p>
        </p:txBody>
      </p:sp>
      <p:sp>
        <p:nvSpPr>
          <p:cNvPr id="435" name="Text Box 40"/>
          <p:cNvSpPr/>
          <p:nvPr/>
        </p:nvSpPr>
        <p:spPr>
          <a:xfrm>
            <a:off x="8870040" y="38606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1</a:t>
            </a:r>
            <a:endParaRPr b="0" lang="en-US" sz="1800" spc="-1" strike="noStrike">
              <a:solidFill>
                <a:srgbClr val="ffffff"/>
              </a:solidFill>
              <a:latin typeface="Arial"/>
            </a:endParaRPr>
          </a:p>
        </p:txBody>
      </p:sp>
      <p:sp>
        <p:nvSpPr>
          <p:cNvPr id="436" name="Text Box 41"/>
          <p:cNvSpPr/>
          <p:nvPr/>
        </p:nvSpPr>
        <p:spPr>
          <a:xfrm>
            <a:off x="8870040" y="33559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2</a:t>
            </a:r>
            <a:endParaRPr b="0" lang="en-US" sz="1800" spc="-1" strike="noStrike">
              <a:solidFill>
                <a:srgbClr val="ffffff"/>
              </a:solidFill>
              <a:latin typeface="Arial"/>
            </a:endParaRPr>
          </a:p>
        </p:txBody>
      </p:sp>
      <p:sp>
        <p:nvSpPr>
          <p:cNvPr id="437" name="Text Box 42"/>
          <p:cNvSpPr/>
          <p:nvPr/>
        </p:nvSpPr>
        <p:spPr>
          <a:xfrm>
            <a:off x="8870040" y="28526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3</a:t>
            </a:r>
            <a:endParaRPr b="0" lang="en-US" sz="1800" spc="-1" strike="noStrike">
              <a:solidFill>
                <a:srgbClr val="ffffff"/>
              </a:solidFill>
              <a:latin typeface="Arial"/>
            </a:endParaRPr>
          </a:p>
        </p:txBody>
      </p:sp>
      <p:sp>
        <p:nvSpPr>
          <p:cNvPr id="438" name="Text Box 43"/>
          <p:cNvSpPr/>
          <p:nvPr/>
        </p:nvSpPr>
        <p:spPr>
          <a:xfrm>
            <a:off x="8870040" y="23558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4</a:t>
            </a:r>
            <a:endParaRPr b="0" lang="en-US" sz="1800" spc="-1" strike="noStrike">
              <a:solidFill>
                <a:srgbClr val="ffffff"/>
              </a:solidFill>
              <a:latin typeface="Arial"/>
            </a:endParaRPr>
          </a:p>
        </p:txBody>
      </p:sp>
      <p:sp>
        <p:nvSpPr>
          <p:cNvPr id="439" name="Text Box 44"/>
          <p:cNvSpPr/>
          <p:nvPr/>
        </p:nvSpPr>
        <p:spPr>
          <a:xfrm>
            <a:off x="2411280" y="5877000"/>
            <a:ext cx="30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CRC: Hata kontrol kodu</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Nslookup Komutu</a:t>
            </a:r>
            <a:endParaRPr b="0" lang="en-US" sz="4000" spc="-1" strike="noStrike">
              <a:solidFill>
                <a:srgbClr val="ffffff"/>
              </a:solidFill>
              <a:latin typeface="Arial"/>
            </a:endParaRPr>
          </a:p>
        </p:txBody>
      </p:sp>
      <p:sp>
        <p:nvSpPr>
          <p:cNvPr id="594"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ir adresin TCP/IP numarasını bulunmasını sağlar. </a:t>
            </a:r>
            <a:endParaRPr b="0" lang="en-US" sz="2800" spc="-1" strike="noStrike">
              <a:solidFill>
                <a:srgbClr val="ffffff"/>
              </a:solidFill>
              <a:latin typeface="Arial"/>
            </a:endParaRPr>
          </a:p>
        </p:txBody>
      </p:sp>
      <p:pic>
        <p:nvPicPr>
          <p:cNvPr id="595" name="Picture 6" descr=""/>
          <p:cNvPicPr/>
          <p:nvPr/>
        </p:nvPicPr>
        <p:blipFill>
          <a:blip r:embed="rId1"/>
          <a:stretch/>
        </p:blipFill>
        <p:spPr>
          <a:xfrm>
            <a:off x="2411280" y="2781360"/>
            <a:ext cx="6372360" cy="25336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68360" y="11592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Nslookup Komutu</a:t>
            </a:r>
            <a:endParaRPr b="0" lang="en-US" sz="4000" spc="-1" strike="noStrike">
              <a:solidFill>
                <a:srgbClr val="ffffff"/>
              </a:solidFill>
              <a:latin typeface="Arial"/>
            </a:endParaRPr>
          </a:p>
        </p:txBody>
      </p:sp>
      <p:pic>
        <p:nvPicPr>
          <p:cNvPr id="597" name="Picture 5" descr=""/>
          <p:cNvPicPr/>
          <p:nvPr/>
        </p:nvPicPr>
        <p:blipFill>
          <a:blip r:embed="rId1"/>
          <a:stretch/>
        </p:blipFill>
        <p:spPr>
          <a:xfrm>
            <a:off x="1763640" y="773280"/>
            <a:ext cx="6516720" cy="608472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Nbstat Komutu</a:t>
            </a:r>
            <a:endParaRPr b="0" lang="en-US" sz="4000" spc="-1" strike="noStrike">
              <a:solidFill>
                <a:srgbClr val="ffffff"/>
              </a:solidFill>
              <a:latin typeface="Arial"/>
            </a:endParaRPr>
          </a:p>
        </p:txBody>
      </p:sp>
      <p:sp>
        <p:nvSpPr>
          <p:cNvPr id="599"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CP/IP üzerinden NETBIOS bağlantılarının detaylarını görmeyi sağlar.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NETBIOS (Network Basic Input/Output System) </a:t>
            </a:r>
            <a:r>
              <a:rPr b="1" lang="tr-TR" sz="2800" spc="-1" strike="noStrike">
                <a:solidFill>
                  <a:srgbClr val="ffffff"/>
                </a:solidFill>
                <a:latin typeface="Arial"/>
              </a:rPr>
              <a:t>:</a:t>
            </a:r>
            <a:r>
              <a:rPr b="0" lang="tr-TR" sz="2800" spc="-1" strike="noStrike">
                <a:solidFill>
                  <a:srgbClr val="ffffff"/>
                </a:solidFill>
                <a:latin typeface="Arial"/>
              </a:rPr>
              <a:t> Farklı bilgisayarlardaki uygulamaların bir yerel alan ağı ile iletişim kurabilmelerini sağlayan program. </a:t>
            </a:r>
            <a:br>
              <a:rPr sz="2800"/>
            </a:br>
            <a:r>
              <a:rPr b="0" lang="tr-TR" sz="2800" spc="-1" strike="noStrike">
                <a:solidFill>
                  <a:srgbClr val="ffffff"/>
                </a:solidFill>
                <a:latin typeface="Arial"/>
              </a:rPr>
              <a:t> </a:t>
            </a:r>
            <a:endParaRPr b="0" lang="en-US" sz="28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Nbstat Komutu</a:t>
            </a:r>
            <a:endParaRPr b="0" lang="en-US" sz="4000" spc="-1" strike="noStrike">
              <a:solidFill>
                <a:srgbClr val="ffffff"/>
              </a:solidFill>
              <a:latin typeface="Arial"/>
            </a:endParaRPr>
          </a:p>
        </p:txBody>
      </p:sp>
      <p:pic>
        <p:nvPicPr>
          <p:cNvPr id="601" name="Picture 4" descr=""/>
          <p:cNvPicPr/>
          <p:nvPr/>
        </p:nvPicPr>
        <p:blipFill>
          <a:blip r:embed="rId1"/>
          <a:stretch/>
        </p:blipFill>
        <p:spPr>
          <a:xfrm>
            <a:off x="2195640" y="1413000"/>
            <a:ext cx="6948360" cy="475776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468360" y="1773000"/>
            <a:ext cx="7989840" cy="165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ff"/>
                </a:solidFill>
                <a:latin typeface="Arial"/>
              </a:rPr>
              <a:t>Çalışma yaprağı 1</a:t>
            </a:r>
            <a:endParaRPr b="0" lang="en-US" sz="4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ff"/>
                </a:solidFill>
                <a:latin typeface="Arial"/>
              </a:rPr>
              <a:t>MAC adresi</a:t>
            </a:r>
            <a:endParaRPr b="0" lang="en-US" sz="4400" spc="-1" strike="noStrike">
              <a:solidFill>
                <a:srgbClr val="ffffff"/>
              </a:solidFill>
              <a:latin typeface="Arial"/>
            </a:endParaRPr>
          </a:p>
        </p:txBody>
      </p:sp>
      <p:sp>
        <p:nvSpPr>
          <p:cNvPr id="441"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Ağda sistemler birbirini sahip oldukları MAC adresi ile tanırlar. </a:t>
            </a:r>
            <a:endParaRPr b="0" lang="en-US" sz="2800" spc="-1" strike="noStrike">
              <a:solidFill>
                <a:srgbClr val="ffffff"/>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Her node/ethernet kartı dünyada eşi olmayan bir adrese sahiptir. </a:t>
            </a:r>
            <a:endParaRPr b="0" lang="en-US" sz="2800" spc="-1" strike="noStrike">
              <a:solidFill>
                <a:srgbClr val="ffffff"/>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Bu adres 48 bitlik bir sayıdır </a:t>
            </a:r>
            <a:endParaRPr b="0" lang="en-US" sz="2800" spc="-1" strike="noStrike">
              <a:solidFill>
                <a:srgbClr val="ffffff"/>
              </a:solidFill>
              <a:latin typeface="Arial"/>
            </a:endParaRPr>
          </a:p>
          <a:p>
            <a:pPr lvl="1" marL="743040" indent="-28584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İlk 24 bit; OIU (Organizationally Unique Identifier) yani üreticinin kod numarası, </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Geri kalan 24 bit ise kartın seri numarası(Device ID)’dir.</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60280"/>
            <a:ext cx="8291520" cy="416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MAC adresleri nasıl kullanılır?</a:t>
            </a:r>
            <a:endParaRPr b="0" lang="en-US" sz="4000" spc="-1" strike="noStrike">
              <a:solidFill>
                <a:srgbClr val="ffffff"/>
              </a:solidFill>
              <a:latin typeface="Arial"/>
            </a:endParaRPr>
          </a:p>
        </p:txBody>
      </p:sp>
      <p:sp>
        <p:nvSpPr>
          <p:cNvPr id="443" name="PlaceHolder 2"/>
          <p:cNvSpPr>
            <a:spLocks noGrp="1"/>
          </p:cNvSpPr>
          <p:nvPr>
            <p:ph/>
          </p:nvPr>
        </p:nvSpPr>
        <p:spPr>
          <a:xfrm>
            <a:off x="2339640" y="3716280"/>
            <a:ext cx="6335640" cy="2665440"/>
          </a:xfrm>
          <a:prstGeom prst="rect">
            <a:avLst/>
          </a:prstGeom>
          <a:noFill/>
          <a:ln w="0">
            <a:noFill/>
          </a:ln>
        </p:spPr>
        <p:txBody>
          <a:bodyPr anchor="t">
            <a:normAutofit/>
          </a:bodyPr>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MAC adresi ile bilgisayarlar ağ üzerinden kendilerine ulaşan veri paketinin kendilerine gelip gelmediğini anlarlar. </a:t>
            </a:r>
            <a:endParaRPr b="0" lang="en-US" sz="2400" spc="-1" strike="noStrike">
              <a:solidFill>
                <a:srgbClr val="ffffff"/>
              </a:solidFill>
              <a:latin typeface="Arial"/>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Bilgisayar; paketin ilk bölümü olan alıcı adresindeki MAC adrese bakar ve kendi MAC adresiyle kontrol eder. Eğer gelen paket kendine aitse alır, değilse göz ardı eder.</a:t>
            </a:r>
            <a:endParaRPr b="0" lang="en-US" sz="2400" spc="-1" strike="noStrike">
              <a:solidFill>
                <a:srgbClr val="ffffff"/>
              </a:solidFill>
              <a:latin typeface="Arial"/>
            </a:endParaRPr>
          </a:p>
        </p:txBody>
      </p:sp>
      <p:graphicFrame>
        <p:nvGraphicFramePr>
          <p:cNvPr id="444" name=""/>
          <p:cNvGraphicFramePr/>
          <p:nvPr/>
        </p:nvGraphicFramePr>
        <p:xfrm>
          <a:off x="1500120" y="682560"/>
          <a:ext cx="893880" cy="5502240"/>
        </p:xfrm>
        <a:graphic>
          <a:graphicData uri="http://schemas.openxmlformats.org/drawingml/2006/table">
            <a:tbl>
              <a:tblPr/>
              <a:tblGrid>
                <a:gridCol w="893880"/>
              </a:tblGrid>
              <a:tr h="58676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139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445" name="Picture 10" descr="5_3"/>
          <p:cNvPicPr/>
          <p:nvPr/>
        </p:nvPicPr>
        <p:blipFill>
          <a:blip r:embed="rId1"/>
          <a:stretch/>
        </p:blipFill>
        <p:spPr>
          <a:xfrm>
            <a:off x="2771640" y="1413000"/>
            <a:ext cx="5543640" cy="2209680"/>
          </a:xfrm>
          <a:prstGeom prst="rect">
            <a:avLst/>
          </a:prstGeom>
          <a:ln w="0">
            <a:noFill/>
          </a:ln>
        </p:spPr>
      </p:pic>
      <p:sp>
        <p:nvSpPr>
          <p:cNvPr id="446" name="AutoShape 11"/>
          <p:cNvSpPr/>
          <p:nvPr/>
        </p:nvSpPr>
        <p:spPr>
          <a:xfrm>
            <a:off x="1692360" y="1052640"/>
            <a:ext cx="539640" cy="260280"/>
          </a:xfrm>
          <a:custGeom>
            <a:avLst/>
            <a:gdLst>
              <a:gd name="textAreaLeft" fmla="*/ 16560 w 539640"/>
              <a:gd name="textAreaRight" fmla="*/ 523080 w 539640"/>
              <a:gd name="textAreaTop" fmla="*/ 16560 h 260280"/>
              <a:gd name="textAreaBottom" fmla="*/ 243720 h 260280"/>
            </a:gdLst>
            <a:ahLst/>
            <a:rect l="textAreaLeft" t="textAreaTop" r="textAreaRight" b="textAreaBottom"/>
            <a:pathLst>
              <a:path w="44751" h="21600">
                <a:moveTo>
                  <a:pt x="0" y="0"/>
                </a:moveTo>
                <a:lnTo>
                  <a:pt x="44751" y="0"/>
                </a:lnTo>
                <a:lnTo>
                  <a:pt x="44751" y="21600"/>
                </a:lnTo>
                <a:lnTo>
                  <a:pt x="0" y="21600"/>
                </a:lnTo>
                <a:close/>
              </a:path>
              <a:path fill="lightenLess" w="44751" h="21600">
                <a:moveTo>
                  <a:pt x="0" y="0"/>
                </a:moveTo>
                <a:lnTo>
                  <a:pt x="44751" y="0"/>
                </a:lnTo>
                <a:lnTo>
                  <a:pt x="43351" y="1400"/>
                </a:lnTo>
                <a:lnTo>
                  <a:pt x="1400" y="1400"/>
                </a:lnTo>
                <a:close/>
              </a:path>
              <a:path fill="darken" w="44751" h="21600">
                <a:moveTo>
                  <a:pt x="44751" y="0"/>
                </a:moveTo>
                <a:lnTo>
                  <a:pt x="44751" y="21600"/>
                </a:lnTo>
                <a:lnTo>
                  <a:pt x="43351" y="20200"/>
                </a:lnTo>
                <a:lnTo>
                  <a:pt x="43351" y="1400"/>
                </a:lnTo>
                <a:close/>
              </a:path>
              <a:path fill="darkenLess" w="44751" h="21600">
                <a:moveTo>
                  <a:pt x="44751" y="21600"/>
                </a:moveTo>
                <a:lnTo>
                  <a:pt x="0" y="21600"/>
                </a:lnTo>
                <a:lnTo>
                  <a:pt x="1400" y="20200"/>
                </a:lnTo>
                <a:lnTo>
                  <a:pt x="43351" y="20200"/>
                </a:lnTo>
                <a:close/>
              </a:path>
              <a:path fill="lighten" w="44751" h="21600">
                <a:moveTo>
                  <a:pt x="0" y="21600"/>
                </a:moveTo>
                <a:lnTo>
                  <a:pt x="0" y="0"/>
                </a:lnTo>
                <a:lnTo>
                  <a:pt x="1400" y="1400"/>
                </a:lnTo>
                <a:lnTo>
                  <a:pt x="1400" y="20200"/>
                </a:lnTo>
                <a:close/>
              </a:path>
              <a:path fill="darken" w="44751" h="21600">
                <a:moveTo>
                  <a:pt x="15369" y="10800"/>
                </a:moveTo>
                <a:lnTo>
                  <a:pt x="29382" y="3794"/>
                </a:lnTo>
                <a:lnTo>
                  <a:pt x="29382" y="17806"/>
                </a:lnTo>
                <a:close/>
              </a:path>
            </a:pathLst>
          </a:cu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7" name="Picture 2" descr=""/>
          <p:cNvPicPr/>
          <p:nvPr/>
        </p:nvPicPr>
        <p:blipFill>
          <a:blip r:embed="rId1"/>
          <a:stretch/>
        </p:blipFill>
        <p:spPr>
          <a:xfrm>
            <a:off x="0" y="0"/>
            <a:ext cx="9144000" cy="6858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Uygulama Katmanı Protokolleri</a:t>
            </a:r>
            <a:endParaRPr b="0" lang="en-US" sz="4000" spc="-1" strike="noStrike">
              <a:solidFill>
                <a:srgbClr val="ffffff"/>
              </a:solidFill>
              <a:latin typeface="Arial"/>
            </a:endParaRPr>
          </a:p>
        </p:txBody>
      </p:sp>
      <p:sp>
        <p:nvSpPr>
          <p:cNvPr id="449" name="PlaceHolder 2"/>
          <p:cNvSpPr>
            <a:spLocks noGrp="1"/>
          </p:cNvSpPr>
          <p:nvPr>
            <p:ph/>
          </p:nvPr>
        </p:nvSpPr>
        <p:spPr>
          <a:xfrm>
            <a:off x="2124000" y="1412640"/>
            <a:ext cx="7020000" cy="494028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NS (</a:t>
            </a:r>
            <a:r>
              <a:rPr b="0" i="1" lang="tr-TR" sz="2400" spc="-1" strike="noStrike">
                <a:solidFill>
                  <a:srgbClr val="ffffff"/>
                </a:solidFill>
                <a:latin typeface="Arial"/>
              </a:rPr>
              <a:t>Domain Name System-Alan Adı Sistemi</a:t>
            </a:r>
            <a:r>
              <a:rPr b="0" lang="tr-TR" sz="2400" spc="-1" strike="noStrike">
                <a:solidFill>
                  <a:srgbClr val="ffffff"/>
                </a:solidFill>
                <a:latin typeface="Arial"/>
              </a:rPr>
              <a:t>)</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lan adı verilen isimler (www.gazi.edu.tr) ile IP adreslerini (194.27.16.10) birbirine bağlayan sistemdir. </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Paylaştırılmış bir veritabanı olarak çalışır. </a:t>
            </a:r>
            <a:endParaRPr b="0" lang="en-US" sz="20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TTP (</a:t>
            </a:r>
            <a:r>
              <a:rPr b="0" i="1" lang="tr-TR" sz="2400" spc="-1" strike="noStrike">
                <a:solidFill>
                  <a:srgbClr val="ffffff"/>
                </a:solidFill>
                <a:latin typeface="Arial"/>
              </a:rPr>
              <a:t>HyperText Transfer Protocol-Hiper Metin Gönderme Protokolü</a:t>
            </a:r>
            <a:r>
              <a:rPr b="0" lang="tr-TR"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TML sayfaları göndermek vb…</a:t>
            </a: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6T14:08:55Z</dcterms:created>
  <dc:creator>Şirin Karadeniz</dc:creator>
  <dc:description/>
  <dc:language>en-US</dc:language>
  <cp:lastModifiedBy>erkan</cp:lastModifiedBy>
  <dcterms:modified xsi:type="dcterms:W3CDTF">2013-04-30T09:31:30Z</dcterms:modified>
  <cp:revision>115</cp:revision>
  <dc:subject/>
  <dc:title>Slayt 1</dc:title>
</cp:coreProperties>
</file>